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C34-2ADB-47A0-9959-10E4C5D6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6FD-7F3C-4AD7-A24A-8B9ECC25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7B5-C459-4491-9771-86787092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C26-5AD9-4C78-94F6-90A19BF6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793-4DE1-481A-AE01-DDB9A16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E69-64DC-4B62-9ABE-E02D657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317-50E8-4465-AA7B-73C05FCE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575-4D07-40CF-BFDD-E7235EB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92A-46F3-495E-BE6C-08190DF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5BC-5388-4106-9AF8-FCE3CBB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6DC-82B2-4085-8A3B-03AF232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64E-1D3D-4F8A-A80D-DA69861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92D-E6B4-4BDC-9663-15AE02C3B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красота за полярным кругом ЗФ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714680" y="142920"/>
            <a:ext cx="5929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механизм обеспечения перехода к зелёной экономике и модель прогнозирования развития зелёной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291280"/>
            <a:ext cx="8643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пина Светлана Артуровна,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тор экономических наук, заведующая научно-исследовательской лабораторией ВШГУ Российской Академии народного хозяйства и государственной службы при Президенте Российской Федерации (РАНХиГС), Директор Центра стратегического управления и пространственного развития СОПС Министерства экономического развития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429000" y="658188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, 22 марта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56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еленые» 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ИО, нано, ИКТ)  индикатор: доля предприятий, осуществляющих технологические  инновации; удельный вес инновационных товаров, работ, услуг в общем объеме экспорта товаров, работ, услуг,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и его охра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дикаторы: интенсификации воспроизводства лесов: отношение площади искусственного лесовосстановления к площади выбытия лесов в результате сплошных рубок и гибели лесов (в % ); рекомендуется внести:  индикатор сертифицированных лесных угодий к общим угодьям (экологическая сертификации) (в %); доля земель лесного фонда, поставленной на кадастровый учёт, в общей площади земель лесного фонда (в % 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56760" y="28584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я вода (рациональное использование вод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индикаторы: удельные показатели выбросов загрязняющих веществ в  водные бассейны и сброса загрязненных сточных вод в водные объекты, образования отходов (в %  к базовому году); доля загрязненных сточных вод в общем объеме отводимых в водные объекты сточных вод, подлежащих очистке; объем выбросов загрязняющих веществ от стационарных источников на единицу ВВП, т/млн. рублей ВВ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ЛОЖЕНИЯ К РЕЗ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добрить Экономический механизм обеспечения перехода к зелёной экономике и модель прогнозирования развития зелё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править данные рекомендации в Министерство природных ресурсов и экологии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ложить регионам в качестве пилотного проекта апробацию данной модели и внедрение индикаторов (выборочно, исходя из специфики регио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IMG_6262.JPG"/>
          <p:cNvPicPr/>
          <p:nvPr/>
        </p:nvPicPr>
        <p:blipFill>
          <a:blip r:embed="rId1"/>
          <a:stretch/>
        </p:blipFill>
        <p:spPr>
          <a:xfrm>
            <a:off x="5715000" y="4214880"/>
            <a:ext cx="3429000" cy="2643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Ледник.JPG"/>
          <p:cNvPicPr/>
          <p:nvPr/>
        </p:nvPicPr>
        <p:blipFill>
          <a:blip r:embed="rId2"/>
          <a:stretch/>
        </p:blipFill>
        <p:spPr>
          <a:xfrm>
            <a:off x="0" y="2357280"/>
            <a:ext cx="3000240" cy="4500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QP8A4351.jpg"/>
          <p:cNvPicPr/>
          <p:nvPr/>
        </p:nvPicPr>
        <p:blipFill>
          <a:blip r:embed="rId3"/>
          <a:stretch/>
        </p:blipFill>
        <p:spPr>
          <a:xfrm>
            <a:off x="2857680" y="4143240"/>
            <a:ext cx="2893680" cy="2714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ПРОФЕССОР МОЛЧАНОВ.JPG"/>
          <p:cNvPicPr/>
          <p:nvPr/>
        </p:nvPicPr>
        <p:blipFill>
          <a:blip r:embed="rId4"/>
          <a:stretch/>
        </p:blipFill>
        <p:spPr>
          <a:xfrm>
            <a:off x="2928960" y="0"/>
            <a:ext cx="6215040" cy="4357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участники экспедиции. ФОто в движении).jpg"/>
          <p:cNvPicPr/>
          <p:nvPr/>
        </p:nvPicPr>
        <p:blipFill>
          <a:blip r:embed="rId5"/>
          <a:stretch/>
        </p:blipFill>
        <p:spPr>
          <a:xfrm>
            <a:off x="0" y="0"/>
            <a:ext cx="3500280" cy="2357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Мероприят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обходим на лодке айсберг сжатый.jpg"/>
          <p:cNvPicPr/>
          <p:nvPr/>
        </p:nvPicPr>
        <p:blipFill>
          <a:blip r:embed="rId2"/>
          <a:stretch/>
        </p:blipFill>
        <p:spPr>
          <a:xfrm>
            <a:off x="0" y="3000240"/>
            <a:ext cx="5780160" cy="3857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428840" y="10717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14" descr="ЗФИ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85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ксперты ПРООН выделяю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приоритетных секторов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реализации концепции перехода к «зеленой» экономике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(электроэнергия, тепло, нефть и газ); уменьшение вредного воздействия и переход на альтернативные виды энергетики;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- одно из приоритетных направлений для государства, которое стремится сократить потребление воды вдвое до 2020;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правительство стремится увеличить текущий уровень утилизации отходов до 70% к 2020 году год;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и лесное хозяйство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лжны наращивать производство без ухудшения плодородия почв и экологии в целом;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большинство перевозок в РФ проводится на дизеле/бензине, что требует также разработки альтернативных «зеленых» подходов для повышения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ргового потенциала стра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5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5" descr="evraziya_na_globuse.png"/>
          <p:cNvPicPr/>
          <p:nvPr/>
        </p:nvPicPr>
        <p:blipFill>
          <a:blip r:embed="rId1"/>
          <a:srcRect l="0" t="0" r="0" b="5209"/>
          <a:stretch/>
        </p:blipFill>
        <p:spPr>
          <a:xfrm>
            <a:off x="0" y="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714840" y="180648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ка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дикатор, «доля» производства электрической энергии генерирующими объектами, функционирующими на основе использования ВИЭ в совокупном объеме производства электрической энергии; и</a:t>
            </a:r>
            <a:r>
              <a:rPr b="1" lang="ru-RU" sz="1800" spc="-1" strike="noStrike">
                <a:solidFill>
                  <a:srgbClr val="2d2d2d"/>
                </a:solidFill>
                <a:latin typeface="Times New Roman"/>
                <a:ea typeface="Calibri"/>
              </a:rPr>
              <a:t>ндикатор энергетической эффективности, удельная энергоемкость валового внутреннего продукта; 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эффициент утилизации попутного нефтяного газа; ввод установленной мощности генерирующих объектов, функционирующих на основе использования энергии солнца, энергии ветра и энергии воды (без учета гидроэлектростанций установленной мощностью свыше 25 МВт)  (в мегаватт); Снижение энергоемкости ВВП за счет реализации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500040" y="168840"/>
            <a:ext cx="550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илизация отходов производ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индикаторы: показатель эффективности  ликвидации накопленного экологического ущерба (отражает отношение количества объемов  образования отходов производства и потребления по видам экономической деятельности, (в %)); доля и площадь рекультивированных и экологически реабилитированных земель, вовлеченных в хозяйственный оборот, в общей площади земель, подверженных негативному воздействию накопленного экологического ущерба; доля ликвидированных «горячих» экологических точек, оказывающих существенное негативное воздействие на население и окружающую среду в %; снижение объема образованных отходов всех классов опасности на единицу ВВП, т/млн. рублей ВВП; количество разработанных, усовершенствованных и апробированных в рамках реализации программ и мероприятий технологий по ликвидации накопленного экологического ущерба, (единиц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60020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ый» транспор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ы «озеленения» транспорта: снижение показателей энергопотребления и доля выбросов загрязняющих веществ (в %); повышение энергоэффективности на транспорте, снижение показателей энергопотребления (к уровню базового года); доля выбросов загрязняющих веществ (относительно базового года); доля транспортных средств, использующих альтернативные виды топлива (в % к базовому год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160020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ёное» строительство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каторы: доля применения экологически  чистых технологий  и экологически чистых материалов в общем объеме строительства зданий и сооружений, сертификация зданий по технологии «зеленого» строительства; доля строительных работ, выполненных в технологиях «зелёного «строительства; доля в общем количестве разрешений на строительство новых домов по «зеленым технология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экологически  чистых продуктов  питания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каторы: доля наименований продуктов питания с пометкой: «без пестицидов» или «без консервантов» (в%); доля продуктов с пометной на упаковках «биопродукт», и «экологически чистый продукт»( с разрешения местных  органов власти); коэффициент обновления основных фондов пищевой промышленности ( в %); экологическое маркирование продукции - подтверждение экологической безопас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ое земледел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дикаторы: удельный вес с\х продукции производимой по ресурсо-сберегающим технологиям, % ; удельный вес площади с внесенными органическими удобрениями во всей посевной площади, % или доля применения органических удобрений в общем объеме всех удобрений (в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01803192-photo-monde.jpg"/>
          <p:cNvPicPr/>
          <p:nvPr/>
        </p:nvPicPr>
        <p:blipFill>
          <a:blip r:embed="rId1"/>
          <a:stretch/>
        </p:blipFill>
        <p:spPr>
          <a:xfrm>
            <a:off x="6099120" y="0"/>
            <a:ext cx="3044880" cy="2257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7786800" y="657216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на С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8:36:21Z</dcterms:created>
  <dc:creator>lipina</dc:creator>
  <dc:description/>
  <dc:language>en-US</dc:language>
  <cp:lastModifiedBy>lipina</cp:lastModifiedBy>
  <dcterms:modified xsi:type="dcterms:W3CDTF">2016-03-22T07:40:02Z</dcterms:modified>
  <cp:revision>7</cp:revision>
  <dc:subject/>
  <dc:title>Слайд 1</dc:title>
</cp:coreProperties>
</file>