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3BA4-6382-4E2F-B839-83EE4A1BB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69F9-2B95-469A-90B0-9E644B01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1471-CD96-4B98-9B7B-9347B862B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0CA3-CC54-41DF-AEAA-2FF34A668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7880-0D53-44FF-9FE7-50CF90E2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081E-3A1A-45E4-A252-A9DDF885E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ACBE-B028-415C-A0BC-B26B6EE0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DBB9-2F8B-4671-B343-D3AC74C2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9FEA-103D-4504-99F4-8FAABE19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8436-921E-4D0A-B8E8-B107E69B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37D6-B5C5-499E-B614-1DF9D3C5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34DE-9403-41B5-ACAD-47C1C6EA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04DB-A44E-4170-8397-E40C5F1D92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7" descr="красота за полярным кругом ЗФ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4"/>
          <p:cNvSpPr/>
          <p:nvPr/>
        </p:nvSpPr>
        <p:spPr>
          <a:xfrm>
            <a:off x="1714680" y="142920"/>
            <a:ext cx="592920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ческий механизм обеспечения перехода к зелёной экономике и модель прогнозирования развития зелёной эконом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291280"/>
            <a:ext cx="8643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пина Светлана Артуровна,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ктор экономических наук, заведующая научно-исследовательской лабораторией ВШГУ Российской Академии народного хозяйства и государственной службы при Президенте Российской Федерации (РАНХиГС), Директор Центра стратегического управления и пространственного развития СОПС Министерства экономического развития Р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3429000" y="6581880"/>
            <a:ext cx="20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ква, 22 марта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1600200"/>
            <a:ext cx="568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еленые» технолог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ИО, нано, ИКТ)  индикатор: доля предприятий, осуществляющих технологические  инновации; удельный вес инновационных товаров, работ, услуг в общем объеме экспорта товаров, работ, услуг, 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3" descr="01803192-photo-monde.jpg"/>
          <p:cNvPicPr/>
          <p:nvPr/>
        </p:nvPicPr>
        <p:blipFill>
          <a:blip r:embed="rId1"/>
          <a:stretch/>
        </p:blipFill>
        <p:spPr>
          <a:xfrm>
            <a:off x="6099120" y="0"/>
            <a:ext cx="3044880" cy="225756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7786800" y="6572160"/>
            <a:ext cx="85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ина С.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6840" y="1600200"/>
            <a:ext cx="61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 и его охран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Индикаторы: интенсификации воспроизводства лесов: отношение площади искусственного лесовосстановления к площади выбытия лесов в результате сплошных рубок и гибели лесов (в % ); рекомендуется внести:  индикатор сертифицированных лесных угодий к общим угодьям (экологическая сертификации) (в %); доля земель лесного фонда, поставленной на кадастровый учёт, в общей площади земель лесного фонда (в % 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3" descr="01803192-photo-monde.jpg"/>
          <p:cNvPicPr/>
          <p:nvPr/>
        </p:nvPicPr>
        <p:blipFill>
          <a:blip r:embed="rId1"/>
          <a:stretch/>
        </p:blipFill>
        <p:spPr>
          <a:xfrm>
            <a:off x="6099120" y="0"/>
            <a:ext cx="3044880" cy="2257560"/>
          </a:xfrm>
          <a:prstGeom prst="rect">
            <a:avLst/>
          </a:prstGeom>
          <a:ln w="0">
            <a:noFill/>
          </a:ln>
        </p:spPr>
      </p:pic>
      <p:sp>
        <p:nvSpPr>
          <p:cNvPr id="77" name="TextBox 3"/>
          <p:cNvSpPr/>
          <p:nvPr/>
        </p:nvSpPr>
        <p:spPr>
          <a:xfrm>
            <a:off x="7786800" y="6572160"/>
            <a:ext cx="85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ина С.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56760" y="285840"/>
            <a:ext cx="5829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тая вода (рациональное использование водных ресурс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индикаторы: удельные показатели выбросов загрязняющих веществ в  водные бассейны и сброса загрязненных сточных вод в водные объекты, образования отходов (в %  к базовому году); доля загрязненных сточных вод в общем объеме отводимых в водные объекты сточных вод, подлежащих очистке; объем выбросов загрязняющих веществ от стационарных источников на единицу ВВП, т/млн. рублей ВВ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3" descr="01803192-photo-monde.jpg"/>
          <p:cNvPicPr/>
          <p:nvPr/>
        </p:nvPicPr>
        <p:blipFill>
          <a:blip r:embed="rId1"/>
          <a:stretch/>
        </p:blipFill>
        <p:spPr>
          <a:xfrm>
            <a:off x="6099120" y="0"/>
            <a:ext cx="3044880" cy="2257560"/>
          </a:xfrm>
          <a:prstGeom prst="rect">
            <a:avLst/>
          </a:prstGeom>
          <a:ln w="0">
            <a:noFill/>
          </a:ln>
        </p:spPr>
      </p:pic>
      <p:sp>
        <p:nvSpPr>
          <p:cNvPr id="80" name="TextBox 3"/>
          <p:cNvSpPr/>
          <p:nvPr/>
        </p:nvSpPr>
        <p:spPr>
          <a:xfrm>
            <a:off x="7786800" y="6572160"/>
            <a:ext cx="85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ина С.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ЕДЛОЖЕНИЯ К РЕЗОЛЮ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добрить Экономический механизм обеспечения перехода к зелёной экономике и модель прогнозирования развития зелёной эконом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править данные рекомендации в Министерство природных ресурсов и экологии Р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едложить регионам в качестве пилотного проекта апробацию данной модели и внедрение индикаторов (выборочно, исходя из специфики регион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7786800" y="6572160"/>
            <a:ext cx="85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ина С.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5" descr="IMG_6262.JPG"/>
          <p:cNvPicPr/>
          <p:nvPr/>
        </p:nvPicPr>
        <p:blipFill>
          <a:blip r:embed="rId1"/>
          <a:stretch/>
        </p:blipFill>
        <p:spPr>
          <a:xfrm>
            <a:off x="5715000" y="4214880"/>
            <a:ext cx="3429000" cy="264312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6" descr="Ледник.JPG"/>
          <p:cNvPicPr/>
          <p:nvPr/>
        </p:nvPicPr>
        <p:blipFill>
          <a:blip r:embed="rId2"/>
          <a:stretch/>
        </p:blipFill>
        <p:spPr>
          <a:xfrm>
            <a:off x="0" y="2357280"/>
            <a:ext cx="3000240" cy="450072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7" descr="QP8A4351.jpg"/>
          <p:cNvPicPr/>
          <p:nvPr/>
        </p:nvPicPr>
        <p:blipFill>
          <a:blip r:embed="rId3"/>
          <a:stretch/>
        </p:blipFill>
        <p:spPr>
          <a:xfrm>
            <a:off x="2857680" y="4143240"/>
            <a:ext cx="2893680" cy="27147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8" descr="ПРОФЕССОР МОЛЧАНОВ.JPG"/>
          <p:cNvPicPr/>
          <p:nvPr/>
        </p:nvPicPr>
        <p:blipFill>
          <a:blip r:embed="rId4"/>
          <a:stretch/>
        </p:blipFill>
        <p:spPr>
          <a:xfrm>
            <a:off x="2928960" y="0"/>
            <a:ext cx="6215040" cy="43578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9" descr="участники экспедиции. ФОто в движении).jpg"/>
          <p:cNvPicPr/>
          <p:nvPr/>
        </p:nvPicPr>
        <p:blipFill>
          <a:blip r:embed="rId5"/>
          <a:stretch/>
        </p:blipFill>
        <p:spPr>
          <a:xfrm>
            <a:off x="0" y="0"/>
            <a:ext cx="3500280" cy="2357280"/>
          </a:xfrm>
          <a:prstGeom prst="rect">
            <a:avLst/>
          </a:prstGeom>
          <a:ln w="0">
            <a:noFill/>
          </a:ln>
        </p:spPr>
      </p:pic>
      <p:sp>
        <p:nvSpPr>
          <p:cNvPr id="90" name="TextBox 7"/>
          <p:cNvSpPr/>
          <p:nvPr/>
        </p:nvSpPr>
        <p:spPr>
          <a:xfrm>
            <a:off x="7786800" y="6572160"/>
            <a:ext cx="85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ина С.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Мероприяти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Содержимое 5" descr="обходим на лодке айсберг сжатый.jpg"/>
          <p:cNvPicPr/>
          <p:nvPr/>
        </p:nvPicPr>
        <p:blipFill>
          <a:blip r:embed="rId2"/>
          <a:stretch/>
        </p:blipFill>
        <p:spPr>
          <a:xfrm>
            <a:off x="0" y="3000240"/>
            <a:ext cx="5780160" cy="385776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1428840" y="1071720"/>
            <a:ext cx="67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Содержимое 14" descr="ЗФИ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28584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Эксперты ПРООН выделяют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ь приоритетных секторов </a:t>
            </a:r>
            <a:r>
              <a:rPr b="1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ля реализации концепции перехода к «зеленой» экономике: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</a:t>
            </a:r>
            <a:r>
              <a:rPr b="1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(электроэнергия, тепло, нефть и газ); уменьшение вредного воздействия и переход на альтернативные виды энергетики;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</a:t>
            </a:r>
            <a:r>
              <a:rPr b="1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- одно из приоритетных направлений для государства, которое стремится сократить потребление воды вдвое до 2020;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ходы</a:t>
            </a:r>
            <a:r>
              <a:rPr b="1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, правительство стремится увеличить текущий уровень утилизации отходов до 70% к 2020 году год;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ьское и лесное хозяйство </a:t>
            </a:r>
            <a:r>
              <a:rPr b="1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олжны наращивать производство без ухудшения плодородия почв и экологии в целом;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орт</a:t>
            </a:r>
            <a:r>
              <a:rPr b="1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, большинство перевозок в РФ проводится на дизеле/бензине, что требует также разработки альтернативных «зеленых» подходов для повышения </a:t>
            </a:r>
            <a:r>
              <a:rPr b="1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оргового потенциала стран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7786800" y="6572160"/>
            <a:ext cx="85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ина С.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TextBox 5"/>
          <p:cNvSpPr/>
          <p:nvPr/>
        </p:nvSpPr>
        <p:spPr>
          <a:xfrm>
            <a:off x="7786800" y="6572160"/>
            <a:ext cx="85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ина С.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Содержимое 5" descr="evraziya_na_globuse.png"/>
          <p:cNvPicPr/>
          <p:nvPr/>
        </p:nvPicPr>
        <p:blipFill>
          <a:blip r:embed="rId1"/>
          <a:srcRect l="0" t="0" r="0" b="5209"/>
          <a:stretch/>
        </p:blipFill>
        <p:spPr>
          <a:xfrm>
            <a:off x="0" y="0"/>
            <a:ext cx="3714840" cy="27860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"/>
          <p:cNvSpPr/>
          <p:nvPr/>
        </p:nvSpPr>
        <p:spPr>
          <a:xfrm>
            <a:off x="3714840" y="1806480"/>
            <a:ext cx="5429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етика –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индикатор, «доля» производства электрической энергии генерирующими объектами, функционирующими на основе использования ВИЭ в совокупном объеме производства электрической энергии; и</a:t>
            </a:r>
            <a:r>
              <a:rPr b="1" lang="ru-RU" sz="1800" spc="-1" strike="noStrike">
                <a:solidFill>
                  <a:srgbClr val="2d2d2d"/>
                </a:solidFill>
                <a:latin typeface="Times New Roman"/>
                <a:ea typeface="Calibri"/>
              </a:rPr>
              <a:t>ндикатор энергетической эффективности, удельная энергоемкость валового внутреннего продукта; к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эффициент утилизации попутного нефтяного газа; ввод установленной мощности генерирующих объектов, функционирующих на основе использования энергии солнца, энергии ветра и энергии воды (без учета гидроэлектростанций установленной мощностью свыше 25 МВт)  (в мегаватт); Снижение энергоемкости ВВП за счет реализации мероприят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7786800" y="6572160"/>
            <a:ext cx="85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ина С.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Содержимое 3" descr="01803192-photo-monde.jpg"/>
          <p:cNvPicPr/>
          <p:nvPr/>
        </p:nvPicPr>
        <p:blipFill>
          <a:blip r:embed="rId1"/>
          <a:stretch/>
        </p:blipFill>
        <p:spPr>
          <a:xfrm>
            <a:off x="6099120" y="0"/>
            <a:ext cx="3044880" cy="22575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"/>
          <p:cNvSpPr/>
          <p:nvPr/>
        </p:nvSpPr>
        <p:spPr>
          <a:xfrm>
            <a:off x="500040" y="168840"/>
            <a:ext cx="5500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тилизация отходов производств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индикаторы: показатель эффективности  ликвидации накопленного экологического ущерба (отражает отношение количества объемов  образования отходов производства и потребления по видам экономической деятельности, (в %)); доля и площадь рекультивированных и экологически реабилитированных земель, вовлеченных в хозяйственный оборот, в общей площади земель, подверженных негативному воздействию накопленного экологического ущерба; доля ликвидированных «горячих» экологических точек, оказывающих существенное негативное воздействие на население и окружающую среду в %; снижение объема образованных отходов всех классов опасности на единицу ВВП, т/млн. рублей ВВП; количество разработанных, усовершенствованных и апробированных в рамках реализации программ и мероприятий технологий по ликвидации накопленного экологического ущерба, (единиц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7786800" y="6572160"/>
            <a:ext cx="85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ина С.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6840" y="1600200"/>
            <a:ext cx="5829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ный» транспорт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каторы «озеленения» транспорта: снижение показателей энергопотребления и доля выбросов загрязняющих веществ (в %); повышение энергоэффективности на транспорте, снижение показателей энергопотребления (к уровню базового года); доля выбросов загрязняющих веществ (относительно базового года); доля транспортных средств, использующих альтернативные виды топлива (в % к базовому году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3" descr="01803192-photo-monde.jpg"/>
          <p:cNvPicPr/>
          <p:nvPr/>
        </p:nvPicPr>
        <p:blipFill>
          <a:blip r:embed="rId1"/>
          <a:stretch/>
        </p:blipFill>
        <p:spPr>
          <a:xfrm>
            <a:off x="6099120" y="0"/>
            <a:ext cx="3044880" cy="2257560"/>
          </a:xfrm>
          <a:prstGeom prst="rect">
            <a:avLst/>
          </a:prstGeom>
          <a:ln w="0">
            <a:noFill/>
          </a:ln>
        </p:spPr>
      </p:pic>
      <p:sp>
        <p:nvSpPr>
          <p:cNvPr id="62" name="TextBox 3"/>
          <p:cNvSpPr/>
          <p:nvPr/>
        </p:nvSpPr>
        <p:spPr>
          <a:xfrm>
            <a:off x="7786800" y="6572160"/>
            <a:ext cx="85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ина С.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6840" y="1600200"/>
            <a:ext cx="5829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ёное» строительство 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ндикаторы: доля применения экологически  чистых технологий  и экологически чистых материалов в общем объеме строительства зданий и сооружений, сертификация зданий по технологии «зеленого» строительства; доля строительных работ, выполненных в технологиях «зелёного «строительства; доля в общем количестве разрешений на строительство новых домов по «зеленым технологиям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3" descr="01803192-photo-monde.jpg"/>
          <p:cNvPicPr/>
          <p:nvPr/>
        </p:nvPicPr>
        <p:blipFill>
          <a:blip r:embed="rId1"/>
          <a:stretch/>
        </p:blipFill>
        <p:spPr>
          <a:xfrm>
            <a:off x="6099120" y="0"/>
            <a:ext cx="3044880" cy="225756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7786800" y="6572160"/>
            <a:ext cx="85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ина С.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6840" y="1600200"/>
            <a:ext cx="61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ство экологически  чистых продуктов  питания 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ндикаторы: доля наименований продуктов питания с пометкой: «без пестицидов» или «без консервантов» (в%); доля продуктов с пометной на упаковках «биопродукт», и «экологически чистый продукт»( с разрешения местных  органов власти); коэффициент обновления основных фондов пищевой промышленности ( в %); экологическое маркирование продукции - подтверждение экологической безопас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3" descr="01803192-photo-monde.jpg"/>
          <p:cNvPicPr/>
          <p:nvPr/>
        </p:nvPicPr>
        <p:blipFill>
          <a:blip r:embed="rId1"/>
          <a:stretch/>
        </p:blipFill>
        <p:spPr>
          <a:xfrm>
            <a:off x="6099120" y="0"/>
            <a:ext cx="3044880" cy="2257560"/>
          </a:xfrm>
          <a:prstGeom prst="rect">
            <a:avLst/>
          </a:prstGeom>
          <a:ln w="0">
            <a:noFill/>
          </a:ln>
        </p:spPr>
      </p:pic>
      <p:sp>
        <p:nvSpPr>
          <p:cNvPr id="68" name="TextBox 3"/>
          <p:cNvSpPr/>
          <p:nvPr/>
        </p:nvSpPr>
        <p:spPr>
          <a:xfrm>
            <a:off x="7786800" y="6572160"/>
            <a:ext cx="85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ина С.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ческое земледел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индикаторы: удельный вес с\х продукции производимой по ресурсо-сберегающим технологиям, % ; удельный вес площади с внесенными органическими удобрениями во всей посевной площади, % или доля применения органических удобрений в общем объеме всех удобрений (в%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3" descr="01803192-photo-monde.jpg"/>
          <p:cNvPicPr/>
          <p:nvPr/>
        </p:nvPicPr>
        <p:blipFill>
          <a:blip r:embed="rId1"/>
          <a:stretch/>
        </p:blipFill>
        <p:spPr>
          <a:xfrm>
            <a:off x="6099120" y="0"/>
            <a:ext cx="3044880" cy="2257560"/>
          </a:xfrm>
          <a:prstGeom prst="rect">
            <a:avLst/>
          </a:prstGeom>
          <a:ln w="0">
            <a:noFill/>
          </a:ln>
        </p:spPr>
      </p:pic>
      <p:sp>
        <p:nvSpPr>
          <p:cNvPr id="71" name="TextBox 3"/>
          <p:cNvSpPr/>
          <p:nvPr/>
        </p:nvSpPr>
        <p:spPr>
          <a:xfrm>
            <a:off x="7786800" y="6572160"/>
            <a:ext cx="85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ина С.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1T18:36:21Z</dcterms:created>
  <dc:creator>lipina</dc:creator>
  <dc:description/>
  <dc:language>en-US</dc:language>
  <cp:lastModifiedBy>lipina</cp:lastModifiedBy>
  <dcterms:modified xsi:type="dcterms:W3CDTF">2016-03-22T07:40:02Z</dcterms:modified>
  <cp:revision>7</cp:revision>
  <dc:subject/>
  <dc:title>Слайд 1</dc:title>
</cp:coreProperties>
</file>