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64B-5630-4A9F-854E-55CE1AC1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91A-9CA5-4F54-ABF8-122047B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D46-7856-4A58-A4CB-46A346EA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A7A-9249-4C99-A48F-E7374272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FAE-616C-4689-8227-E67FBBA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DC4-CE7B-4AAE-92E0-B52B3C7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459-97B7-41E9-9B53-2C79C55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D38-58A0-4BF6-8DB0-DD83D45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C3E-B626-4E1C-81A9-E137D43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1E8-6ACF-4692-852A-8F97F2A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BCB-F977-40A3-B619-F6E6751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1B2-0F0B-4585-B8DD-B5933E0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B8C-D376-4977-90DD-C8FAD7C09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-100080" y="0"/>
            <a:ext cx="122922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17:56:29Z</dcterms:created>
  <dc:creator>Anton Yurmanov</dc:creator>
  <dc:description/>
  <dc:language>en-US</dc:language>
  <cp:lastModifiedBy>user</cp:lastModifiedBy>
  <dcterms:modified xsi:type="dcterms:W3CDTF">2016-03-17T13:49:49Z</dcterms:modified>
  <cp:revision>2</cp:revision>
  <dc:subject/>
  <dc:title>Презентация PowerPoint</dc:title>
</cp:coreProperties>
</file>