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72F-76A3-4AE7-80C7-860C5DEB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EF1-3243-49AA-8F69-4024D5A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7D3-6588-4660-B048-DB4979FF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805-313F-4334-9AAA-903D837C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330-17E5-4412-B047-94B4806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C12-7B15-4F34-9780-4FBB8F5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5C9-5E49-41E0-8374-57648E2A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C84-7A07-4282-859D-692FC4F4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457-88AA-41C9-B78A-FF9AB29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FF8-EBA7-471C-AE5F-4B8AC35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537-78B1-4475-85A2-4BE9091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D20-890B-4D22-84DD-277683A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964-7ED1-4B16-9AEC-4A9D32EAF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-100080" y="0"/>
            <a:ext cx="122922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17:56:29Z</dcterms:created>
  <dc:creator>Anton Yurmanov</dc:creator>
  <dc:description/>
  <dc:language>en-US</dc:language>
  <cp:lastModifiedBy>user</cp:lastModifiedBy>
  <dcterms:modified xsi:type="dcterms:W3CDTF">2016-03-17T13:49:49Z</dcterms:modified>
  <cp:revision>2</cp:revision>
  <dc:subject/>
  <dc:title>Презентация PowerPoint</dc:title>
</cp:coreProperties>
</file>