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564D-79C9-40BF-9AF7-751217DCDF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MS PGothic"/>
              </a:rPr>
              <a:t>Основной закон по обращению с отходами был принят в 1998 г. (и постоянно улучшался, изменения особенно в 2005, 2008, 2011 г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MS PGothic"/>
              </a:rPr>
              <a:t>С 2010 г. был определен ряд задач, направленных на развитие законодательства в сфере обращения с отход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MS PGothic"/>
              </a:rPr>
              <a:t>Разработать механизм, стимулирующий производителей отходов снижать негативное воздействие на окр. среду, а также внедрять лучшие доступны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MS PGothic"/>
              </a:rPr>
              <a:t>В методологию оценки эффективности региональной власти введен параметр экологической 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MS PGothic"/>
              </a:rPr>
              <a:t>Задача для регионов разработать внутренние программы по комплексному управлению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MS PGothic"/>
              </a:rPr>
              <a:t>Введена ответственность производителя за утилизацию транспортных сред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1083-CF8D-459E-903F-3E535A38681E}" type="slidenum"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5424-14CF-4EDD-A81C-BC0CFFCAB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BDC6-78BC-473C-9432-4AA257B6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5B84-5203-4B6C-901A-152AB5AE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0AD8-6B11-4F41-B01D-7136EBE67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BF1A-88A4-4BFB-A0AC-999125D1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07BE-BD7E-4D1C-824C-C7223C67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C2B0-490F-440D-96FB-845616E2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E9B9-6A62-48F7-AFE3-45AE04F7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10F7-7957-4B39-8B79-2B36F68C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2739-3F1A-4F20-BF51-1D960D47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D754-5718-4D5A-96F0-0DD06849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D76C-33E4-446A-8B1D-F244F7AF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C35D-21F8-4A45-B34A-1549D59C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44A3-4F5E-4DA3-9599-41BEFA08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8701-E0BB-4D76-8C4C-9B8D6A35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62AA-0969-4511-86ED-192584A39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FF51-1697-4313-B9B5-C36F823E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4EC834-4B19-4E7E-B753-7A965A36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8143D8-100F-4106-B77B-DA0FAE94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27E2BA-AE41-4678-87C9-AFD8E970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5F4CDE-38DA-4514-840F-C1426CFB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C09203-05FA-40D9-906A-90146D37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C01C-49E9-4B72-93CE-CE1C9287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B4C6D7-5AB2-4AB0-930E-0912BA46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88230B-0FDE-4F83-8C0A-081A3C28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799E1D-D506-48C0-B641-E676B61F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DB3B45-866B-482C-B6E2-1866FFEC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EA16A2-CD36-42A7-B536-E9915595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5EC9FB-5FF5-49E5-A0C8-09EF4007F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19175B-10F0-4C5D-8A8B-477332F4D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6B8F7-E1F8-4D77-9AF7-C898DB23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6D0A4-25DB-4A23-B543-43EAA208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AAC0E-8CAA-4FBC-A2FE-D3B8C5F1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DEB9-0127-4642-82F8-5C1AA307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AEB37-0E9B-4665-B16A-65816A0C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4C24E-27AA-47CA-8CEC-EF19AE3A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6D503-E0D9-4935-9A1C-8B8B2C96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D01BD-20E3-4400-8EB3-B3E2717E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42AEF-3ADB-4888-8964-0CF77806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58B08-339F-40B5-A8C1-C5126DB2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F90D6-455E-48C9-A48E-E8188F0A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3D572-8C0C-4777-8202-01A112B7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D6967-D5D1-4BFA-B2C0-B124A5F6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ADDA1-2B55-4DEF-A269-B2C0FA7A7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6D0A-2A77-472E-BDE4-BFE4AEF0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739FD-7E8A-4048-93AE-B04FD174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A6196-C606-4B47-86EF-DBE3415D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B74DA-AECC-472F-A67B-393AE738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46927-79B0-404D-81FB-DEE306E7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0F825-FC12-4BD6-8F16-04782A2E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3D653-F93A-4FB2-921F-0DD7FB1D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6AFE7-FD30-4925-8511-2573A117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6B6B0-18A6-4A4E-A6D7-BABD22C1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9EBCE-CE17-4CB6-BE57-DDC65E09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E55EC-AA2B-48BC-ADDE-406A90A2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9779-A1A1-4F3A-8BE9-66B73522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00ED5-9E7F-44A4-9377-F9130DB50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C27D-03F8-4DC1-AFAA-B7AAA6DE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BDAB-E0AA-4784-AD72-F49B9CB8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FE83-B4A8-41F0-906B-AF4D6EC0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8781840" y="612720"/>
            <a:ext cx="127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7009920" y="612720"/>
            <a:ext cx="176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10899720" y="1080"/>
            <a:ext cx="1015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B827-A1B2-42B8-AA89-4D3997E0321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7213680" y="3809880"/>
            <a:ext cx="497844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7213680" y="3896640"/>
            <a:ext cx="497844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7213680" y="4114800"/>
            <a:ext cx="497844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7213680" y="4163400"/>
            <a:ext cx="26208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7213680" y="4199040"/>
            <a:ext cx="26208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7213680" y="3962520"/>
            <a:ext cx="40845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9834480" y="406080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1219212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1219212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8551800" y="3643200"/>
            <a:ext cx="364032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1219212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8940960" y="420696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7213680" y="4205160"/>
            <a:ext cx="172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11093040" y="1080"/>
            <a:ext cx="996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95E9-AC3E-4DE8-87E1-AB66E7ABD1D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8781840" y="612720"/>
            <a:ext cx="127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10899720" y="1080"/>
            <a:ext cx="1015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5BBF-2251-49E3-BB6F-8DC2E5A32A7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7009920" y="612720"/>
            <a:ext cx="176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8778600" y="612720"/>
            <a:ext cx="127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7009920" y="612720"/>
            <a:ext cx="176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10899720" y="1080"/>
            <a:ext cx="1015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CA62-E2D1-4AE7-9FE8-DD0FC68BC70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7CD9-4502-4EB2-9BC8-2F4AC0D6732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5120" y="4245120"/>
            <a:ext cx="1156680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ереработка ОЭЭО в Российской Федерации. Общая ситуация, перспективы развития.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76" name="Рисунок 4" descr="АПЭТ лого 1.png"/>
          <p:cNvPicPr/>
          <p:nvPr/>
        </p:nvPicPr>
        <p:blipFill>
          <a:blip r:embed="rId2"/>
          <a:stretch/>
        </p:blipFill>
        <p:spPr>
          <a:xfrm>
            <a:off x="501480" y="382680"/>
            <a:ext cx="3337200" cy="2104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77" name="Заголовок 1"/>
          <p:cNvSpPr/>
          <p:nvPr/>
        </p:nvSpPr>
        <p:spPr>
          <a:xfrm>
            <a:off x="3656160" y="6116760"/>
            <a:ext cx="83102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  <a:ea typeface="Arial"/>
              </a:rPr>
              <a:t>Владимир Комиссаров, Директор Ассоциации переработчиков электронной и электробытовой техники  (АПЭ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9263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Общая ситуация с переработкой ОЭЭО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 в РФ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63480" y="2297160"/>
            <a:ext cx="10972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Bookman Old Style"/>
                <a:ea typeface="Calibri"/>
              </a:rPr>
              <a:t>Существуют сложности с переработкой ряда опасных веществ.</a:t>
            </a:r>
            <a:endParaRPr b="0" lang="en-US" sz="2400" spc="-1" strike="noStrike">
              <a:solidFill>
                <a:srgbClr val="0f6fc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Российской Федерации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Georgia"/>
              </a:rPr>
              <a:t>отсутствуют мощности по переработке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винецсодержащего стекла от ЭЛТ, литий-ионных аккумуляторов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Крайне ограничено число предприятий, сжигающих фреоны, используемые в климатическом оборудовании, из-за чего стоимость сжигания высока и сильно увеличивает затраты на экологически безопасную переработку этого оборудования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тсутствуют рентабельные технологии по утилизации пластиков, содержащих антипирены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8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250640" y="376200"/>
            <a:ext cx="167796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Заголовок 1"/>
          <p:cNvSpPr/>
          <p:nvPr/>
        </p:nvSpPr>
        <p:spPr>
          <a:xfrm>
            <a:off x="1235160" y="614520"/>
            <a:ext cx="9521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04617b"/>
                </a:solidFill>
                <a:uFillTx/>
                <a:latin typeface="Trebuchet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250640" y="376200"/>
            <a:ext cx="1677960" cy="10414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60440" y="506520"/>
            <a:ext cx="87854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Общая ситуация с переработкой ОЭЭО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 в РФ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72" name="Прямоугольник 1"/>
          <p:cNvSpPr/>
          <p:nvPr/>
        </p:nvSpPr>
        <p:spPr>
          <a:xfrm>
            <a:off x="414360" y="1962000"/>
            <a:ext cx="11484000" cy="36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indent="-228600" algn="ctr">
              <a:lnSpc>
                <a:spcPct val="115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Bookman Old Style"/>
                <a:ea typeface="Calibri"/>
              </a:rPr>
              <a:t>Введение в РФ расширенной ответственности производителя является главной возможностью для создания в стране современной системы управления ОЭЭ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15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Введение Федеральным законом № 458 РОП создает возможности для привлечения средств прежде всего на создание системы сбора ОЭЭО. Эти средства могут поступать либо из экологического сбора, уплачиваемого производителями/импортерами, либо от коллективных систем реализации ответственности производителя. Особую роль в создании системы сбора должны и могут сыграть региональные вла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Заголовок 1"/>
          <p:cNvSpPr/>
          <p:nvPr/>
        </p:nvSpPr>
        <p:spPr>
          <a:xfrm>
            <a:off x="1235160" y="614520"/>
            <a:ext cx="9521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04617b"/>
                </a:solidFill>
                <a:uFillTx/>
                <a:latin typeface="Trebuchet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250640" y="376200"/>
            <a:ext cx="1677960" cy="104148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60440" y="506520"/>
            <a:ext cx="87854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Общая ситуация с переработкой ОЭЭО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 в РФ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76" name="Прямоугольник 5"/>
          <p:cNvSpPr/>
          <p:nvPr/>
        </p:nvSpPr>
        <p:spPr>
          <a:xfrm>
            <a:off x="0" y="1824120"/>
            <a:ext cx="11853720" cy="46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Bookman Old Style"/>
                <a:ea typeface="Calibri"/>
              </a:rPr>
              <a:t>Лицензирование сбора, транспортировки и переработки отходо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В соответствии с Федеральным Законом № 458, принятым 29 декабря 2014 года вводится лицензирование сбора, транспортировки и переработки отходов. Пока нормативные документы, касающиеся лицензирования не приняты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Bookman Old Style"/>
                <a:ea typeface="Calibri"/>
              </a:rPr>
              <a:t>Для обеспечения экологически безопасной переработки отходов необходимо, чтобы в нормативных требованиях к лизензиатам-переработчикам обязательно было указано наличие собственных мощностей для переработ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83880" y="844200"/>
            <a:ext cx="917892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rebuchet MS"/>
              </a:rPr>
              <a:t>Предложения АПЭТ по созданию системы управления ОЭЭО в РФ</a:t>
            </a:r>
            <a:endParaRPr b="0" lang="en-US" sz="32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69720" y="1828440"/>
            <a:ext cx="1148256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работать и принять Федеральный закон, или технический регламент Таможенного Союза, посвященный регулированию обращения с ОЭЭ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нести в Федеральный закон № 89 поправки, обязывающие потребителей сдавать использованные товары, на которые распространяется ответственность производителя, только лицензированным сборщикам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работать меры по стимулированию использования в производстве вторичных материалов, извлеченных из отходов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9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145880" y="728640"/>
            <a:ext cx="167796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948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rebuchet MS"/>
              </a:rPr>
              <a:t>Предложения АПЭТ по созданию системы управления ОЭЭО в РФ</a:t>
            </a:r>
            <a:endParaRPr b="0" lang="en-US" sz="32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работать и ввести меры по стимулированию переработчиков ОЭЭ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силить роль и ответственность региональных и местных властей за организацию сбора ОЭЭ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вести в РФ требования к розничным торговым точкам, торговую площадь не менее 500 кв.м., безвозмездно принимать у населения товары, на которые распространяется ответственность производителя, если магазин продает эти товары (как это сделано во многих европейских странах, Беларуси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82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180800" y="781200"/>
            <a:ext cx="1677960" cy="104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948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rebuchet MS"/>
              </a:rPr>
              <a:t>Предложения АПЭТ по созданию системы управления ОЭЭО в РФ</a:t>
            </a:r>
            <a:endParaRPr b="0" lang="en-US" sz="32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92040" y="2215800"/>
            <a:ext cx="109728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работать и внедрить отраслевые стандарты или внутренние правила для предприятий по сбору, транспортированию и переработки ОЭЭО. Первоначально отработать и применять эти стандарты в рамках СРО с перспективой распространения на всю отрасл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силить разъяснительную работу с населением, проводить мероприятия на региональном, муниципальном уровне, направленные на осознание населением необходимости экологического грамотного сбора и безопасной переработки ОЭЭО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85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180800" y="781200"/>
            <a:ext cx="1677960" cy="104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948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rebuchet MS"/>
              </a:rPr>
              <a:t>Предложения АПЭТ по созданию системы управления ОЭЭО в РФ</a:t>
            </a:r>
            <a:endParaRPr b="0" lang="en-US" sz="32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92040" y="2937960"/>
            <a:ext cx="10972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вести исследования на уровне РФ с целью выявления оптимальных методов сбора ОЭЭО у населения, методов стимулирования населения на раздельный сбор отход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88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180800" y="781200"/>
            <a:ext cx="1677960" cy="104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95240" y="115380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rebuchet MS"/>
              </a:rPr>
              <a:t>Предложение 1</a:t>
            </a:r>
            <a:br>
              <a:rPr sz="2000"/>
            </a:b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Принятие специального закона по ОЭЭО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Georgia"/>
              </a:rPr>
              <a:t>Закон должен содержать следующие разделы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Требования к предприятиям, занимающимся сбором и переработкой ОЭЭО (использование НДТ, экологическая безопасность, размещение).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- Контрольные целевые показатели по объему сбора и переработки ОЭЭО в целом по стране и, возможно, по отдельным  регионам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- Контрольные целевые показатели по уровню переработки ОЭЭО (доля извлекаемых вторичных материалов, направляемых на дальнейшее использование)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- Перечень опасных веществ, которые должны обязательно извлекаться из ОЭЭО.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91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250640" y="657360"/>
            <a:ext cx="1677960" cy="104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22360" y="1176480"/>
            <a:ext cx="10972800" cy="108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rebuchet MS"/>
              </a:rPr>
              <a:t>Предложение 2</a:t>
            </a:r>
            <a:br>
              <a:rPr sz="2000"/>
            </a:b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Введение обязанности потребителей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сдавать ОЭЭО лицензированным сборщикам  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20640" y="266400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действующем законодательстве отсутствуют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Georgia"/>
              </a:rPr>
              <a:t>обязанности населения, касающиеся надлежащего обращения с отходами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бязанность может подкрепляться штрафными санкциями, например, увеличение стоимости вывоза ТКО при нарушении этого положени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мимо обязанностей должны быть предусмотрены стимулы, например снижение платы за вывоз ТКО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дновременно местные власти, системы коллективной ответственности производителей, сборщики должны создавать условия для удобной сдачи ОЭЭО населением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94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044000" y="668160"/>
            <a:ext cx="167796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739440"/>
            <a:ext cx="9612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rebuchet MS"/>
              </a:rPr>
              <a:t>Предложение 3</a:t>
            </a:r>
            <a:br>
              <a:rPr sz="3600"/>
            </a:br>
            <a:r>
              <a:rPr b="0" lang="ru-RU" sz="3200" spc="-1" strike="noStrike">
                <a:solidFill>
                  <a:srgbClr val="04617b"/>
                </a:solidFill>
                <a:latin typeface="Trebuchet MS"/>
              </a:rPr>
              <a:t>Меры по стимулированию использования в производстве вторичных материалов, извлеченных из ОЭЭО</a:t>
            </a:r>
            <a:endParaRPr b="0" lang="en-US" sz="32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11200" y="3080880"/>
            <a:ext cx="109728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Металлы (драгоценные, черные, цветные) являются ликвидным товаром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Требуется стимулирование прежде всего применения пластмас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Georgia"/>
              </a:rPr>
              <a:t>Меры по стимулированию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могут включать налоговые льготы для предприятий, использующих в своей продукции фиксированный процент вторичных материалов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Федеральные и региональные власти могут обеспечить госзаказ на изготовление продукции для государственных/региональных/муниципальных нужд из вторичного сырья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97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044000" y="668160"/>
            <a:ext cx="167796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"/>
          <p:cNvGraphicFramePr/>
          <p:nvPr/>
        </p:nvGraphicFramePr>
        <p:xfrm>
          <a:off x="387360" y="1616040"/>
          <a:ext cx="11571120" cy="4689360"/>
        </p:xfrm>
        <a:graphic>
          <a:graphicData uri="http://schemas.openxmlformats.org/drawingml/2006/table">
            <a:tbl>
              <a:tblPr/>
              <a:tblGrid>
                <a:gridCol w="3308400"/>
                <a:gridCol w="3876480"/>
                <a:gridCol w="4386240"/>
              </a:tblGrid>
              <a:tr h="651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Реги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Образование ОЭЭО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(тыс.тонн в год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Количество перерабатывающих компаний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оссийская Федер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оск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6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осков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анкт-Петербург и Ленинградская обла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5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раснодарский кр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вердловская обла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остов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279" name="Заголовок 1"/>
          <p:cNvSpPr/>
          <p:nvPr/>
        </p:nvSpPr>
        <p:spPr>
          <a:xfrm>
            <a:off x="1619280" y="758880"/>
            <a:ext cx="8664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4617b"/>
                </a:solidFill>
                <a:latin typeface="Trebuchet MS"/>
              </a:rPr>
              <a:t> </a:t>
            </a:r>
            <a:r>
              <a:rPr b="0" lang="ru-RU" sz="3400" spc="-1" strike="noStrike">
                <a:solidFill>
                  <a:srgbClr val="04617b"/>
                </a:solidFill>
                <a:latin typeface="Trebuchet MS"/>
              </a:rPr>
              <a:t>Образование ОЭЭО в Росс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772640" y="544680"/>
            <a:ext cx="1204920" cy="747720"/>
          </a:xfrm>
          <a:prstGeom prst="rect">
            <a:avLst/>
          </a:prstGeom>
          <a:ln w="0">
            <a:noFill/>
          </a:ln>
        </p:spPr>
      </p:pic>
      <p:sp>
        <p:nvSpPr>
          <p:cNvPr id="281" name="Прямоугольник 1"/>
          <p:cNvSpPr/>
          <p:nvPr/>
        </p:nvSpPr>
        <p:spPr>
          <a:xfrm>
            <a:off x="2362320" y="6488280"/>
            <a:ext cx="68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Arial"/>
              </a:rPr>
              <a:t>(экспертные оценки</a:t>
            </a:r>
            <a:r>
              <a:rPr b="0" lang="en-US" sz="1800" spc="-1" strike="noStrike">
                <a:solidFill>
                  <a:srgbClr val="04617b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4617b"/>
                </a:solidFill>
                <a:latin typeface="Arial"/>
              </a:rPr>
              <a:t>2014</a:t>
            </a:r>
            <a:r>
              <a:rPr b="0" lang="en-US" sz="1800" spc="-1" strike="noStrike">
                <a:solidFill>
                  <a:srgbClr val="04617b"/>
                </a:solidFill>
                <a:latin typeface="Arial"/>
              </a:rPr>
              <a:t>, StEP</a:t>
            </a:r>
            <a:r>
              <a:rPr b="0" lang="ru-RU" sz="1800" spc="-1" strike="noStrike">
                <a:solidFill>
                  <a:srgbClr val="04617b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4617b"/>
                </a:solidFill>
                <a:latin typeface="Arial"/>
              </a:rPr>
              <a:t>;</a:t>
            </a:r>
            <a:r>
              <a:rPr b="0" lang="ru-RU" sz="1800" spc="-1" strike="noStrike">
                <a:solidFill>
                  <a:srgbClr val="04617b"/>
                </a:solidFill>
                <a:latin typeface="Arial"/>
              </a:rPr>
              <a:t>  АПЭ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739440"/>
            <a:ext cx="9612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rebuchet MS"/>
              </a:rPr>
              <a:t>Предложение 4</a:t>
            </a:r>
            <a:br>
              <a:rPr sz="3600"/>
            </a:br>
            <a:r>
              <a:rPr b="0" lang="ru-RU" sz="3200" spc="-1" strike="noStrike">
                <a:solidFill>
                  <a:srgbClr val="04617b"/>
                </a:solidFill>
                <a:latin typeface="Trebuchet MS"/>
              </a:rPr>
              <a:t>Меры по стимулированию отрасли по переработке ОЭЭО  </a:t>
            </a:r>
            <a:endParaRPr b="0" lang="en-US" sz="32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511200" y="3081240"/>
            <a:ext cx="1097280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связи с относительно невысокой рентабельностью, необходимостью переработки опасных веществ, содержащихся в ОЭЭО целесообразно ввести меры стимулирования, направленные на использование при переработке НДТ.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Georgia"/>
              </a:rPr>
              <a:t>Меры по стимулированию предприятий-переработчиков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могут включать налоговые и таможенные льготы для предприятий, использующих для переработки НДТ или закупающих оборудование, на основе НДТ, предоставление льготных кредитов для приобретения такого оборудования.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00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044000" y="668160"/>
            <a:ext cx="167796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39440"/>
            <a:ext cx="9612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rebuchet MS"/>
              </a:rPr>
              <a:t>Предложение 7</a:t>
            </a:r>
            <a:br>
              <a:rPr sz="3600"/>
            </a:br>
            <a:r>
              <a:rPr b="0" lang="ru-RU" sz="3200" spc="-1" strike="noStrike">
                <a:solidFill>
                  <a:srgbClr val="04617b"/>
                </a:solidFill>
                <a:latin typeface="Trebuchet MS"/>
              </a:rPr>
              <a:t>Разработка отраслевых стандартов  </a:t>
            </a:r>
            <a:endParaRPr b="0" lang="en-US" sz="32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58920" y="1958760"/>
            <a:ext cx="10972800" cy="44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трасль переработки ОЭЭО имеет дело с большим количеством опасных веществ, в технике используются драгоценные металлы. В связи с этим имеются особые требования к процессу сбора, транспортирования и переработки отходов данного вида.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ЕС разработаны подобные отраслевые стандарты, детально описывающие требования к процессам, оборудованию, квалификационному уровню персонала, мерам безопасности при обращении с отдельными видами ОЭЭО (ртутьсодержащие лампы, климатическое оборудование, литий-ионные и никель-кадмиевые источники тока и др.), выходящие за рамки законодательных норм.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добные документы позволят производителям оценивать уровень экологичности того или иного предприятия-переработчика, учитывать это при выбора партнеров для переработки своего оборудования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03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044000" y="668160"/>
            <a:ext cx="167796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Заголовок 1"/>
          <p:cNvSpPr/>
          <p:nvPr/>
        </p:nvSpPr>
        <p:spPr>
          <a:xfrm>
            <a:off x="1235160" y="614520"/>
            <a:ext cx="9521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04617b"/>
                </a:solidFill>
                <a:uFillTx/>
                <a:latin typeface="Trebuchet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250640" y="376200"/>
            <a:ext cx="1677960" cy="104148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360440" y="506520"/>
            <a:ext cx="87854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04617b"/>
                </a:solidFill>
                <a:latin typeface="Trebuchet MS"/>
              </a:rPr>
              <a:t>Возможное участие общественности в системе управления ОЭЭО в РФ</a:t>
            </a:r>
            <a:endParaRPr b="0" lang="en-US" sz="32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07" name="Прямоугольник 5"/>
          <p:cNvSpPr/>
          <p:nvPr/>
        </p:nvSpPr>
        <p:spPr>
          <a:xfrm>
            <a:off x="2057400" y="1824120"/>
            <a:ext cx="77295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Bookman Old Style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1"/>
          <p:cNvSpPr/>
          <p:nvPr/>
        </p:nvSpPr>
        <p:spPr>
          <a:xfrm>
            <a:off x="719280" y="1682640"/>
            <a:ext cx="10775880" cy="54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Bookman Old Style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Calibri"/>
              </a:rPr>
              <a:t>Главное – содействие организации раздельного сбора отходов, в том числе отдельного сбора ОЭЭО. Необходима планомерная разъяснительная работа с населением. Представители общественности должны принимать в ней участ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Calibri"/>
              </a:rPr>
              <a:t>Важно участие общественности в контроле за работой управляющих компаний и ТСЖ по сбору ОЭЭ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Calibri"/>
              </a:rPr>
              <a:t>Целесообразно принимать участие в общественных обсуждения проектов нормативных актов, касающихся обращения с отход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Calibri"/>
              </a:rPr>
              <a:t>Со своей стороны переработчики готовы оказывать методическую и практическую помощь в организации этой рабо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Заголовок 1"/>
          <p:cNvSpPr/>
          <p:nvPr/>
        </p:nvSpPr>
        <p:spPr>
          <a:xfrm>
            <a:off x="1235160" y="614520"/>
            <a:ext cx="9521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04617b"/>
                </a:solidFill>
                <a:uFillTx/>
                <a:latin typeface="Trebuchet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250640" y="376200"/>
            <a:ext cx="1677960" cy="104148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60440" y="506520"/>
            <a:ext cx="87854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Некоторые предложения, которые </a:t>
            </a:r>
            <a:r>
              <a:rPr b="0" lang="ru-RU" sz="3200" spc="-1" strike="noStrike">
                <a:solidFill>
                  <a:srgbClr val="04617b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12" name="Прямоугольник 5"/>
          <p:cNvSpPr/>
          <p:nvPr/>
        </p:nvSpPr>
        <p:spPr>
          <a:xfrm>
            <a:off x="2057400" y="1824120"/>
            <a:ext cx="77295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Bookman Old Style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оугольник 1"/>
          <p:cNvSpPr/>
          <p:nvPr/>
        </p:nvSpPr>
        <p:spPr>
          <a:xfrm>
            <a:off x="719280" y="1682640"/>
            <a:ext cx="10775880" cy="54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Bookman Old Style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Calibri"/>
              </a:rPr>
              <a:t>Главное – содействие организации раздельного сбора отходов, в том числе отдельного сбора ОЭЭО. Необходима планомерная разъяснительная работа с населением. Представители общественности должны принимать в ней участ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Calibri"/>
              </a:rPr>
              <a:t>Важно участие общественности в контроле за работой управляющих компаний и ТСЖ по сбору ОЭЭ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Calibri"/>
              </a:rPr>
              <a:t>Целесообразно принимать участие в общественных обсуждения проектов нормативных актов, касающихся обращения с отход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Calibri"/>
              </a:rPr>
              <a:t>Со своей стороны переработчики готовы оказывать методическую и практическую помощь в организации этой рабо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Заголовок 1"/>
          <p:cNvSpPr/>
          <p:nvPr/>
        </p:nvSpPr>
        <p:spPr>
          <a:xfrm>
            <a:off x="1235160" y="614520"/>
            <a:ext cx="9521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04617b"/>
                </a:solidFill>
                <a:uFillTx/>
                <a:latin typeface="Trebuchet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Объект 2"/>
          <p:cNvSpPr/>
          <p:nvPr/>
        </p:nvSpPr>
        <p:spPr>
          <a:xfrm>
            <a:off x="3006720" y="3025800"/>
            <a:ext cx="70833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9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250640" y="376200"/>
            <a:ext cx="1677960" cy="1041480"/>
          </a:xfrm>
          <a:prstGeom prst="rect">
            <a:avLst/>
          </a:prstGeom>
          <a:ln w="0">
            <a:noFill/>
          </a:ln>
        </p:spPr>
      </p:pic>
      <p:sp>
        <p:nvSpPr>
          <p:cNvPr id="417" name="Объект 2"/>
          <p:cNvSpPr/>
          <p:nvPr/>
        </p:nvSpPr>
        <p:spPr>
          <a:xfrm>
            <a:off x="1120680" y="1828800"/>
            <a:ext cx="1038564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944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  <a:ea typeface="Arial"/>
              </a:rPr>
              <a:t>Мы в начале пути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rebuchet MS"/>
                <a:ea typeface="Arial"/>
              </a:rPr>
              <a:t>,</a:t>
            </a:r>
            <a:r>
              <a:rPr b="0" lang="ru-RU" sz="4000" spc="-1" strike="noStrike">
                <a:solidFill>
                  <a:srgbClr val="000000"/>
                </a:solidFill>
                <a:latin typeface="Trebuchet MS"/>
                <a:ea typeface="Arial"/>
              </a:rPr>
              <a:t> и от того, насколько хорошо и продуманно мы организуем свою работу, будет зависеть ее успех а, в конечном счете экологическая ситуация в стране и, значит, здоровье нас и наших близки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Заголовок 1"/>
          <p:cNvSpPr/>
          <p:nvPr/>
        </p:nvSpPr>
        <p:spPr>
          <a:xfrm>
            <a:off x="1235160" y="614520"/>
            <a:ext cx="9521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04617b"/>
                </a:solidFill>
                <a:uFillTx/>
                <a:latin typeface="Trebuchet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Объект 2"/>
          <p:cNvSpPr/>
          <p:nvPr/>
        </p:nvSpPr>
        <p:spPr>
          <a:xfrm>
            <a:off x="3071880" y="2144880"/>
            <a:ext cx="70833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9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  <a:ea typeface="Arial"/>
              </a:rPr>
              <a:t>Спасибо за внимание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Объект 2"/>
          <p:cNvSpPr/>
          <p:nvPr/>
        </p:nvSpPr>
        <p:spPr>
          <a:xfrm>
            <a:off x="512640" y="3733920"/>
            <a:ext cx="5283360" cy="27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  <a:ea typeface="Arial"/>
              </a:rPr>
              <a:t>Владимир Комиссаров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Arial"/>
              </a:rPr>
              <a:t>Директор АПЭТ, национальный эксперт ЮНИДО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Arial"/>
              </a:rPr>
              <a:t>Т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el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Arial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+7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(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Arial"/>
              </a:rPr>
              <a:t>916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Arial"/>
              </a:rPr>
              <a:t> 197 95 04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E-mail: weeerecyclers@gmail.co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URL: weeerecyclers.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250640" y="376200"/>
            <a:ext cx="167796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Прямоугольник 10"/>
          <p:cNvGrpSpPr/>
          <p:nvPr/>
        </p:nvGrpSpPr>
        <p:grpSpPr>
          <a:xfrm>
            <a:off x="1895400" y="1352520"/>
            <a:ext cx="4060800" cy="585720"/>
            <a:chOff x="1895400" y="1352520"/>
            <a:chExt cx="4060800" cy="585720"/>
          </a:xfrm>
        </p:grpSpPr>
        <p:pic>
          <p:nvPicPr>
            <p:cNvPr id="283" name="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1895400" y="1352520"/>
              <a:ext cx="406080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962000" y="1397160"/>
              <a:ext cx="3929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роизводство ЭЭ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Прямоугольник 12"/>
          <p:cNvGrpSpPr/>
          <p:nvPr/>
        </p:nvGrpSpPr>
        <p:grpSpPr>
          <a:xfrm>
            <a:off x="1895400" y="2139840"/>
            <a:ext cx="1798560" cy="1011240"/>
            <a:chOff x="1895400" y="2139840"/>
            <a:chExt cx="1798560" cy="1011240"/>
          </a:xfrm>
        </p:grpSpPr>
        <p:pic>
          <p:nvPicPr>
            <p:cNvPr id="286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1895400" y="2139840"/>
              <a:ext cx="17985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962000" y="2182680"/>
              <a:ext cx="1662120" cy="87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Импор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9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Прямоугольник 13"/>
          <p:cNvGrpSpPr/>
          <p:nvPr/>
        </p:nvGrpSpPr>
        <p:grpSpPr>
          <a:xfrm>
            <a:off x="4175280" y="2139840"/>
            <a:ext cx="1780920" cy="1011240"/>
            <a:chOff x="4175280" y="2139840"/>
            <a:chExt cx="1780920" cy="1011240"/>
          </a:xfrm>
        </p:grpSpPr>
        <p:pic>
          <p:nvPicPr>
            <p:cNvPr id="289" name="Прямоугольник 13" descr=""/>
            <p:cNvPicPr/>
            <p:nvPr/>
          </p:nvPicPr>
          <p:blipFill>
            <a:blip r:embed="rId3"/>
            <a:stretch/>
          </p:blipFill>
          <p:spPr>
            <a:xfrm>
              <a:off x="4175280" y="2139840"/>
              <a:ext cx="178092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4243320" y="2182680"/>
              <a:ext cx="164772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роизводство внутри стра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Прямоугольник 14"/>
          <p:cNvGrpSpPr/>
          <p:nvPr/>
        </p:nvGrpSpPr>
        <p:grpSpPr>
          <a:xfrm>
            <a:off x="6145200" y="2114640"/>
            <a:ext cx="2200320" cy="1122120"/>
            <a:chOff x="6145200" y="2114640"/>
            <a:chExt cx="2200320" cy="1122120"/>
          </a:xfrm>
        </p:grpSpPr>
        <p:pic>
          <p:nvPicPr>
            <p:cNvPr id="292" name="Прямоугольник 14" descr=""/>
            <p:cNvPicPr/>
            <p:nvPr/>
          </p:nvPicPr>
          <p:blipFill>
            <a:blip r:embed="rId4"/>
            <a:stretch/>
          </p:blipFill>
          <p:spPr>
            <a:xfrm>
              <a:off x="6145200" y="2114640"/>
              <a:ext cx="220032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6210360" y="2158920"/>
              <a:ext cx="2071800" cy="8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осударственные и общественные организации, коммерческие структуры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Прямоугольник 16"/>
          <p:cNvGrpSpPr/>
          <p:nvPr/>
        </p:nvGrpSpPr>
        <p:grpSpPr>
          <a:xfrm>
            <a:off x="8369280" y="2109960"/>
            <a:ext cx="1987560" cy="1017360"/>
            <a:chOff x="8369280" y="2109960"/>
            <a:chExt cx="1987560" cy="1017360"/>
          </a:xfrm>
        </p:grpSpPr>
        <p:pic>
          <p:nvPicPr>
            <p:cNvPr id="295" name="Прямоугольник 16" descr=""/>
            <p:cNvPicPr/>
            <p:nvPr/>
          </p:nvPicPr>
          <p:blipFill>
            <a:blip r:embed="rId5"/>
            <a:stretch/>
          </p:blipFill>
          <p:spPr>
            <a:xfrm>
              <a:off x="8369280" y="2109960"/>
              <a:ext cx="198756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8435880" y="2149560"/>
              <a:ext cx="1857600" cy="8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астные домохозяйства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Прямоугольник 22"/>
          <p:cNvGrpSpPr/>
          <p:nvPr/>
        </p:nvGrpSpPr>
        <p:grpSpPr>
          <a:xfrm>
            <a:off x="3322800" y="4834080"/>
            <a:ext cx="1852560" cy="1779480"/>
            <a:chOff x="3322800" y="4834080"/>
            <a:chExt cx="1852560" cy="1779480"/>
          </a:xfrm>
        </p:grpSpPr>
        <p:pic>
          <p:nvPicPr>
            <p:cNvPr id="298" name="Прямоугольник 22" descr=""/>
            <p:cNvPicPr/>
            <p:nvPr/>
          </p:nvPicPr>
          <p:blipFill>
            <a:blip r:embed="rId6"/>
            <a:stretch/>
          </p:blipFill>
          <p:spPr>
            <a:xfrm>
              <a:off x="3322800" y="4834080"/>
              <a:ext cx="1852560" cy="17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3390840" y="4916520"/>
              <a:ext cx="171468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рагоценные металлы, черные и цветные металлы, стекло, пластики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ругое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Прямоугольник 23"/>
          <p:cNvGrpSpPr/>
          <p:nvPr/>
        </p:nvGrpSpPr>
        <p:grpSpPr>
          <a:xfrm>
            <a:off x="6924600" y="4913280"/>
            <a:ext cx="1920960" cy="1706760"/>
            <a:chOff x="6924600" y="4913280"/>
            <a:chExt cx="1920960" cy="1706760"/>
          </a:xfrm>
        </p:grpSpPr>
        <p:pic>
          <p:nvPicPr>
            <p:cNvPr id="301" name="Прямоугольник 23" descr=""/>
            <p:cNvPicPr/>
            <p:nvPr/>
          </p:nvPicPr>
          <p:blipFill>
            <a:blip r:embed="rId7"/>
            <a:stretch/>
          </p:blipFill>
          <p:spPr>
            <a:xfrm>
              <a:off x="6924600" y="4913280"/>
              <a:ext cx="192096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6991200" y="4956120"/>
              <a:ext cx="178596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вердые коммунальные отх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3" name="Прямая со стрелкой 28"/>
          <p:cNvCxnSpPr/>
          <p:nvPr/>
        </p:nvCxnSpPr>
        <p:spPr>
          <a:xfrm flipH="1">
            <a:off x="5176080" y="1821960"/>
            <a:ext cx="2520" cy="3675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lg" type="triangle" w="lg"/>
          </a:ln>
        </p:spPr>
      </p:cxnSp>
      <p:cxnSp>
        <p:nvCxnSpPr>
          <p:cNvPr id="304" name="Прямая со стрелкой 29"/>
          <p:cNvCxnSpPr/>
          <p:nvPr/>
        </p:nvCxnSpPr>
        <p:spPr>
          <a:xfrm flipH="1">
            <a:off x="2676240" y="1817280"/>
            <a:ext cx="2160" cy="3675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lg" type="triangle" w="lg"/>
          </a:ln>
        </p:spPr>
      </p:cxnSp>
      <p:cxnSp>
        <p:nvCxnSpPr>
          <p:cNvPr id="305" name="Прямая со стрелкой 30"/>
          <p:cNvCxnSpPr/>
          <p:nvPr/>
        </p:nvCxnSpPr>
        <p:spPr>
          <a:xfrm>
            <a:off x="7229520" y="1787400"/>
            <a:ext cx="7200" cy="372240"/>
          </a:xfrm>
          <a:prstGeom prst="straightConnector1">
            <a:avLst/>
          </a:prstGeom>
          <a:ln w="25560">
            <a:solidFill>
              <a:srgbClr val="ff6600"/>
            </a:solidFill>
            <a:miter/>
            <a:tailEnd len="lg" type="triangle" w="lg"/>
          </a:ln>
        </p:spPr>
      </p:cxnSp>
      <p:cxnSp>
        <p:nvCxnSpPr>
          <p:cNvPr id="306" name="Прямая со стрелкой 31"/>
          <p:cNvCxnSpPr/>
          <p:nvPr/>
        </p:nvCxnSpPr>
        <p:spPr>
          <a:xfrm flipH="1">
            <a:off x="9319320" y="1715760"/>
            <a:ext cx="1080" cy="478440"/>
          </a:xfrm>
          <a:prstGeom prst="straightConnector1">
            <a:avLst/>
          </a:prstGeom>
          <a:ln w="25560">
            <a:solidFill>
              <a:srgbClr val="ff6600"/>
            </a:solidFill>
            <a:miter/>
            <a:tailEnd len="lg" type="triangle" w="lg"/>
          </a:ln>
        </p:spPr>
      </p:cxnSp>
      <p:grpSp>
        <p:nvGrpSpPr>
          <p:cNvPr id="307" name="Прямоугольник 11"/>
          <p:cNvGrpSpPr/>
          <p:nvPr/>
        </p:nvGrpSpPr>
        <p:grpSpPr>
          <a:xfrm>
            <a:off x="6108840" y="1352520"/>
            <a:ext cx="4205160" cy="561960"/>
            <a:chOff x="6108840" y="1352520"/>
            <a:chExt cx="4205160" cy="561960"/>
          </a:xfrm>
        </p:grpSpPr>
        <p:pic>
          <p:nvPicPr>
            <p:cNvPr id="308" name="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6108840" y="1352520"/>
              <a:ext cx="4205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6176880" y="1397160"/>
              <a:ext cx="407196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требление ЭЭ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10" name="Прямая со стрелкой 36"/>
          <p:cNvCxnSpPr/>
          <p:nvPr/>
        </p:nvCxnSpPr>
        <p:spPr>
          <a:xfrm flipH="1">
            <a:off x="4242600" y="4574880"/>
            <a:ext cx="1080" cy="337320"/>
          </a:xfrm>
          <a:prstGeom prst="straightConnector1">
            <a:avLst/>
          </a:prstGeom>
          <a:ln w="25560">
            <a:solidFill>
              <a:srgbClr val="0037a4"/>
            </a:solidFill>
            <a:miter/>
            <a:tailEnd len="lg" type="triangle" w="lg"/>
          </a:ln>
        </p:spPr>
      </p:cxnSp>
      <p:cxnSp>
        <p:nvCxnSpPr>
          <p:cNvPr id="311" name="Прямая со стрелкой 38"/>
          <p:cNvCxnSpPr/>
          <p:nvPr/>
        </p:nvCxnSpPr>
        <p:spPr>
          <a:xfrm flipH="1">
            <a:off x="7784280" y="4579560"/>
            <a:ext cx="1080" cy="337320"/>
          </a:xfrm>
          <a:prstGeom prst="straightConnector1">
            <a:avLst/>
          </a:prstGeom>
          <a:ln w="25560">
            <a:solidFill>
              <a:srgbClr val="0037a4"/>
            </a:solidFill>
            <a:miter/>
            <a:tailEnd len="lg" type="triangle" w="lg"/>
          </a:ln>
        </p:spPr>
      </p:cxnSp>
      <p:grpSp>
        <p:nvGrpSpPr>
          <p:cNvPr id="312" name="Прямоугольник 21"/>
          <p:cNvGrpSpPr/>
          <p:nvPr/>
        </p:nvGrpSpPr>
        <p:grpSpPr>
          <a:xfrm>
            <a:off x="2975040" y="3803760"/>
            <a:ext cx="5992920" cy="933480"/>
            <a:chOff x="2975040" y="3803760"/>
            <a:chExt cx="5992920" cy="933480"/>
          </a:xfrm>
        </p:grpSpPr>
        <p:pic>
          <p:nvPicPr>
            <p:cNvPr id="313" name="Прямоугольник 21" descr=""/>
            <p:cNvPicPr/>
            <p:nvPr/>
          </p:nvPicPr>
          <p:blipFill>
            <a:blip r:embed="rId9"/>
            <a:stretch/>
          </p:blipFill>
          <p:spPr>
            <a:xfrm>
              <a:off x="2975040" y="3803760"/>
              <a:ext cx="599292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3043080" y="3894120"/>
              <a:ext cx="5857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еработка и утилизация отходов электронного и электротехнического оборудования (ОЭЭО) (официальная и неофициальная)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TextBox 19"/>
          <p:cNvSpPr/>
          <p:nvPr/>
        </p:nvSpPr>
        <p:spPr>
          <a:xfrm>
            <a:off x="3417480" y="2127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Рисунок 25" descr="АПЭТ лого 1.png"/>
          <p:cNvPicPr/>
          <p:nvPr/>
        </p:nvPicPr>
        <p:blipFill>
          <a:blip r:embed="rId10"/>
          <a:stretch/>
        </p:blipFill>
        <p:spPr>
          <a:xfrm>
            <a:off x="10665000" y="325440"/>
            <a:ext cx="1204560" cy="747720"/>
          </a:xfrm>
          <a:prstGeom prst="rect">
            <a:avLst/>
          </a:prstGeom>
          <a:ln w="0">
            <a:noFill/>
          </a:ln>
        </p:spPr>
      </p:pic>
      <p:sp>
        <p:nvSpPr>
          <p:cNvPr id="317" name="Заголовок 1"/>
          <p:cNvSpPr/>
          <p:nvPr/>
        </p:nvSpPr>
        <p:spPr>
          <a:xfrm>
            <a:off x="1386000" y="434880"/>
            <a:ext cx="9096120" cy="7272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требление и утилизация электронного и электротехнического оборудования 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5"/>
          <p:cNvSpPr/>
          <p:nvPr/>
        </p:nvSpPr>
        <p:spPr>
          <a:xfrm>
            <a:off x="153720" y="5091120"/>
            <a:ext cx="2335680" cy="580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ич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ьные ресур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Стрелка вправо 26"/>
          <p:cNvSpPr/>
          <p:nvPr/>
        </p:nvSpPr>
        <p:spPr>
          <a:xfrm rot="10800000">
            <a:off x="2349000" y="5765400"/>
            <a:ext cx="979560" cy="484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7"/>
          <p:cNvSpPr/>
          <p:nvPr/>
        </p:nvSpPr>
        <p:spPr>
          <a:xfrm>
            <a:off x="10045800" y="5470560"/>
            <a:ext cx="1966680" cy="368280"/>
          </a:xfrm>
          <a:prstGeom prst="rect">
            <a:avLst/>
          </a:prstGeom>
          <a:noFill/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ОРО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Стрелка вправо 32"/>
          <p:cNvSpPr/>
          <p:nvPr/>
        </p:nvSpPr>
        <p:spPr>
          <a:xfrm>
            <a:off x="8939160" y="5423040"/>
            <a:ext cx="978120" cy="48564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33"/>
          <p:cNvSpPr/>
          <p:nvPr/>
        </p:nvSpPr>
        <p:spPr>
          <a:xfrm>
            <a:off x="8884800" y="6113520"/>
            <a:ext cx="1950120" cy="428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ЗАРЕГИСТРИРОВАННЫ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ПОЛИГОН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34"/>
          <p:cNvSpPr/>
          <p:nvPr/>
        </p:nvSpPr>
        <p:spPr>
          <a:xfrm>
            <a:off x="10968480" y="6488280"/>
            <a:ext cx="1069200" cy="261360"/>
          </a:xfrm>
          <a:prstGeom prst="rect">
            <a:avLst/>
          </a:prstGeom>
          <a:solidFill>
            <a:srgbClr val="10c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ЕЗАКОНН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Прямая со стрелкой 37"/>
          <p:cNvCxnSpPr>
            <a:stCxn id="320" idx="2"/>
          </p:cNvCxnSpPr>
          <p:nvPr/>
        </p:nvCxnSpPr>
        <p:spPr>
          <a:xfrm>
            <a:off x="11029680" y="5839920"/>
            <a:ext cx="416520" cy="561240"/>
          </a:xfrm>
          <a:prstGeom prst="straightConnector1">
            <a:avLst/>
          </a:prstGeom>
          <a:ln w="5724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25" name="Прямая со стрелкой 44"/>
          <p:cNvCxnSpPr/>
          <p:nvPr/>
        </p:nvCxnSpPr>
        <p:spPr>
          <a:xfrm flipH="1">
            <a:off x="10448280" y="5916240"/>
            <a:ext cx="51480" cy="214920"/>
          </a:xfrm>
          <a:prstGeom prst="straightConnector1">
            <a:avLst/>
          </a:prstGeom>
          <a:ln w="5724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326" name="TextBox 33"/>
          <p:cNvSpPr/>
          <p:nvPr/>
        </p:nvSpPr>
        <p:spPr>
          <a:xfrm>
            <a:off x="650880" y="6508800"/>
            <a:ext cx="225576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Оценки Росприроднадзор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"/>
          <p:cNvGraphicFramePr/>
          <p:nvPr/>
        </p:nvGraphicFramePr>
        <p:xfrm>
          <a:off x="1197000" y="544680"/>
          <a:ext cx="9369360" cy="6613200"/>
        </p:xfrm>
        <a:graphic>
          <a:graphicData uri="http://schemas.openxmlformats.org/drawingml/2006/table">
            <a:tbl>
              <a:tblPr/>
              <a:tblGrid>
                <a:gridCol w="9369360"/>
              </a:tblGrid>
              <a:tr h="97452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7dda"/>
                        </a:gs>
                        <a:gs pos="100000">
                          <a:srgbClr val="dee5f8"/>
                        </a:gs>
                      </a:gsLst>
                      <a:lin ang="2700000"/>
                    </a:gradFill>
                  </a:tcPr>
                </a:tc>
              </a:tr>
              <a:tr h="3521160"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4617b"/>
                          </a:solidFill>
                          <a:latin typeface="Arial"/>
                          <a:ea typeface="Times New Roman"/>
                        </a:rPr>
                        <a:t>НЕТ СПЕЦИАЛЬНОГО ЗАКОНОДАТЕЛЬСТВА ПО ОЭЭ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Iskoola Pota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ecdf8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17520"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Iskoola Pota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f7f7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28" name="TextBox 12"/>
          <p:cNvSpPr/>
          <p:nvPr/>
        </p:nvSpPr>
        <p:spPr>
          <a:xfrm>
            <a:off x="2558880" y="739800"/>
            <a:ext cx="6901200" cy="620640"/>
          </a:xfrm>
          <a:prstGeom prst="rect">
            <a:avLst/>
          </a:prstGeom>
          <a:solidFill>
            <a:srgbClr val="8a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376d"/>
                </a:solidFill>
                <a:latin typeface="PT Sans"/>
                <a:ea typeface="ヒラギノ角ゴ ProN W3"/>
              </a:rPr>
              <a:t>   </a:t>
            </a:r>
            <a:r>
              <a:rPr b="0" lang="ru-RU" sz="2000" spc="-1" strike="noStrike">
                <a:solidFill>
                  <a:srgbClr val="0e376d"/>
                </a:solidFill>
                <a:latin typeface="PT Sans"/>
                <a:ea typeface="ヒラギノ角ゴ ProN W3"/>
              </a:rPr>
              <a:t>Российское законодательство по управлению отходами (основные докумен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1984320" y="5291280"/>
            <a:ext cx="34639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t">
            <a:noAutofit/>
          </a:bodyPr>
          <a:p>
            <a:pPr marL="254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1</a:t>
            </a:r>
            <a:r>
              <a:rPr b="1" lang="ru-RU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 августа</a:t>
            </a:r>
            <a:r>
              <a:rPr b="1" lang="en-US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 201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4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Начало работы </a:t>
            </a:r>
            <a:r>
              <a:rPr b="1" lang="ru-RU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Государственного реестра объектов размещения отходов</a:t>
            </a:r>
            <a:r>
              <a:rPr b="0" lang="ru-RU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5641920" y="5384880"/>
            <a:ext cx="43880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t">
            <a:noAutofit/>
          </a:bodyPr>
          <a:p>
            <a:pPr marL="254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e376d"/>
                </a:solidFill>
                <a:latin typeface="PT Sans"/>
                <a:ea typeface="ヒラギノ角ゴ ProN W3"/>
              </a:rPr>
              <a:t>Запрет на размещение отходов на полигонах, которые не имеют разрешения от  Росприроднадзор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"/>
          <p:cNvSpPr/>
          <p:nvPr/>
        </p:nvSpPr>
        <p:spPr>
          <a:xfrm>
            <a:off x="1843200" y="2249640"/>
            <a:ext cx="373212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t">
            <a:noAutofit/>
          </a:bodyPr>
          <a:p>
            <a:pPr marL="254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24</a:t>
            </a:r>
            <a:r>
              <a:rPr b="1" lang="ru-RU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 июня</a:t>
            </a:r>
            <a:r>
              <a:rPr b="1" lang="en-US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 199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4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Федеральный закон № 89-ФЗ</a:t>
            </a:r>
            <a:r>
              <a:rPr b="0" lang="en-US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 </a:t>
            </a:r>
            <a:r>
              <a:rPr b="0" lang="ru-RU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«Об отходах производства и потребления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4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4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29 декабря </a:t>
            </a:r>
            <a:r>
              <a:rPr b="1" lang="en-US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2014 </a:t>
            </a:r>
            <a:r>
              <a:rPr b="1" lang="ru-RU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внесение поправок в ФЗ </a:t>
            </a:r>
            <a:r>
              <a:rPr b="0" lang="ru-RU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№</a:t>
            </a:r>
            <a:r>
              <a:rPr b="0" lang="en-US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89 FZ (</a:t>
            </a:r>
            <a:r>
              <a:rPr b="0" lang="ru-RU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Федеральный закон </a:t>
            </a:r>
            <a:r>
              <a:rPr b="0" lang="en-US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 </a:t>
            </a:r>
            <a:r>
              <a:rPr b="0" lang="ru-RU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№</a:t>
            </a:r>
            <a:r>
              <a:rPr b="0" lang="en-US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458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4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5575320" y="1941480"/>
            <a:ext cx="46656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34200" bIns="34200" anchor="t">
            <a:normAutofit fontScale="89000"/>
          </a:bodyPr>
          <a:p>
            <a:pPr marL="22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e376d"/>
                </a:solidFill>
                <a:latin typeface="PT Sans"/>
                <a:ea typeface="ヒラギノ角ゴ ProN W3"/>
              </a:rPr>
              <a:t>Один из базовых законов по охране окружающей среды</a:t>
            </a:r>
            <a:r>
              <a:rPr b="0" lang="en-US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, </a:t>
            </a:r>
            <a:r>
              <a:rPr b="0" lang="ru-RU" sz="1500" spc="-1" strike="noStrike">
                <a:solidFill>
                  <a:srgbClr val="80786e"/>
                </a:solidFill>
                <a:latin typeface="PT Sans"/>
                <a:ea typeface="ヒラギノ角ゴ ProN W3"/>
              </a:rPr>
              <a:t>устанавливает основные подходы и определения в управлении отходами в РФ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6080">
              <a:lnSpc>
                <a:spcPct val="100000"/>
              </a:lnSpc>
              <a:buClr>
                <a:srgbClr val="0e376d"/>
              </a:buClr>
              <a:buSzPct val="171000"/>
              <a:buFont typeface="PT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e376d"/>
                </a:solidFill>
                <a:uFillTx/>
                <a:latin typeface="PT Sans"/>
                <a:ea typeface="ヒラギノ角ゴ ProN W3"/>
              </a:rPr>
              <a:t>Запрет на захоронение отходов, которые могут быть переработаны</a:t>
            </a:r>
            <a:r>
              <a:rPr b="0" lang="en-US" sz="1500" spc="-1" strike="noStrike">
                <a:solidFill>
                  <a:srgbClr val="0e376d"/>
                </a:solidFill>
                <a:latin typeface="PT Sans"/>
                <a:ea typeface="ヒラギノ角ゴ ProN W3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6080">
              <a:lnSpc>
                <a:spcPct val="100000"/>
              </a:lnSpc>
              <a:buClr>
                <a:srgbClr val="0e376d"/>
              </a:buClr>
              <a:buSzPct val="171000"/>
              <a:buFont typeface="PT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e376d"/>
                </a:solidFill>
                <a:uFillTx/>
                <a:latin typeface="PT Sans"/>
                <a:ea typeface="ヒラギノ角ゴ ProN W3"/>
              </a:rPr>
              <a:t>Введение РОП</a:t>
            </a:r>
            <a:r>
              <a:rPr b="1" lang="en-US" sz="1600" spc="-1" strike="noStrike" u="sng">
                <a:solidFill>
                  <a:srgbClr val="0e376d"/>
                </a:solidFill>
                <a:uFillTx/>
                <a:latin typeface="PT Sans"/>
                <a:ea typeface="ヒラギノ角ゴ ProN W3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>
              <a:lnSpc>
                <a:spcPct val="100000"/>
              </a:lnSpc>
              <a:buClr>
                <a:srgbClr val="0e376d"/>
              </a:buClr>
              <a:buSzPct val="171000"/>
              <a:buFont typeface="PT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e376d"/>
                </a:solidFill>
                <a:latin typeface="PT Sans"/>
                <a:ea typeface="ヒラギノ角ゴ ProN W3"/>
              </a:rPr>
              <a:t>Создание региональных операторов по управлению отходами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6080">
              <a:lnSpc>
                <a:spcPct val="100000"/>
              </a:lnSpc>
              <a:buClr>
                <a:srgbClr val="0e376d"/>
              </a:buClr>
              <a:buSzPct val="171000"/>
              <a:buFont typeface="PT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e376d"/>
                </a:solidFill>
                <a:uFillTx/>
                <a:latin typeface="PT Sans"/>
                <a:ea typeface="ヒラギノ角ゴ ProN W3"/>
              </a:rPr>
              <a:t>Возврат к лицензированию управления отход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2"/>
          <p:cNvSpPr/>
          <p:nvPr/>
        </p:nvSpPr>
        <p:spPr>
          <a:xfrm>
            <a:off x="3643200" y="4738680"/>
            <a:ext cx="54723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376d"/>
                </a:solidFill>
                <a:latin typeface="PT Sans"/>
                <a:ea typeface="ヒラギノ角ゴ ProN W3"/>
              </a:rPr>
              <a:t>Другие последние инициативы госуда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772640" y="544680"/>
            <a:ext cx="1204920" cy="74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838080" y="1528920"/>
          <a:ext cx="10639440" cy="5178240"/>
        </p:xfrm>
        <a:graphic>
          <a:graphicData uri="http://schemas.openxmlformats.org/drawingml/2006/table">
            <a:tbl>
              <a:tblPr/>
              <a:tblGrid>
                <a:gridCol w="3087720"/>
                <a:gridCol w="1656000"/>
                <a:gridCol w="1701720"/>
                <a:gridCol w="1382760"/>
                <a:gridCol w="1454040"/>
                <a:gridCol w="1357200"/>
              </a:tblGrid>
              <a:tr h="10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тегории оборудования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рн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аллы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ветные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аллы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екл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стик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о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упные прибор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лые прибор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оборудо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стационарное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оборудование (портативное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евизоры, радиоприемники и т.д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" name="Заголовок 1"/>
          <p:cNvSpPr/>
          <p:nvPr/>
        </p:nvSpPr>
        <p:spPr>
          <a:xfrm>
            <a:off x="1371600" y="615960"/>
            <a:ext cx="9489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Доля разных веществ в составе ОЭЭ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772640" y="544680"/>
            <a:ext cx="120492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Заголовок 1"/>
          <p:cNvSpPr/>
          <p:nvPr/>
        </p:nvSpPr>
        <p:spPr>
          <a:xfrm>
            <a:off x="1371600" y="615960"/>
            <a:ext cx="9489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Содержание некоторых вредных веществ  в составе ОЭЭ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Рисунок 54" descr="unido logo.bmp"/>
          <p:cNvPicPr/>
          <p:nvPr/>
        </p:nvPicPr>
        <p:blipFill>
          <a:blip r:embed="rId1"/>
          <a:stretch/>
        </p:blipFill>
        <p:spPr>
          <a:xfrm>
            <a:off x="318960" y="457200"/>
            <a:ext cx="1073160" cy="96192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7" descr="АПЭТ лого 1.png"/>
          <p:cNvPicPr/>
          <p:nvPr/>
        </p:nvPicPr>
        <p:blipFill>
          <a:blip r:embed="rId2"/>
          <a:stretch/>
        </p:blipFill>
        <p:spPr>
          <a:xfrm>
            <a:off x="10772640" y="544680"/>
            <a:ext cx="1204920" cy="74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1" name=""/>
          <p:cNvGraphicFramePr/>
          <p:nvPr/>
        </p:nvGraphicFramePr>
        <p:xfrm>
          <a:off x="490680" y="1687680"/>
          <a:ext cx="11548800" cy="5045040"/>
        </p:xfrm>
        <a:graphic>
          <a:graphicData uri="http://schemas.openxmlformats.org/drawingml/2006/table">
            <a:tbl>
              <a:tblPr/>
              <a:tblGrid>
                <a:gridCol w="3849480"/>
                <a:gridCol w="3508560"/>
                <a:gridCol w="4190760"/>
              </a:tblGrid>
              <a:tr h="549000"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Наименование вещест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Где содержатс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оследствия для окружающей среды и здоровья ц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23320"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вещества, ведущие к уменьшению озонового слоя (фреоны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холодильниках, системах кондиционирования, увлажнителях и д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меньшение озонового слоя Зем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49000"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олихлорированные бифени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конденсаторах многих устрой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анцерог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217160"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тяжелые металлы (барий, стронций, свинец, кадмий рту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которые стеклянные части электронной техники, источники тока, осветительные приборы, химические источники т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капливаются в организме и приводят к серьезным нарушениям в деятельности различных органов организма челове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87080"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бромированные антипире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печатных платах или коннекторах и кабел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оздействуют на нервную систему, вызывают р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217160"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оливинилхлор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золяция проводов и каб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пособствует возникновению различных заболеваний, в том числе рака; при сжигании образуются диоксины, особо токсичные в любых доз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30440"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ли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литиевых, литий-ионных и литий-полимерных аккумулятор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жароопасен в виде чистого мет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3640" y="1482840"/>
            <a:ext cx="109728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Основные участники процесса управления ОЭЭО  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43" name="TextBox 24"/>
          <p:cNvSpPr/>
          <p:nvPr/>
        </p:nvSpPr>
        <p:spPr>
          <a:xfrm>
            <a:off x="2992320" y="2558880"/>
            <a:ext cx="1509840" cy="580680"/>
          </a:xfrm>
          <a:prstGeom prst="rect">
            <a:avLst/>
          </a:prstGeom>
          <a:solidFill>
            <a:srgbClr val="4fc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Частные домохозя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24"/>
          <p:cNvSpPr/>
          <p:nvPr/>
        </p:nvSpPr>
        <p:spPr>
          <a:xfrm>
            <a:off x="5248440" y="2558880"/>
            <a:ext cx="1955520" cy="824040"/>
          </a:xfrm>
          <a:prstGeom prst="rect">
            <a:avLst/>
          </a:prstGeom>
          <a:solidFill>
            <a:srgbClr val="4fc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Государственные структуры и 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24"/>
          <p:cNvSpPr/>
          <p:nvPr/>
        </p:nvSpPr>
        <p:spPr>
          <a:xfrm>
            <a:off x="7880400" y="2558880"/>
            <a:ext cx="1704960" cy="580680"/>
          </a:xfrm>
          <a:prstGeom prst="rect">
            <a:avLst/>
          </a:prstGeom>
          <a:solidFill>
            <a:srgbClr val="4fc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Корпоративный секто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24"/>
          <p:cNvSpPr/>
          <p:nvPr/>
        </p:nvSpPr>
        <p:spPr>
          <a:xfrm>
            <a:off x="533520" y="2558880"/>
            <a:ext cx="1509480" cy="580680"/>
          </a:xfrm>
          <a:prstGeom prst="rect">
            <a:avLst/>
          </a:pr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ПОТРЕБИТЕЛИЭЭ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772640" y="592200"/>
            <a:ext cx="1204920" cy="747720"/>
          </a:xfrm>
          <a:prstGeom prst="rect">
            <a:avLst/>
          </a:prstGeom>
          <a:ln w="0">
            <a:noFill/>
          </a:ln>
        </p:spPr>
      </p:pic>
      <p:sp>
        <p:nvSpPr>
          <p:cNvPr id="348" name="TextBox 24"/>
          <p:cNvSpPr/>
          <p:nvPr/>
        </p:nvSpPr>
        <p:spPr>
          <a:xfrm>
            <a:off x="480960" y="3782880"/>
            <a:ext cx="1509840" cy="580680"/>
          </a:xfrm>
          <a:prstGeom prst="rect">
            <a:avLst/>
          </a:pr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НАКОПЛЕНИЕ ОЭЭ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24"/>
          <p:cNvSpPr/>
          <p:nvPr/>
        </p:nvSpPr>
        <p:spPr>
          <a:xfrm>
            <a:off x="2357280" y="3894120"/>
            <a:ext cx="1509840" cy="337320"/>
          </a:xfrm>
          <a:prstGeom prst="rect">
            <a:avLst/>
          </a:prstGeom>
          <a:solidFill>
            <a:srgbClr val="0c9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Полигоны Т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24"/>
          <p:cNvSpPr/>
          <p:nvPr/>
        </p:nvSpPr>
        <p:spPr>
          <a:xfrm>
            <a:off x="4122720" y="3894120"/>
            <a:ext cx="1509840" cy="337320"/>
          </a:xfrm>
          <a:prstGeom prst="rect">
            <a:avLst/>
          </a:prstGeom>
          <a:solidFill>
            <a:srgbClr val="0c9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Торговые се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24"/>
          <p:cNvSpPr/>
          <p:nvPr/>
        </p:nvSpPr>
        <p:spPr>
          <a:xfrm>
            <a:off x="5919840" y="3782880"/>
            <a:ext cx="1509840" cy="580680"/>
          </a:xfrm>
          <a:prstGeom prst="rect">
            <a:avLst/>
          </a:prstGeom>
          <a:solidFill>
            <a:srgbClr val="0c9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Интеграторы (сборщик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24"/>
          <p:cNvSpPr/>
          <p:nvPr/>
        </p:nvSpPr>
        <p:spPr>
          <a:xfrm>
            <a:off x="7883640" y="3578400"/>
            <a:ext cx="2463840" cy="1067400"/>
          </a:xfrm>
          <a:prstGeom prst="rect">
            <a:avLst/>
          </a:prstGeom>
          <a:solidFill>
            <a:srgbClr val="0c9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Площадки, организованные муниципальными органами в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24"/>
          <p:cNvSpPr/>
          <p:nvPr/>
        </p:nvSpPr>
        <p:spPr>
          <a:xfrm>
            <a:off x="523800" y="5276880"/>
            <a:ext cx="1509840" cy="580680"/>
          </a:xfrm>
          <a:prstGeom prst="rect">
            <a:avLst/>
          </a:pr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Переработка ОЭЭ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4"/>
          <p:cNvSpPr/>
          <p:nvPr/>
        </p:nvSpPr>
        <p:spPr>
          <a:xfrm>
            <a:off x="2238480" y="5008680"/>
            <a:ext cx="2948040" cy="1310760"/>
          </a:xfrm>
          <a:prstGeom prst="rect">
            <a:avLst/>
          </a:prstGeom>
          <a:solidFill>
            <a:srgbClr val="55a8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Пункты сортир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(предварительная обработка – выделение работоспособной или пригодной для ремонта техник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4"/>
          <p:cNvSpPr/>
          <p:nvPr/>
        </p:nvSpPr>
        <p:spPr>
          <a:xfrm>
            <a:off x="5442120" y="5149800"/>
            <a:ext cx="2646360" cy="1067400"/>
          </a:xfrm>
          <a:prstGeom prst="rect">
            <a:avLst/>
          </a:prstGeom>
          <a:solidFill>
            <a:srgbClr val="55a8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Первичная переработ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(разделение ЭЭО на части для последующей глубокой переработки)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24"/>
          <p:cNvSpPr/>
          <p:nvPr/>
        </p:nvSpPr>
        <p:spPr>
          <a:xfrm>
            <a:off x="8601120" y="5045040"/>
            <a:ext cx="2340000" cy="1310760"/>
          </a:xfrm>
          <a:prstGeom prst="rect">
            <a:avLst/>
          </a:prstGeom>
          <a:solidFill>
            <a:srgbClr val="55a8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Narrow"/>
              </a:rPr>
              <a:t>Глубокая переработка (получение конечного вторичного сырья, пригодного для использования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Заголовок 1"/>
          <p:cNvSpPr/>
          <p:nvPr/>
        </p:nvSpPr>
        <p:spPr>
          <a:xfrm>
            <a:off x="1235160" y="614520"/>
            <a:ext cx="9521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04617b"/>
                </a:solidFill>
                <a:uFillTx/>
                <a:latin typeface="Trebuchet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250640" y="376200"/>
            <a:ext cx="1677960" cy="104148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60440" y="506520"/>
            <a:ext cx="87854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Общая ситуация с переработкой ОЭЭО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 в РФ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0" name="Прямоугольник 5"/>
          <p:cNvSpPr/>
          <p:nvPr/>
        </p:nvSpPr>
        <p:spPr>
          <a:xfrm>
            <a:off x="620640" y="1824120"/>
            <a:ext cx="111902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Bookman Old Style"/>
                <a:ea typeface="Calibri"/>
              </a:rPr>
              <a:t>В Российской Федерации отсутствует система управления ОЭЭ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Calibri"/>
              </a:rPr>
              <a:t>Нет специализированной законодательной и нормативной базы по ОЭЭО в целом, отдельные законодательные нормативные акты касаются отдельных категорий ОЭЭО (ртутьсодержащие отходы) или содержащихся в них веществ (озоноразрушающие вещества, драгоценные металлы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Calibri"/>
              </a:rPr>
              <a:t>Первый нормативный документ будет принят до конца этого года – технический регламент Таможенного Союза по использованию вредных веществ в электронной техн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Заголовок 1"/>
          <p:cNvSpPr/>
          <p:nvPr/>
        </p:nvSpPr>
        <p:spPr>
          <a:xfrm>
            <a:off x="1235160" y="614520"/>
            <a:ext cx="9521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04617b"/>
                </a:solidFill>
                <a:uFillTx/>
                <a:latin typeface="Trebuchet MS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Рисунок 7" descr="АПЭТ лого 1.png"/>
          <p:cNvPicPr/>
          <p:nvPr/>
        </p:nvPicPr>
        <p:blipFill>
          <a:blip r:embed="rId1"/>
          <a:stretch/>
        </p:blipFill>
        <p:spPr>
          <a:xfrm>
            <a:off x="10250640" y="376200"/>
            <a:ext cx="1677960" cy="104148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60440" y="506520"/>
            <a:ext cx="87854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Общая ситуация с переработкой ОЭЭО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 в РФ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4" name="Прямоугольник 5"/>
          <p:cNvSpPr/>
          <p:nvPr/>
        </p:nvSpPr>
        <p:spPr>
          <a:xfrm>
            <a:off x="2057400" y="1824120"/>
            <a:ext cx="77295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Bookman Old Style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1"/>
          <p:cNvSpPr/>
          <p:nvPr/>
        </p:nvSpPr>
        <p:spPr>
          <a:xfrm>
            <a:off x="719280" y="1682640"/>
            <a:ext cx="10775880" cy="46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Bookman Old Style"/>
                <a:ea typeface="Calibri"/>
              </a:rPr>
              <a:t>Главной проблемой является отсутствие системы сбора ОЭЭО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man Old Style"/>
                <a:ea typeface="Calibri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Bookman Old Style"/>
                <a:ea typeface="Calibri"/>
              </a:rPr>
              <a:t>у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Calibri"/>
              </a:rPr>
              <a:t>Система сбора ТКО не ориентирована на отдельный сбор ОЭЭО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Calibri"/>
              </a:rPr>
              <a:t>ОЭЭО от населения поступают по официальным каналам главным образом в рамках кампаний по обмену старой техники на новую, проводимых крупными сетевыми ритейлерами, от сервисных центров по обслуживанию ЭЭО. Бытовая техника в основном разбирается «серыми» переработчиками (частными лицами или компаниями) и поступает на дальнейшую переработку в виде лома черных и цветных металлов, печатных плат. В результате опасные вещества чаще всего оказываются в потоках ТК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4T15:45:52Z</dcterms:created>
  <dc:creator>User</dc:creator>
  <dc:description/>
  <dc:language>en-US</dc:language>
  <cp:lastModifiedBy>Vladimir Komissarov</cp:lastModifiedBy>
  <dcterms:modified xsi:type="dcterms:W3CDTF">2015-09-16T20:50:40Z</dcterms:modified>
  <cp:revision>121</cp:revision>
  <dc:subject/>
  <dc:title>Презентация PowerPoint</dc:title>
</cp:coreProperties>
</file>