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FB9C-D2EE-4ADD-8463-F972E6B91D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Основной закон по обращению с отходами был принят в 1998 г. (и постоянно улучшался, изменения особенно в 2005, 2008, 2011 г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С 2010 г. был определен ряд задач, направленных на развитие законодательства в сфере обращения с отход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Разработать механизм, стимулирующий производителей отходов снижать негативное воздействие на окр. среду, а также внедрять лучшие доступ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В методологию оценки эффективности региональной власти введен параметр эколог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Задача для регионов разработать внутренние программы по комплексному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Введена ответственность производителя за утилизацию транспортны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8322-0E48-409B-BC51-72B3BB679794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54F-4970-4022-986A-48FB081E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05B-12E7-4A93-A89E-94BE8BD2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184-C9EA-4AE2-8CA1-5553E0BA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3CA-8A4A-49CB-99F2-E9C105A7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F713-9C17-43FA-9E31-3160EC38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A6CA-92DB-48EC-8272-0FF1C34E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587B-C930-40B0-93F5-E4358E57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8733-C366-4980-99EA-26A84ECB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DC01-65D5-47E5-B6AC-CCA3EBDC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8572-0C8D-4DFE-8D10-9D8AE8B5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2B66-7B00-43BB-A283-AD729898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39A-2CFB-4ECD-A323-B9FA99F9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9C95-E39A-4E35-A0F3-9EA095ED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5DF0-210C-4941-917A-7AA6B99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569E-6B84-4247-A4D0-684653DA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8F47-AEA4-474B-807E-CE456FA7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8F47-87AC-4823-BF5C-64E59AC5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9B464-192F-4F8C-85DB-610D6DBE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345AE-35B0-42AE-A74F-B8FF2382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0AE6E-29AA-4EC0-A2ED-A0D57E11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45ABC-0F60-44D4-B162-A946BB34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0E52E-E739-47E0-95F8-A83F1A87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523-FBDC-475C-8881-4A395ED7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CF616-DCFD-40FB-B715-FD128560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54D63-B56E-4C27-BB52-088CA8B5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D4A03-063A-467E-8889-BEDE460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43F89-8A21-4FC0-94E6-13D541E8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56335-8156-4D4F-B2E5-7AA23699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A8C1D-6B8B-4E6B-B84C-A8C68174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E78BC-3C05-4B60-A2BA-D6FFF5E7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74C9-7099-4C40-91E6-BB41733E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A585A-511C-41BB-9A11-6662FAAF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2710-D760-4A91-A8D7-A00D6171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D27-FC40-4E12-A920-3ABBE77C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223BB-79C1-4E17-BD98-C818C232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75E36-B2C2-4750-8E87-520068D3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A1233-B0F7-4C7D-AE8D-CA7D8A58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4667-70DB-42B7-A137-AD6EDA8B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F69A-C534-406E-883D-417B35C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D2E4E-D67E-4511-AE70-F3328C76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736D-EF19-4D7C-8124-E1972DE9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4410-D99B-4DB0-A750-4DEF7C97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6B35-03CD-43B8-8B37-0172EBA7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100B-9769-4264-9594-7EA0E04C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2B6-EA6E-4439-AFD7-9B7FBCDC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B32FD-A2FC-44F0-99CF-241A4D7A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13287-3979-4B34-848B-A652C781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2CE89-08BA-47F7-ABE6-9BB9406D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9584-5DF9-4204-AF5E-A04770E2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B2AC-5281-47D4-B544-6E9427B1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D4215-7F05-49ED-9C70-DF645EA7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B30A2-5083-433C-BBC8-56712D7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C52C1-F1E1-481A-B92B-E1F72960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B9324-73BA-4E68-896F-7486372B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EA15E-B1AC-40BC-A541-5B7632AB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A23-CD08-466E-9E41-AC5ADEC3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E187A-E5A7-43C9-B92C-FBC17560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4A9-E972-4A1F-9615-5A08F1DC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629-5247-48A1-95F2-14F6BE7B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84F-3646-43B8-85A2-52F6CC3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96D3-FCE5-4DAF-A1C3-44556E1B38A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7213680" y="3809880"/>
            <a:ext cx="497844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7213680" y="3896640"/>
            <a:ext cx="497844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7213680" y="4114800"/>
            <a:ext cx="497844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7213680" y="4163400"/>
            <a:ext cx="26208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7213680" y="4199040"/>
            <a:ext cx="26208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7213680" y="3962520"/>
            <a:ext cx="40845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9834480" y="406080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1219212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1219212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8551800" y="3643200"/>
            <a:ext cx="364032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1219212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8940960" y="420696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7213680" y="4205160"/>
            <a:ext cx="172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1093040" y="1080"/>
            <a:ext cx="996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D41D-F2C7-45C4-8310-FDB6A6130E7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C214-A765-4C6E-911C-5B3E6978B3A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877860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BBAD-8B61-4760-BA30-7A796E63D12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13E7-61AD-41F2-A01B-D4A321E7ADC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5120" y="4245120"/>
            <a:ext cx="1156680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ереработка ОЭЭО в Российской Федерации. Общая ситуация, перспективы развития.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76" name="Рисунок 4" descr="АПЭТ лого 1.png"/>
          <p:cNvPicPr/>
          <p:nvPr/>
        </p:nvPicPr>
        <p:blipFill>
          <a:blip r:embed="rId2"/>
          <a:stretch/>
        </p:blipFill>
        <p:spPr>
          <a:xfrm>
            <a:off x="501480" y="382680"/>
            <a:ext cx="3337200" cy="210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77" name="Заголовок 1"/>
          <p:cNvSpPr/>
          <p:nvPr/>
        </p:nvSpPr>
        <p:spPr>
          <a:xfrm>
            <a:off x="3656160" y="6116760"/>
            <a:ext cx="8310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ладимир Комиссаров, Директор Ассоциации переработчиков электронной и электробытовой техники  (АПЭ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9263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бщая ситуация с переработкой ОЭЭ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в РФ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63480" y="2297160"/>
            <a:ext cx="10972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Существуют сложности с переработкой ряда опасных веществ.</a:t>
            </a:r>
            <a:endParaRPr b="0" lang="en-US" sz="2400" spc="-1" strike="noStrike">
              <a:solidFill>
                <a:srgbClr val="0f6fc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Российской Федераци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отсутствуют мощности по переработке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винецсодержащего стекла от ЭЛТ, литий-ионных аккумуляторо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райне ограничено число предприятий, сжигающих фреоны, используемые в климатическом оборудовании, из-за чего стоимость сжигания высока и сильно увеличивает затраты на экологически безопасную переработку этого оборудовани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сутствуют рентабельные технологии по утилизации пластиков, содержащих антипирены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бщая ситуация с переработкой ОЭЭ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в РФ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72" name="Прямоугольник 1"/>
          <p:cNvSpPr/>
          <p:nvPr/>
        </p:nvSpPr>
        <p:spPr>
          <a:xfrm>
            <a:off x="414360" y="1962000"/>
            <a:ext cx="11484000" cy="36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indent="-228600" algn="ctr">
              <a:lnSpc>
                <a:spcPct val="115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Введение в РФ расширенной ответственности производителя является главной возможностью для создания в стране современной системы управления ОЭЭ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15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Введение Федеральным законом № 458 РОП создает возможности для привлечения средств прежде всего на создание системы сбора ОЭЭО. Эти средства могут поступать либо из экологического сбора, уплачиваемого производителями/импортерами, либо от коллективных систем реализации ответственности производителя. Особую роль в создании системы сбора должны и могут сыграть региональные вл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бщая ситуация с переработкой ОЭЭ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в РФ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76" name="Прямоугольник 5"/>
          <p:cNvSpPr/>
          <p:nvPr/>
        </p:nvSpPr>
        <p:spPr>
          <a:xfrm>
            <a:off x="0" y="1824120"/>
            <a:ext cx="1185372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Лицензирование сбора, транспортировки и переработки отход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В соответствии с Федеральным Законом № 458, принятым 29 декабря 2014 года вводится лицензирование сбора, транспортировки и переработки отходов. Пока нормативные документы, касающиеся лицензирования не принят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Для обеспечения экологически безопасной переработки отходов необходимо, чтобы в нормативных требованиях к лизензиатам-переработчикам обязательно было указано наличие собственных мощностей для перерабо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83880" y="844200"/>
            <a:ext cx="917892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Предложения АПЭТ по созданию системы управления ОЭЭО в РФ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69720" y="1828440"/>
            <a:ext cx="1148256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аботать и принять Федеральный закон, или технический регламент Таможенного Союза, посвященный регулированию обращения с ОЭЭ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нести в Федеральный закон № 89 поправки, обязывающие потребителей сдавать использованные товары, на которые распространяется ответственность производителя, только лицензированным сборщика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аботать меры по стимулированию использования в производстве вторичных материалов, извлеченных из отход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9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145880" y="72864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948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Предложения АПЭТ по созданию системы управления ОЭЭО в РФ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аботать и ввести меры по стимулированию переработчиков ОЭЭ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илить роль и ответственность региональных и местных властей за организацию сбора ОЭЭ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вести в РФ требования к розничным торговым точкам, торговую площадь не менее 500 кв.м., безвозмездно принимать у населения товары, на которые распространяется ответственность производителя, если магазин продает эти товары (как это сделано во многих европейских странах, Беларуси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2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180800" y="781200"/>
            <a:ext cx="16779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948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Предложения АПЭТ по созданию системы управления ОЭЭО в РФ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92040" y="2215800"/>
            <a:ext cx="109728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аботать и внедрить отраслевые стандарты или внутренние правила для предприятий по сбору, транспортированию и переработки ОЭЭО. Первоначально отработать и применять эти стандарты в рамках СРО с перспективой распространения на всю отрасл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илить разъяснительную работу с населением, проводить мероприятия на региональном, муниципальном уровне, направленные на осознание населением необходимости экологического грамотного сбора и безопасной переработки ОЭЭО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5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180800" y="781200"/>
            <a:ext cx="16779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948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Предложения АПЭТ по созданию системы управления ОЭЭО в РФ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2040" y="2937960"/>
            <a:ext cx="10972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вести исследования на уровне РФ с целью выявления оптимальных методов сбора ОЭЭО у населения, методов стимулирования населения на раздельный сбор от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8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180800" y="781200"/>
            <a:ext cx="16779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95240" y="115380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едложение 1</a:t>
            </a:r>
            <a:br>
              <a:rPr sz="20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Принятие специального закона по ОЭЭО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Закон должен содержать следующие разделы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Требования к предприятиям, занимающимся сбором и переработкой ОЭЭО (использование НДТ, экологическая безопасность, размещение)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 Контрольные целевые показатели по объему сбора и переработки ОЭЭО в целом по стране и, возможно, по отдельным  региона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 Контрольные целевые показатели по уровню переработки ОЭЭО (доля извлекаемых вторичных материалов, направляемых на дальнейшее использование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 Перечень опасных веществ, которые должны обязательно извлекаться из ОЭЭО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91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657360"/>
            <a:ext cx="16779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2360" y="1176480"/>
            <a:ext cx="10972800" cy="108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едложение 2</a:t>
            </a:r>
            <a:br>
              <a:rPr sz="20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Введение обязанности потребителей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сдавать ОЭЭО лицензированным сборщикам 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20640" y="266400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действующем законодательстве отсутствуют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обязанности населения, касающиеся надлежащего обращения с отходами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бязанность может подкрепляться штрафными санкциями, например, увеличение стоимости вывоза ТКО при нарушении этого положен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имо обязанностей должны быть предусмотрены стимулы, например снижение платы за вывоз ТКО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дновременно местные власти, системы коллективной ответственности производителей, сборщики должны создавать условия для удобной сдачи ОЭЭО население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94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044000" y="66816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739440"/>
            <a:ext cx="961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едложение 3</a:t>
            </a:r>
            <a:br>
              <a:rPr sz="3600"/>
            </a:b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Меры по стимулированию использования в производстве вторичных материалов, извлеченных из ОЭЭО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1200" y="308088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еталлы (драгоценные, черные, цветные) являются ликвидным товаро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Требуется стимулирование прежде всего применения пластмас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Меры по стимулированию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огут включать налоговые льготы для предприятий, использующих в своей продукции фиксированный процент вторичных материало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Федеральные и региональные власти могут обеспечить госзаказ на изготовление продукции для государственных/региональных/муниципальных нужд из вторичного сырья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97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044000" y="66816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387360" y="1616040"/>
          <a:ext cx="11571120" cy="4689360"/>
        </p:xfrm>
        <a:graphic>
          <a:graphicData uri="http://schemas.openxmlformats.org/drawingml/2006/table">
            <a:tbl>
              <a:tblPr/>
              <a:tblGrid>
                <a:gridCol w="3308400"/>
                <a:gridCol w="3876480"/>
                <a:gridCol w="4386240"/>
              </a:tblGrid>
              <a:tr h="65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еги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разование ОЭЭ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тыс.тонн в год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оличество перерабатывающих компаний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ссийская Феде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ск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нкт-Петербург и Ленинград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раснодар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вердл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ст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79" name="Заголовок 1"/>
          <p:cNvSpPr/>
          <p:nvPr/>
        </p:nvSpPr>
        <p:spPr>
          <a:xfrm>
            <a:off x="1619280" y="758880"/>
            <a:ext cx="8664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Trebuchet MS"/>
              </a:rPr>
              <a:t> </a:t>
            </a:r>
            <a:r>
              <a:rPr b="0" lang="ru-RU" sz="3400" spc="-1" strike="noStrike">
                <a:solidFill>
                  <a:srgbClr val="04617b"/>
                </a:solidFill>
                <a:latin typeface="Trebuchet MS"/>
              </a:rPr>
              <a:t>Образование ОЭЭО в Росс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772640" y="544680"/>
            <a:ext cx="1204920" cy="74772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1"/>
          <p:cNvSpPr/>
          <p:nvPr/>
        </p:nvSpPr>
        <p:spPr>
          <a:xfrm>
            <a:off x="2362320" y="6488280"/>
            <a:ext cx="68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(экспертные оценки</a:t>
            </a: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2014</a:t>
            </a: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, StEP</a:t>
            </a: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  АПЭ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739440"/>
            <a:ext cx="961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едложение 4</a:t>
            </a:r>
            <a:br>
              <a:rPr sz="3600"/>
            </a:b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Меры по стимулированию отрасли по переработке ОЭЭО  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11200" y="3081240"/>
            <a:ext cx="109728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вязи с относительно невысокой рентабельностью, необходимостью переработки опасных веществ, содержащихся в ОЭЭО целесообразно ввести меры стимулирования, направленные на использование при переработке НДТ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Меры по стимулированию предприятий-переработчиков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могут включать налоговые и таможенные льготы для предприятий, использующих для переработки НДТ или закупающих оборудование, на основе НДТ, предоставление льготных кредитов для приобретения такого оборудования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0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044000" y="66816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39440"/>
            <a:ext cx="961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едложение 7</a:t>
            </a:r>
            <a:br>
              <a:rPr sz="3600"/>
            </a:b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Разработка отраслевых стандартов  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58920" y="1958760"/>
            <a:ext cx="109728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расль переработки ОЭЭО имеет дело с большим количеством опасных веществ, в технике используются драгоценные металлы. В связи с этим имеются особые требования к процессу сбора, транспортирования и переработки отходов данного вида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ЕС разработаны подобные отраслевые стандарты, детально описывающие требования к процессам, оборудованию, квалификационному уровню персонала, мерам безопасности при обращении с отдельными видами ОЭЭО (ртутьсодержащие лампы, климатическое оборудование, литий-ионные и никель-кадмиевые источники тока и др.), выходящие за рамки законодательных норм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добные документы позволят производителям оценивать уровень экологичности того или иного предприятия-переработчика, учитывать это при выбора партнеров для переработки своего оборудовани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3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044000" y="66816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Возможное участие общественности в системе управления ОЭЭО в РФ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7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"/>
          <p:cNvSpPr/>
          <p:nvPr/>
        </p:nvSpPr>
        <p:spPr>
          <a:xfrm>
            <a:off x="719280" y="1682640"/>
            <a:ext cx="10775880" cy="54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Главное – содействие организации раздельного сбора отходов, в том числе отдельного сбора ОЭЭО. Необходима планомерная разъяснительная работа с населением. Представители общественности должны принимать в ней учас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Важно участие общественности в контроле за работой управляющих компаний и ТСЖ по сбору ОЭЭ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Целесообразно принимать участие в общественных обсуждения проектов нормативных актов, касающихся обращения с отход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Со своей стороны переработчики готовы оказывать методическую и практическую помощь в организации эт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Некоторые предложения, которые </a:t>
            </a: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1"/>
          <p:cNvSpPr/>
          <p:nvPr/>
        </p:nvSpPr>
        <p:spPr>
          <a:xfrm>
            <a:off x="719280" y="1682640"/>
            <a:ext cx="10775880" cy="54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Главное – содействие организации раздельного сбора отходов, в том числе отдельного сбора ОЭЭО. Необходима планомерная разъяснительная работа с населением. Представители общественности должны принимать в ней учас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Важно участие общественности в контроле за работой управляющих компаний и ТСЖ по сбору ОЭЭ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Целесообразно принимать участие в общественных обсуждения проектов нормативных актов, касающихся обращения с отход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Со своей стороны переработчики готовы оказывать методическую и практическую помощь в организации эт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бъект 2"/>
          <p:cNvSpPr/>
          <p:nvPr/>
        </p:nvSpPr>
        <p:spPr>
          <a:xfrm>
            <a:off x="3006720" y="3025800"/>
            <a:ext cx="7083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417" name="Объект 2"/>
          <p:cNvSpPr/>
          <p:nvPr/>
        </p:nvSpPr>
        <p:spPr>
          <a:xfrm>
            <a:off x="1120680" y="1828800"/>
            <a:ext cx="1038564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Мы в начале пут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 и от того, насколько хорошо и продуманно мы организуем свою работу, будет зависеть ее успех а, в конечном счете экологическая ситуация в стране и, значит, здоровье нас и наших близк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бъект 2"/>
          <p:cNvSpPr/>
          <p:nvPr/>
        </p:nvSpPr>
        <p:spPr>
          <a:xfrm>
            <a:off x="3071880" y="2144880"/>
            <a:ext cx="7083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Спасибо за внимани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Объект 2"/>
          <p:cNvSpPr/>
          <p:nvPr/>
        </p:nvSpPr>
        <p:spPr>
          <a:xfrm>
            <a:off x="512640" y="3733920"/>
            <a:ext cx="5283360" cy="27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Arial"/>
              </a:rPr>
              <a:t>Владимир Комиссар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Директор АПЭТ, национальный эксперт ЮНИД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el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+7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916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 197 95 0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E-mail: weeerecyclers@gmail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URL: weeerecyclers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оугольник 10"/>
          <p:cNvGrpSpPr/>
          <p:nvPr/>
        </p:nvGrpSpPr>
        <p:grpSpPr>
          <a:xfrm>
            <a:off x="1895400" y="1352520"/>
            <a:ext cx="4060800" cy="585720"/>
            <a:chOff x="1895400" y="1352520"/>
            <a:chExt cx="4060800" cy="585720"/>
          </a:xfrm>
        </p:grpSpPr>
        <p:pic>
          <p:nvPicPr>
            <p:cNvPr id="283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1895400" y="1352520"/>
              <a:ext cx="406080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962000" y="1397160"/>
              <a:ext cx="3929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изводство ЭЭ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оугольник 12"/>
          <p:cNvGrpSpPr/>
          <p:nvPr/>
        </p:nvGrpSpPr>
        <p:grpSpPr>
          <a:xfrm>
            <a:off x="1895400" y="2139840"/>
            <a:ext cx="1798560" cy="1011240"/>
            <a:chOff x="1895400" y="2139840"/>
            <a:chExt cx="1798560" cy="1011240"/>
          </a:xfrm>
        </p:grpSpPr>
        <p:pic>
          <p:nvPicPr>
            <p:cNvPr id="286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1895400" y="2139840"/>
              <a:ext cx="17985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962000" y="2182680"/>
              <a:ext cx="1662120" cy="8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мпор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оугольник 13"/>
          <p:cNvGrpSpPr/>
          <p:nvPr/>
        </p:nvGrpSpPr>
        <p:grpSpPr>
          <a:xfrm>
            <a:off x="4175280" y="2139840"/>
            <a:ext cx="1780920" cy="1011240"/>
            <a:chOff x="4175280" y="2139840"/>
            <a:chExt cx="1780920" cy="1011240"/>
          </a:xfrm>
        </p:grpSpPr>
        <p:pic>
          <p:nvPicPr>
            <p:cNvPr id="289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4175280" y="2139840"/>
              <a:ext cx="17809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243320" y="2182680"/>
              <a:ext cx="16477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изводство внутри стр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Прямоугольник 14"/>
          <p:cNvGrpSpPr/>
          <p:nvPr/>
        </p:nvGrpSpPr>
        <p:grpSpPr>
          <a:xfrm>
            <a:off x="6145200" y="2114640"/>
            <a:ext cx="2200320" cy="1122120"/>
            <a:chOff x="6145200" y="2114640"/>
            <a:chExt cx="2200320" cy="1122120"/>
          </a:xfrm>
        </p:grpSpPr>
        <p:pic>
          <p:nvPicPr>
            <p:cNvPr id="292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6145200" y="2114640"/>
              <a:ext cx="220032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10360" y="2158920"/>
              <a:ext cx="207180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сударственные и общественные организации, коммерческие структур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Прямоугольник 16"/>
          <p:cNvGrpSpPr/>
          <p:nvPr/>
        </p:nvGrpSpPr>
        <p:grpSpPr>
          <a:xfrm>
            <a:off x="8369280" y="2109960"/>
            <a:ext cx="1987560" cy="1017360"/>
            <a:chOff x="8369280" y="2109960"/>
            <a:chExt cx="1987560" cy="1017360"/>
          </a:xfrm>
        </p:grpSpPr>
        <p:pic>
          <p:nvPicPr>
            <p:cNvPr id="295" name="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8369280" y="2109960"/>
              <a:ext cx="198756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435880" y="2149560"/>
              <a:ext cx="185760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астные домохозяйства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Прямоугольник 22"/>
          <p:cNvGrpSpPr/>
          <p:nvPr/>
        </p:nvGrpSpPr>
        <p:grpSpPr>
          <a:xfrm>
            <a:off x="3322800" y="4834080"/>
            <a:ext cx="1852560" cy="1779480"/>
            <a:chOff x="3322800" y="4834080"/>
            <a:chExt cx="1852560" cy="1779480"/>
          </a:xfrm>
        </p:grpSpPr>
        <p:pic>
          <p:nvPicPr>
            <p:cNvPr id="298" name="Прямоугольник 22" descr=""/>
            <p:cNvPicPr/>
            <p:nvPr/>
          </p:nvPicPr>
          <p:blipFill>
            <a:blip r:embed="rId6"/>
            <a:stretch/>
          </p:blipFill>
          <p:spPr>
            <a:xfrm>
              <a:off x="3322800" y="4834080"/>
              <a:ext cx="185256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390840" y="4916520"/>
              <a:ext cx="17146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рагоценные металлы, черные и цветные металлы, стекло, пластики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ругое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Прямоугольник 23"/>
          <p:cNvGrpSpPr/>
          <p:nvPr/>
        </p:nvGrpSpPr>
        <p:grpSpPr>
          <a:xfrm>
            <a:off x="6924600" y="4913280"/>
            <a:ext cx="1920960" cy="1706760"/>
            <a:chOff x="6924600" y="4913280"/>
            <a:chExt cx="1920960" cy="1706760"/>
          </a:xfrm>
        </p:grpSpPr>
        <p:pic>
          <p:nvPicPr>
            <p:cNvPr id="301" name="Прямоугольник 23" descr=""/>
            <p:cNvPicPr/>
            <p:nvPr/>
          </p:nvPicPr>
          <p:blipFill>
            <a:blip r:embed="rId7"/>
            <a:stretch/>
          </p:blipFill>
          <p:spPr>
            <a:xfrm>
              <a:off x="6924600" y="4913280"/>
              <a:ext cx="19209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991200" y="4956120"/>
              <a:ext cx="17859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вердые коммунальные от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3" name="Прямая со стрелкой 28"/>
          <p:cNvCxnSpPr/>
          <p:nvPr/>
        </p:nvCxnSpPr>
        <p:spPr>
          <a:xfrm flipH="1">
            <a:off x="5176080" y="1821960"/>
            <a:ext cx="2520" cy="367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304" name="Прямая со стрелкой 29"/>
          <p:cNvCxnSpPr/>
          <p:nvPr/>
        </p:nvCxnSpPr>
        <p:spPr>
          <a:xfrm flipH="1">
            <a:off x="2676240" y="1817280"/>
            <a:ext cx="2160" cy="367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305" name="Прямая со стрелкой 30"/>
          <p:cNvCxnSpPr/>
          <p:nvPr/>
        </p:nvCxnSpPr>
        <p:spPr>
          <a:xfrm>
            <a:off x="7229520" y="1787400"/>
            <a:ext cx="7200" cy="372240"/>
          </a:xfrm>
          <a:prstGeom prst="straightConnector1">
            <a:avLst/>
          </a:prstGeom>
          <a:ln w="25560">
            <a:solidFill>
              <a:srgbClr val="ff6600"/>
            </a:solidFill>
            <a:miter/>
            <a:tailEnd len="lg" type="triangle" w="lg"/>
          </a:ln>
        </p:spPr>
      </p:cxnSp>
      <p:cxnSp>
        <p:nvCxnSpPr>
          <p:cNvPr id="306" name="Прямая со стрелкой 31"/>
          <p:cNvCxnSpPr/>
          <p:nvPr/>
        </p:nvCxnSpPr>
        <p:spPr>
          <a:xfrm flipH="1">
            <a:off x="9319320" y="1715760"/>
            <a:ext cx="1080" cy="478440"/>
          </a:xfrm>
          <a:prstGeom prst="straightConnector1">
            <a:avLst/>
          </a:prstGeom>
          <a:ln w="25560">
            <a:solidFill>
              <a:srgbClr val="ff6600"/>
            </a:solidFill>
            <a:miter/>
            <a:tailEnd len="lg" type="triangle" w="lg"/>
          </a:ln>
        </p:spPr>
      </p:cxnSp>
      <p:grpSp>
        <p:nvGrpSpPr>
          <p:cNvPr id="307" name="Прямоугольник 11"/>
          <p:cNvGrpSpPr/>
          <p:nvPr/>
        </p:nvGrpSpPr>
        <p:grpSpPr>
          <a:xfrm>
            <a:off x="6108840" y="1352520"/>
            <a:ext cx="4205160" cy="561960"/>
            <a:chOff x="6108840" y="1352520"/>
            <a:chExt cx="4205160" cy="561960"/>
          </a:xfrm>
        </p:grpSpPr>
        <p:pic>
          <p:nvPicPr>
            <p:cNvPr id="308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6108840" y="1352520"/>
              <a:ext cx="4205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6880" y="1397160"/>
              <a:ext cx="40719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требление ЭЭ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0" name="Прямая со стрелкой 36"/>
          <p:cNvCxnSpPr/>
          <p:nvPr/>
        </p:nvCxnSpPr>
        <p:spPr>
          <a:xfrm flipH="1">
            <a:off x="4242600" y="4574880"/>
            <a:ext cx="1080" cy="337320"/>
          </a:xfrm>
          <a:prstGeom prst="straightConnector1">
            <a:avLst/>
          </a:prstGeom>
          <a:ln w="25560">
            <a:solidFill>
              <a:srgbClr val="0037a4"/>
            </a:solidFill>
            <a:miter/>
            <a:tailEnd len="lg" type="triangle" w="lg"/>
          </a:ln>
        </p:spPr>
      </p:cxnSp>
      <p:cxnSp>
        <p:nvCxnSpPr>
          <p:cNvPr id="311" name="Прямая со стрелкой 38"/>
          <p:cNvCxnSpPr/>
          <p:nvPr/>
        </p:nvCxnSpPr>
        <p:spPr>
          <a:xfrm flipH="1">
            <a:off x="7784280" y="4579560"/>
            <a:ext cx="1080" cy="337320"/>
          </a:xfrm>
          <a:prstGeom prst="straightConnector1">
            <a:avLst/>
          </a:prstGeom>
          <a:ln w="25560">
            <a:solidFill>
              <a:srgbClr val="0037a4"/>
            </a:solidFill>
            <a:miter/>
            <a:tailEnd len="lg" type="triangle" w="lg"/>
          </a:ln>
        </p:spPr>
      </p:cxnSp>
      <p:grpSp>
        <p:nvGrpSpPr>
          <p:cNvPr id="312" name="Прямоугольник 21"/>
          <p:cNvGrpSpPr/>
          <p:nvPr/>
        </p:nvGrpSpPr>
        <p:grpSpPr>
          <a:xfrm>
            <a:off x="2975040" y="3803760"/>
            <a:ext cx="5992920" cy="933480"/>
            <a:chOff x="2975040" y="3803760"/>
            <a:chExt cx="5992920" cy="933480"/>
          </a:xfrm>
        </p:grpSpPr>
        <p:pic>
          <p:nvPicPr>
            <p:cNvPr id="313" name="Прямоугольник 21" descr=""/>
            <p:cNvPicPr/>
            <p:nvPr/>
          </p:nvPicPr>
          <p:blipFill>
            <a:blip r:embed="rId9"/>
            <a:stretch/>
          </p:blipFill>
          <p:spPr>
            <a:xfrm>
              <a:off x="2975040" y="3803760"/>
              <a:ext cx="59929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043080" y="3894120"/>
              <a:ext cx="5857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работка и утилизация отходов электронного и электротехнического оборудования (ОЭЭО) (официальная и неофициальная)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19"/>
          <p:cNvSpPr/>
          <p:nvPr/>
        </p:nvSpPr>
        <p:spPr>
          <a:xfrm>
            <a:off x="3417480" y="2127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25" descr="АПЭТ лого 1.png"/>
          <p:cNvPicPr/>
          <p:nvPr/>
        </p:nvPicPr>
        <p:blipFill>
          <a:blip r:embed="rId10"/>
          <a:stretch/>
        </p:blipFill>
        <p:spPr>
          <a:xfrm>
            <a:off x="10665000" y="325440"/>
            <a:ext cx="1204560" cy="747720"/>
          </a:xfrm>
          <a:prstGeom prst="rect">
            <a:avLst/>
          </a:prstGeom>
          <a:ln w="0">
            <a:noFill/>
          </a:ln>
        </p:spPr>
      </p:pic>
      <p:sp>
        <p:nvSpPr>
          <p:cNvPr id="317" name="Заголовок 1"/>
          <p:cNvSpPr/>
          <p:nvPr/>
        </p:nvSpPr>
        <p:spPr>
          <a:xfrm>
            <a:off x="1386000" y="434880"/>
            <a:ext cx="9096120" cy="727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требление и утилизация электронного и электротехнического оборудования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53720" y="5091120"/>
            <a:ext cx="2335680" cy="580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трелка вправо 26"/>
          <p:cNvSpPr/>
          <p:nvPr/>
        </p:nvSpPr>
        <p:spPr>
          <a:xfrm rot="10800000">
            <a:off x="2349000" y="576540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7"/>
          <p:cNvSpPr/>
          <p:nvPr/>
        </p:nvSpPr>
        <p:spPr>
          <a:xfrm>
            <a:off x="10045800" y="5470560"/>
            <a:ext cx="1966680" cy="36828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Р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 вправо 32"/>
          <p:cNvSpPr/>
          <p:nvPr/>
        </p:nvSpPr>
        <p:spPr>
          <a:xfrm>
            <a:off x="8939160" y="5423040"/>
            <a:ext cx="978120" cy="485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3"/>
          <p:cNvSpPr/>
          <p:nvPr/>
        </p:nvSpPr>
        <p:spPr>
          <a:xfrm>
            <a:off x="8884800" y="6113520"/>
            <a:ext cx="1950120" cy="428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ЗАРЕГИСТРИРОВАН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ОЛИГО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4"/>
          <p:cNvSpPr/>
          <p:nvPr/>
        </p:nvSpPr>
        <p:spPr>
          <a:xfrm>
            <a:off x="10968480" y="6488280"/>
            <a:ext cx="1069200" cy="261360"/>
          </a:xfrm>
          <a:prstGeom prst="rect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ЗАКОН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Прямая со стрелкой 37"/>
          <p:cNvCxnSpPr>
            <a:stCxn id="320" idx="2"/>
          </p:cNvCxnSpPr>
          <p:nvPr/>
        </p:nvCxnSpPr>
        <p:spPr>
          <a:xfrm>
            <a:off x="11029680" y="5839920"/>
            <a:ext cx="416520" cy="561240"/>
          </a:xfrm>
          <a:prstGeom prst="straightConnector1">
            <a:avLst/>
          </a:prstGeom>
          <a:ln w="5724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5" name="Прямая со стрелкой 44"/>
          <p:cNvCxnSpPr/>
          <p:nvPr/>
        </p:nvCxnSpPr>
        <p:spPr>
          <a:xfrm flipH="1">
            <a:off x="10448280" y="5916240"/>
            <a:ext cx="51480" cy="214920"/>
          </a:xfrm>
          <a:prstGeom prst="straightConnector1">
            <a:avLst/>
          </a:prstGeom>
          <a:ln w="5724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26" name="TextBox 33"/>
          <p:cNvSpPr/>
          <p:nvPr/>
        </p:nvSpPr>
        <p:spPr>
          <a:xfrm>
            <a:off x="650880" y="6508800"/>
            <a:ext cx="22557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Оценки Росприроднадзо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197000" y="544680"/>
          <a:ext cx="9369360" cy="6613200"/>
        </p:xfrm>
        <a:graphic>
          <a:graphicData uri="http://schemas.openxmlformats.org/drawingml/2006/table">
            <a:tbl>
              <a:tblPr/>
              <a:tblGrid>
                <a:gridCol w="9369360"/>
              </a:tblGrid>
              <a:tr h="974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7dda"/>
                        </a:gs>
                        <a:gs pos="100000">
                          <a:srgbClr val="dee5f8"/>
                        </a:gs>
                      </a:gsLst>
                      <a:lin ang="2700000"/>
                    </a:gradFill>
                  </a:tcPr>
                </a:tc>
              </a:tr>
              <a:tr h="352116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617b"/>
                          </a:solidFill>
                          <a:latin typeface="Arial"/>
                          <a:ea typeface="Times New Roman"/>
                        </a:rPr>
                        <a:t>НЕТ СПЕЦИАЛЬНОГО ЗАКОНОДАТЕЛЬСТВА ПО ОЭЭ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Iskoola Pota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ecdf8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1752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Iskoola Pota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f7f7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28" name="TextBox 12"/>
          <p:cNvSpPr/>
          <p:nvPr/>
        </p:nvSpPr>
        <p:spPr>
          <a:xfrm>
            <a:off x="2558880" y="739800"/>
            <a:ext cx="6901200" cy="620640"/>
          </a:xfrm>
          <a:prstGeom prst="rect">
            <a:avLst/>
          </a:prstGeom>
          <a:solidFill>
            <a:srgbClr val="8a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   </a:t>
            </a:r>
            <a:r>
              <a:rPr b="0" lang="ru-RU" sz="20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Российское законодательство по управлению отходами (основные докумен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1984320" y="5291280"/>
            <a:ext cx="34639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t">
            <a:noAutofit/>
          </a:bodyPr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1</a:t>
            </a:r>
            <a:r>
              <a:rPr b="1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августа</a:t>
            </a:r>
            <a:r>
              <a:rPr b="1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201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Начало работы </a:t>
            </a:r>
            <a:r>
              <a:rPr b="1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Государственного реестра объектов размещения отходов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5641920" y="5384880"/>
            <a:ext cx="43880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t">
            <a:noAutofit/>
          </a:bodyPr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Запрет на размещение отходов на полигонах, которые не имеют разрешения от  Росприроднадз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1843200" y="2249640"/>
            <a:ext cx="373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t">
            <a:noAutofit/>
          </a:bodyPr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24</a:t>
            </a:r>
            <a:r>
              <a:rPr b="1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июня</a:t>
            </a:r>
            <a:r>
              <a:rPr b="1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199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Федеральный закон № 89-ФЗ</a:t>
            </a:r>
            <a:r>
              <a:rPr b="0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«Об отходах производства и потреблен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29 декабря </a:t>
            </a:r>
            <a:r>
              <a:rPr b="1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2014 </a:t>
            </a:r>
            <a:r>
              <a:rPr b="1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внесение поправок в ФЗ 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№</a:t>
            </a:r>
            <a:r>
              <a:rPr b="0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89 FZ (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Федеральный закон </a:t>
            </a:r>
            <a:r>
              <a:rPr b="0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№</a:t>
            </a:r>
            <a:r>
              <a:rPr b="0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45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5575320" y="1941480"/>
            <a:ext cx="4665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t">
            <a:normAutofit fontScale="89000"/>
          </a:bodyPr>
          <a:p>
            <a:pPr marL="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Один из базовых законов по охране окружающей среды</a:t>
            </a:r>
            <a:r>
              <a:rPr b="0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, 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устанавливает основные подходы и определения в управлении отходами в РФ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buClr>
                <a:srgbClr val="0e376d"/>
              </a:buClr>
              <a:buSzPct val="171000"/>
              <a:buFont typeface="PT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e376d"/>
                </a:solidFill>
                <a:uFillTx/>
                <a:latin typeface="PT Sans"/>
                <a:ea typeface="ヒラギノ角ゴ ProN W3"/>
              </a:rPr>
              <a:t>Запрет на захоронение отходов, которые могут быть переработаны</a:t>
            </a:r>
            <a:r>
              <a:rPr b="0" lang="en-US" sz="15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buClr>
                <a:srgbClr val="0e376d"/>
              </a:buClr>
              <a:buSzPct val="171000"/>
              <a:buFont typeface="PT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e376d"/>
                </a:solidFill>
                <a:uFillTx/>
                <a:latin typeface="PT Sans"/>
                <a:ea typeface="ヒラギノ角ゴ ProN W3"/>
              </a:rPr>
              <a:t>Введение РОП</a:t>
            </a:r>
            <a:r>
              <a:rPr b="1" lang="en-US" sz="1600" spc="-1" strike="noStrike" u="sng">
                <a:solidFill>
                  <a:srgbClr val="0e376d"/>
                </a:solidFill>
                <a:uFillTx/>
                <a:latin typeface="PT Sans"/>
                <a:ea typeface="ヒラギノ角ゴ ProN W3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buClr>
                <a:srgbClr val="0e376d"/>
              </a:buClr>
              <a:buSzPct val="171000"/>
              <a:buFont typeface="PT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Создание региональных операторов по управлению отходам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buClr>
                <a:srgbClr val="0e376d"/>
              </a:buClr>
              <a:buSzPct val="171000"/>
              <a:buFont typeface="PT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e376d"/>
                </a:solidFill>
                <a:uFillTx/>
                <a:latin typeface="PT Sans"/>
                <a:ea typeface="ヒラギノ角ゴ ProN W3"/>
              </a:rPr>
              <a:t>Возврат к лицензированию управления от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3643200" y="4738680"/>
            <a:ext cx="5472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Другие последние инициативы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772640" y="544680"/>
            <a:ext cx="1204920" cy="7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838080" y="1528920"/>
          <a:ext cx="10639440" cy="5178240"/>
        </p:xfrm>
        <a:graphic>
          <a:graphicData uri="http://schemas.openxmlformats.org/drawingml/2006/table">
            <a:tbl>
              <a:tblPr/>
              <a:tblGrid>
                <a:gridCol w="3087720"/>
                <a:gridCol w="1656000"/>
                <a:gridCol w="1701720"/>
                <a:gridCol w="1382760"/>
                <a:gridCol w="1454040"/>
                <a:gridCol w="1357200"/>
              </a:tblGrid>
              <a:tr h="10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и оборудовани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лл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ветные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лл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кл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о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пные прибо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ые прибо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оборуд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тационарное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оборудование (портативное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визоры, радиоприемники и т.д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Заголовок 1"/>
          <p:cNvSpPr/>
          <p:nvPr/>
        </p:nvSpPr>
        <p:spPr>
          <a:xfrm>
            <a:off x="1371600" y="615960"/>
            <a:ext cx="9489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Доля разных веществ в составе ОЭЭ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772640" y="544680"/>
            <a:ext cx="120492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Заголовок 1"/>
          <p:cNvSpPr/>
          <p:nvPr/>
        </p:nvSpPr>
        <p:spPr>
          <a:xfrm>
            <a:off x="1371600" y="615960"/>
            <a:ext cx="9489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Содержание некоторых вредных веществ  в составе ОЭЭ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54" descr="unido logo.bmp"/>
          <p:cNvPicPr/>
          <p:nvPr/>
        </p:nvPicPr>
        <p:blipFill>
          <a:blip r:embed="rId1"/>
          <a:stretch/>
        </p:blipFill>
        <p:spPr>
          <a:xfrm>
            <a:off x="318960" y="457200"/>
            <a:ext cx="1073160" cy="9619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7" descr="АПЭТ лого 1.png"/>
          <p:cNvPicPr/>
          <p:nvPr/>
        </p:nvPicPr>
        <p:blipFill>
          <a:blip r:embed="rId2"/>
          <a:stretch/>
        </p:blipFill>
        <p:spPr>
          <a:xfrm>
            <a:off x="10772640" y="544680"/>
            <a:ext cx="120492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490680" y="1687680"/>
          <a:ext cx="11548800" cy="5045040"/>
        </p:xfrm>
        <a:graphic>
          <a:graphicData uri="http://schemas.openxmlformats.org/drawingml/2006/table">
            <a:tbl>
              <a:tblPr/>
              <a:tblGrid>
                <a:gridCol w="3849480"/>
                <a:gridCol w="3508560"/>
                <a:gridCol w="4190760"/>
              </a:tblGrid>
              <a:tr h="54900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именование 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де содержа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следствия для окружающей среды и здоровья ц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332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ещества, ведущие к уменьшению озонового слоя (фреон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холодильниках, системах кондиционирования, увлажнителях и 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меньшение озонового слоя Зем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900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ихлорированные бифени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конденсаторах многих устрой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нцерог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21716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тяжелые металлы (барий, стронций, свинец, кадмий рту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которые стеклянные части электронной техники, источники тока, осветительные приборы, химические источники т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капливаются в организме и приводят к серьезным нарушениям в деятельности различных органов организма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70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ромированные антипир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печатных платах или коннекторах и каб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здействуют на нервную систему, вызывают р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21716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ивинилх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оляция проводов и каб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особствует возникновению различных заболеваний, в том числе рака; при сжигании образуются диоксины, особо токсичные в любых доз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044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литиевых, литий-ионных и литий-полимерных аккумулято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жароопасен в виде чистого мет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3640" y="1482840"/>
            <a:ext cx="10972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сновные участники процесса управления ОЭЭО 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43" name="TextBox 24"/>
          <p:cNvSpPr/>
          <p:nvPr/>
        </p:nvSpPr>
        <p:spPr>
          <a:xfrm>
            <a:off x="2992320" y="2558880"/>
            <a:ext cx="1509840" cy="58068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Частные домохозя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4"/>
          <p:cNvSpPr/>
          <p:nvPr/>
        </p:nvSpPr>
        <p:spPr>
          <a:xfrm>
            <a:off x="5248440" y="2558880"/>
            <a:ext cx="1955520" cy="82404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Государственные структуры и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4"/>
          <p:cNvSpPr/>
          <p:nvPr/>
        </p:nvSpPr>
        <p:spPr>
          <a:xfrm>
            <a:off x="7880400" y="2558880"/>
            <a:ext cx="1704960" cy="58068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Корпоративный сек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4"/>
          <p:cNvSpPr/>
          <p:nvPr/>
        </p:nvSpPr>
        <p:spPr>
          <a:xfrm>
            <a:off x="533520" y="2558880"/>
            <a:ext cx="1509480" cy="5806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ОТРЕБИТЕЛИЭЭ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772640" y="592200"/>
            <a:ext cx="1204920" cy="7477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4"/>
          <p:cNvSpPr/>
          <p:nvPr/>
        </p:nvSpPr>
        <p:spPr>
          <a:xfrm>
            <a:off x="480960" y="3782880"/>
            <a:ext cx="1509840" cy="5806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НАКОПЛЕНИЕ ОЭЭ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4"/>
          <p:cNvSpPr/>
          <p:nvPr/>
        </p:nvSpPr>
        <p:spPr>
          <a:xfrm>
            <a:off x="2357280" y="3894120"/>
            <a:ext cx="1509840" cy="337320"/>
          </a:xfrm>
          <a:prstGeom prst="rect">
            <a:avLst/>
          </a:prstGeom>
          <a:solidFill>
            <a:srgbClr val="0c9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олигоны Т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4"/>
          <p:cNvSpPr/>
          <p:nvPr/>
        </p:nvSpPr>
        <p:spPr>
          <a:xfrm>
            <a:off x="4122720" y="3894120"/>
            <a:ext cx="1509840" cy="337320"/>
          </a:xfrm>
          <a:prstGeom prst="rect">
            <a:avLst/>
          </a:prstGeom>
          <a:solidFill>
            <a:srgbClr val="0c9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Торговые се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4"/>
          <p:cNvSpPr/>
          <p:nvPr/>
        </p:nvSpPr>
        <p:spPr>
          <a:xfrm>
            <a:off x="5919840" y="3782880"/>
            <a:ext cx="1509840" cy="580680"/>
          </a:xfrm>
          <a:prstGeom prst="rect">
            <a:avLst/>
          </a:prstGeom>
          <a:solidFill>
            <a:srgbClr val="0c9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Интеграторы (сборщи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4"/>
          <p:cNvSpPr/>
          <p:nvPr/>
        </p:nvSpPr>
        <p:spPr>
          <a:xfrm>
            <a:off x="7883640" y="3578400"/>
            <a:ext cx="2463840" cy="1067400"/>
          </a:xfrm>
          <a:prstGeom prst="rect">
            <a:avLst/>
          </a:prstGeom>
          <a:solidFill>
            <a:srgbClr val="0c9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лощадки, организованные муниципальными органами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4"/>
          <p:cNvSpPr/>
          <p:nvPr/>
        </p:nvSpPr>
        <p:spPr>
          <a:xfrm>
            <a:off x="523800" y="5276880"/>
            <a:ext cx="1509840" cy="5806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ереработка ОЭЭ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4"/>
          <p:cNvSpPr/>
          <p:nvPr/>
        </p:nvSpPr>
        <p:spPr>
          <a:xfrm>
            <a:off x="2238480" y="5008680"/>
            <a:ext cx="2948040" cy="1310760"/>
          </a:xfrm>
          <a:prstGeom prst="rect">
            <a:avLst/>
          </a:prstGeom>
          <a:solidFill>
            <a:srgbClr val="55a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ункты сортир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(предварительная обработка – выделение работоспособной или пригодной для ремонта техни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4"/>
          <p:cNvSpPr/>
          <p:nvPr/>
        </p:nvSpPr>
        <p:spPr>
          <a:xfrm>
            <a:off x="5442120" y="5149800"/>
            <a:ext cx="2646360" cy="1067400"/>
          </a:xfrm>
          <a:prstGeom prst="rect">
            <a:avLst/>
          </a:prstGeom>
          <a:solidFill>
            <a:srgbClr val="55a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ервичная перерабо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(разделение ЭЭО на части для последующей глубокой переработки)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4"/>
          <p:cNvSpPr/>
          <p:nvPr/>
        </p:nvSpPr>
        <p:spPr>
          <a:xfrm>
            <a:off x="8601120" y="5045040"/>
            <a:ext cx="2340000" cy="1310760"/>
          </a:xfrm>
          <a:prstGeom prst="rect">
            <a:avLst/>
          </a:prstGeom>
          <a:solidFill>
            <a:srgbClr val="55a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Глубокая переработка (получение конечного вторичного сырья, пригодного для использования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бщая ситуация с переработкой ОЭЭ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в РФ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620640" y="1824120"/>
            <a:ext cx="111902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В Российской Федерации отсутствует система управления ОЭЭ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Нет специализированной законодательной и нормативной базы по ОЭЭО в целом, отдельные законодательные нормативные акты касаются отдельных категорий ОЭЭО (ртутьсодержащие отходы) или содержащихся в них веществ (озоноразрушающие вещества, драгоценные металл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Первый нормативный документ будет принят до конца этого года – технический регламент Таможенного Союза по использованию вредных веществ в электронной тех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бщая ситуация с переработкой ОЭЭ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в РФ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"/>
          <p:cNvSpPr/>
          <p:nvPr/>
        </p:nvSpPr>
        <p:spPr>
          <a:xfrm>
            <a:off x="719280" y="1682640"/>
            <a:ext cx="1077588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Главной проблемой является отсутствие системы сбора ОЭЭ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у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Система сбора ТКО не ориентирована на отдельный сбор ОЭЭ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ОЭЭО от населения поступают по официальным каналам главным образом в рамках кампаний по обмену старой техники на новую, проводимых крупными сетевыми ритейлерами, от сервисных центров по обслуживанию ЭЭО. Бытовая техника в основном разбирается «серыми» переработчиками (частными лицами или компаниями) и поступает на дальнейшую переработку в виде лома черных и цветных металлов, печатных плат. В результате опасные вещества чаще всего оказываются в потоках ТК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5:45:52Z</dcterms:created>
  <dc:creator>User</dc:creator>
  <dc:description/>
  <dc:language>en-US</dc:language>
  <cp:lastModifiedBy>Vladimir Komissarov</cp:lastModifiedBy>
  <dcterms:modified xsi:type="dcterms:W3CDTF">2015-09-16T20:50:40Z</dcterms:modified>
  <cp:revision>121</cp:revision>
  <dc:subject/>
  <dc:title>Презентация PowerPoint</dc:title>
</cp:coreProperties>
</file>