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2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6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0" y="0"/>
            <a:ext cx="29304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828960" y="0"/>
            <a:ext cx="2927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60800" cy="3719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6080" y="4722840"/>
            <a:ext cx="5398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0" y="9442440"/>
            <a:ext cx="29304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7"/>
          </p:nvPr>
        </p:nvSpPr>
        <p:spPr>
          <a:xfrm>
            <a:off x="3828960" y="9442440"/>
            <a:ext cx="29210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9A28F-6C42-48E1-820A-0159ACFA3D8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60800" cy="37195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6080" y="4722840"/>
            <a:ext cx="5398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28960" y="9442440"/>
            <a:ext cx="29210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0541C-46FA-471F-B49B-ADEBC628376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EBB9-2F60-479C-AB49-CBAD3516C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36CE-1D8D-4B1D-965D-25DD26E65AB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28CF-DAB1-4A11-8825-D14B6FD896E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9E72-B851-453A-ACCA-9E00E3D2CE8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F33F-14CF-4672-9266-9B69F34A2DD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63DE-EC23-453C-A1DE-DF80E3B3328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B44C-E157-4DF1-BAED-81CB27B0D4C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8450-F17C-4210-BBCC-E267F1FC3F1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D568-8650-424E-80E0-D2141C3E98B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57E6-A59C-49BE-BC7C-D3E850E7E98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2D43-F751-4AB6-B643-7B1C9B141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D9A0-2CC4-472C-A296-46D156E408D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A191-B1FE-4013-B43A-ACD5C683016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3AC5-3D8B-43FB-BF7E-C9DF28E1BB9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413B7-F810-4F04-805A-E9B8E11B9EA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CC2A-D72E-42A1-B052-95A5DDA5375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C9BDA-A9A6-422D-A343-669D049BABE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377BB-42EE-41DF-824A-FD2CA49C5FA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CFA28-B53F-4D14-BFBB-CCDE232FFD5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B04F-2D7F-4064-83B5-004E07E92FC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8B584-4A5C-4F8A-B173-2D62EE362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A802-47A0-4C26-9C58-F130A4F9359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E061-C8A2-447B-A620-C98353008CE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AF27-5CA2-4BEA-AED3-FB2BC8E00DD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2E5ED-564E-44D5-87D4-0E0DE2BBCD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C7BD5-FCD6-4868-8B8A-BF8B4B80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E1A37-F375-4458-9C37-E694992C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BDDF6-9138-4298-B2CB-CB2BD1EB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A4B09-FAD6-4242-9A30-F10188E7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1AA01-418E-49F0-82AC-DC92BF84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09703-21AD-4CE3-A167-9A0954D3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7B28C-CC5D-4FA9-A404-2FA45A16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4722B-09FA-4D0B-A134-49413834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48EA0-9B22-4456-B89E-300ABE00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14D08-48E3-483B-8B8D-96AF07E3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39266-F598-41B9-B07C-3DBB3F49EA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4912-23B2-47FB-A980-132521896F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82E2-A93E-4EC5-9D82-7F3B9E49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E3A6-AD45-4F16-8F51-63F915B5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793B-C426-4E0A-A7C0-466CF651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5007-D876-4BAF-B85B-47CAAD33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D16C-C113-4BAF-9ED0-2B5F1B52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314F-7EA3-442E-A6EA-BE6A6EED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92D9-F488-4725-9852-BDF8C790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CE96-5CFD-4825-B41E-9F56B21F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8816-D220-4BF5-8D47-F990EAFD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E826-32E2-4BA6-9749-AD9210DB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CFF7-6E1B-4E33-B7A0-D4C5C943B4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533520" y="404640"/>
            <a:ext cx="475920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"/>
          <p:cNvSpPr/>
          <p:nvPr/>
        </p:nvSpPr>
        <p:spPr>
          <a:xfrm>
            <a:off x="8305920" y="6381720"/>
            <a:ext cx="442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CAB40-C64A-4432-8509-E8593982E7A4}" type="slidenum">
              <a:rPr b="0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" name="Picture 2" descr=""/>
          <p:cNvPicPr/>
          <p:nvPr/>
        </p:nvPicPr>
        <p:blipFill>
          <a:blip r:embed="rId2"/>
          <a:stretch/>
        </p:blipFill>
        <p:spPr>
          <a:xfrm>
            <a:off x="533520" y="404640"/>
            <a:ext cx="475920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8305920" y="6381720"/>
            <a:ext cx="442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A35F5-EA50-4508-B1B8-2990C189E6EB}" type="slidenum">
              <a:rPr b="0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3"/>
          <a:srcRect l="21633" t="59688" r="18916" b="3275"/>
          <a:stretch/>
        </p:blipFill>
        <p:spPr>
          <a:xfrm>
            <a:off x="395280" y="6308640"/>
            <a:ext cx="2217600" cy="252360"/>
          </a:xfrm>
          <a:prstGeom prst="rect">
            <a:avLst/>
          </a:prstGeom>
          <a:ln w="0">
            <a:noFill/>
          </a:ln>
        </p:spPr>
      </p:pic>
      <p:sp>
        <p:nvSpPr>
          <p:cNvPr id="77" name="Line 3"/>
          <p:cNvSpPr/>
          <p:nvPr/>
        </p:nvSpPr>
        <p:spPr>
          <a:xfrm>
            <a:off x="539640" y="927000"/>
            <a:ext cx="8353440" cy="1800"/>
          </a:xfrm>
          <a:prstGeom prst="line">
            <a:avLst/>
          </a:prstGeom>
          <a:ln cap="sq" w="12600">
            <a:solidFill>
              <a:srgbClr val="d3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3"/>
          <a:stretch/>
        </p:blipFill>
        <p:spPr>
          <a:xfrm>
            <a:off x="533520" y="404640"/>
            <a:ext cx="4759200" cy="863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"/>
          <p:cNvSpPr/>
          <p:nvPr/>
        </p:nvSpPr>
        <p:spPr>
          <a:xfrm>
            <a:off x="2190600" y="191124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533520" y="404640"/>
            <a:ext cx="4759200" cy="863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Num" idx="1"/>
          </p:nvPr>
        </p:nvSpPr>
        <p:spPr>
          <a:xfrm>
            <a:off x="6804000" y="6381360"/>
            <a:ext cx="21240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2E502F-48DB-436C-AB01-0B941FD1DE94}" type="slidenum"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8305920" y="6381720"/>
            <a:ext cx="442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3723D-8307-4E19-8C86-D52D82FD869D}" type="slidenum">
              <a:rPr b="0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533520" y="404640"/>
            <a:ext cx="4759200" cy="863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ldNum" idx="2"/>
          </p:nvPr>
        </p:nvSpPr>
        <p:spPr>
          <a:xfrm>
            <a:off x="6791400" y="6492960"/>
            <a:ext cx="21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6982AB6-82D1-4F4D-81E9-9BC88881EBB2}" type="slidenum">
              <a:rPr b="0" lang="ru-RU" sz="2400" spc="-1" strike="noStrike">
                <a:solidFill>
                  <a:srgbClr val="ffffff"/>
                </a:solidFill>
                <a:latin typeface="Calibri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305920" y="6381720"/>
            <a:ext cx="442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70376-8EA6-4985-9578-E416FD681D02}" type="slidenum">
              <a:rPr b="0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3"/>
          <a:srcRect l="21633" t="59688" r="18916" b="3275"/>
          <a:stretch/>
        </p:blipFill>
        <p:spPr>
          <a:xfrm>
            <a:off x="395280" y="6308640"/>
            <a:ext cx="2217600" cy="252360"/>
          </a:xfrm>
          <a:prstGeom prst="rect">
            <a:avLst/>
          </a:prstGeom>
          <a:ln w="0">
            <a:noFill/>
          </a:ln>
        </p:spPr>
      </p:pic>
      <p:sp>
        <p:nvSpPr>
          <p:cNvPr id="235" name="Line 3"/>
          <p:cNvSpPr/>
          <p:nvPr/>
        </p:nvSpPr>
        <p:spPr>
          <a:xfrm>
            <a:off x="539640" y="927000"/>
            <a:ext cx="8353440" cy="1800"/>
          </a:xfrm>
          <a:prstGeom prst="line">
            <a:avLst/>
          </a:prstGeom>
          <a:ln cap="sq" w="12600">
            <a:solidFill>
              <a:srgbClr val="d3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dt" idx="3"/>
          </p:nvPr>
        </p:nvSpPr>
        <p:spPr>
          <a:xfrm>
            <a:off x="6582960" y="612360"/>
            <a:ext cx="947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8.01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257800" y="612720"/>
            <a:ext cx="1325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Num" idx="4"/>
          </p:nvPr>
        </p:nvSpPr>
        <p:spPr>
          <a:xfrm>
            <a:off x="8174160" y="1080"/>
            <a:ext cx="7524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FCD5D91-0A19-43A3-B95E-06F84E7A1577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305920" y="6381720"/>
            <a:ext cx="442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0E94C-8B83-4AF9-A52F-FCDF984F5321}" type="slidenum">
              <a:rPr b="0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rcRect l="21633" t="59688" r="18916" b="3275"/>
          <a:stretch/>
        </p:blipFill>
        <p:spPr>
          <a:xfrm>
            <a:off x="395280" y="6308640"/>
            <a:ext cx="2217600" cy="252360"/>
          </a:xfrm>
          <a:prstGeom prst="rect">
            <a:avLst/>
          </a:prstGeom>
          <a:ln w="0">
            <a:noFill/>
          </a:ln>
        </p:spPr>
      </p:pic>
      <p:sp>
        <p:nvSpPr>
          <p:cNvPr id="277" name="Line 3"/>
          <p:cNvSpPr/>
          <p:nvPr/>
        </p:nvSpPr>
        <p:spPr>
          <a:xfrm>
            <a:off x="539640" y="927000"/>
            <a:ext cx="8353440" cy="1800"/>
          </a:xfrm>
          <a:prstGeom prst="line">
            <a:avLst/>
          </a:prstGeom>
          <a:ln cap="sq" w="12600">
            <a:solidFill>
              <a:srgbClr val="d3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dt" idx="5"/>
          </p:nvPr>
        </p:nvSpPr>
        <p:spPr>
          <a:xfrm>
            <a:off x="6586200" y="612360"/>
            <a:ext cx="94788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8.01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524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0A53882-2D2C-43F3-88CB-A0834FEF569F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5257800" y="612720"/>
            <a:ext cx="1325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2421000"/>
            <a:ext cx="81327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блемы низкоуглеродного развития экономики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Заголовок 4"/>
          <p:cNvSpPr/>
          <p:nvPr/>
        </p:nvSpPr>
        <p:spPr>
          <a:xfrm>
            <a:off x="0" y="6093000"/>
            <a:ext cx="91393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1"/>
          <p:cNvSpPr/>
          <p:nvPr/>
        </p:nvSpPr>
        <p:spPr>
          <a:xfrm>
            <a:off x="324000" y="537372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меститель директора Департамента государственного регулирования тарифов, инфраструктурных реформ и энергоэффективност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Ю.Н. Фед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Chart 1" descr=""/>
          <p:cNvPicPr/>
          <p:nvPr/>
        </p:nvPicPr>
        <p:blipFill>
          <a:blip r:embed="rId1"/>
          <a:stretch/>
        </p:blipFill>
        <p:spPr>
          <a:xfrm>
            <a:off x="201600" y="907920"/>
            <a:ext cx="8674200" cy="417672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3"/>
          <p:cNvSpPr/>
          <p:nvPr/>
        </p:nvSpPr>
        <p:spPr>
          <a:xfrm>
            <a:off x="690480" y="2708280"/>
            <a:ext cx="79455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0г. 1991г. 1992г. 1993г. 1994г. 1995г. 1996г. 1997г. 1998г. 1999г. 2000г. 2001г. 2002г. 2003г. 2004г. 2005г. 2006г. 2007г. 2008г. 2009г. 2010г. 2011г.  2012г.  2013г.  2014г.  2015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4957920" y="509760"/>
            <a:ext cx="367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выбросов парниковых газов и ВВП России за период с 1990 по 2014 г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1"/>
          <p:cNvSpPr/>
          <p:nvPr/>
        </p:nvSpPr>
        <p:spPr>
          <a:xfrm>
            <a:off x="711360" y="333360"/>
            <a:ext cx="3971880" cy="106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cc99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998 года Россия продемонстрировала способность развивать экономику с минимальным приростом выбросов парниковых газ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3157560" y="4111560"/>
            <a:ext cx="5473800" cy="25732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"/>
          <p:cNvSpPr/>
          <p:nvPr/>
        </p:nvSpPr>
        <p:spPr>
          <a:xfrm>
            <a:off x="250920" y="4365720"/>
            <a:ext cx="2808360" cy="137160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19080">
            <a:solidFill>
              <a:srgbClr val="00cc99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осы ПГ от энергетического сектора в 2015 г. были ниже уровня 1990 г. на 29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сжигания топлива снизились на 39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омышленных процесс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8%, от сельскохозяйственной деятельности – на 60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оугольник 12"/>
          <p:cNvSpPr/>
          <p:nvPr/>
        </p:nvSpPr>
        <p:spPr>
          <a:xfrm>
            <a:off x="3059280" y="3754440"/>
            <a:ext cx="5752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антропогенных выбросов парниковых газов из всех источников в России с 1990 по 2015 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690480" y="333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доле низкоэмиссионных технологий в электроэнергетике Россия существенно опережает остальные стр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Диаграмма 2" descr=""/>
          <p:cNvPicPr/>
          <p:nvPr/>
        </p:nvPicPr>
        <p:blipFill>
          <a:blip r:embed="rId1"/>
          <a:stretch/>
        </p:blipFill>
        <p:spPr>
          <a:xfrm>
            <a:off x="1582560" y="1608120"/>
            <a:ext cx="6197760" cy="49258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4"/>
          <p:cNvSpPr/>
          <p:nvPr/>
        </p:nvSpPr>
        <p:spPr>
          <a:xfrm>
            <a:off x="2195640" y="4508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3220920" y="3270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Box 6"/>
          <p:cNvSpPr/>
          <p:nvPr/>
        </p:nvSpPr>
        <p:spPr>
          <a:xfrm>
            <a:off x="3220920" y="4179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198520" y="1751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0,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2124000" y="202716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15,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9"/>
          <p:cNvSpPr/>
          <p:nvPr/>
        </p:nvSpPr>
        <p:spPr>
          <a:xfrm>
            <a:off x="2174760" y="2492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10"/>
          <p:cNvSpPr/>
          <p:nvPr/>
        </p:nvSpPr>
        <p:spPr>
          <a:xfrm>
            <a:off x="2195640" y="3633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4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11"/>
          <p:cNvSpPr/>
          <p:nvPr/>
        </p:nvSpPr>
        <p:spPr>
          <a:xfrm>
            <a:off x="4292640" y="2033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12"/>
          <p:cNvSpPr/>
          <p:nvPr/>
        </p:nvSpPr>
        <p:spPr>
          <a:xfrm>
            <a:off x="4284720" y="2386080"/>
            <a:ext cx="3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13"/>
          <p:cNvSpPr/>
          <p:nvPr/>
        </p:nvSpPr>
        <p:spPr>
          <a:xfrm>
            <a:off x="4284720" y="2765520"/>
            <a:ext cx="3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14"/>
          <p:cNvSpPr/>
          <p:nvPr/>
        </p:nvSpPr>
        <p:spPr>
          <a:xfrm>
            <a:off x="4284720" y="3378240"/>
            <a:ext cx="3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15"/>
          <p:cNvSpPr/>
          <p:nvPr/>
        </p:nvSpPr>
        <p:spPr>
          <a:xfrm>
            <a:off x="6388200" y="3522600"/>
            <a:ext cx="3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8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16"/>
          <p:cNvSpPr/>
          <p:nvPr/>
        </p:nvSpPr>
        <p:spPr>
          <a:xfrm>
            <a:off x="5349960" y="3503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7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17"/>
          <p:cNvSpPr/>
          <p:nvPr/>
        </p:nvSpPr>
        <p:spPr>
          <a:xfrm>
            <a:off x="4275000" y="4071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8"/>
          <p:cNvSpPr/>
          <p:nvPr/>
        </p:nvSpPr>
        <p:spPr>
          <a:xfrm>
            <a:off x="6383160" y="1968480"/>
            <a:ext cx="3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13*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9"/>
          <p:cNvSpPr/>
          <p:nvPr/>
        </p:nvSpPr>
        <p:spPr>
          <a:xfrm>
            <a:off x="5349960" y="2075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21*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21"/>
          <p:cNvSpPr/>
          <p:nvPr/>
        </p:nvSpPr>
        <p:spPr>
          <a:xfrm>
            <a:off x="5329080" y="24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22"/>
          <p:cNvSpPr/>
          <p:nvPr/>
        </p:nvSpPr>
        <p:spPr>
          <a:xfrm>
            <a:off x="6388200" y="223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23"/>
          <p:cNvSpPr/>
          <p:nvPr/>
        </p:nvSpPr>
        <p:spPr>
          <a:xfrm>
            <a:off x="2021040" y="5877000"/>
            <a:ext cx="408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* Для стран Индии и Китая представлен общий % по АЭС, ГЭС и ВИЭ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ятиугольник 24"/>
          <p:cNvSpPr/>
          <p:nvPr/>
        </p:nvSpPr>
        <p:spPr>
          <a:xfrm>
            <a:off x="395280" y="1098720"/>
            <a:ext cx="1440000" cy="99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4142" y="0"/>
                </a:lnTo>
                <a:lnTo>
                  <a:pt x="21600" y="10800"/>
                </a:lnTo>
                <a:lnTo>
                  <a:pt x="141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технологий с низким выбросом С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Овал 25"/>
          <p:cNvSpPr/>
          <p:nvPr/>
        </p:nvSpPr>
        <p:spPr>
          <a:xfrm>
            <a:off x="3168720" y="1438200"/>
            <a:ext cx="439560" cy="31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Овал 26"/>
          <p:cNvSpPr/>
          <p:nvPr/>
        </p:nvSpPr>
        <p:spPr>
          <a:xfrm>
            <a:off x="4205160" y="1438200"/>
            <a:ext cx="438120" cy="31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Овал 27"/>
          <p:cNvSpPr/>
          <p:nvPr/>
        </p:nvSpPr>
        <p:spPr>
          <a:xfrm>
            <a:off x="5272200" y="1438200"/>
            <a:ext cx="438120" cy="31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Овал 28"/>
          <p:cNvSpPr/>
          <p:nvPr/>
        </p:nvSpPr>
        <p:spPr>
          <a:xfrm>
            <a:off x="6348240" y="1438200"/>
            <a:ext cx="438480" cy="31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Овал 29"/>
          <p:cNvSpPr/>
          <p:nvPr/>
        </p:nvSpPr>
        <p:spPr>
          <a:xfrm>
            <a:off x="2163600" y="1438200"/>
            <a:ext cx="438480" cy="312840"/>
          </a:xfrm>
          <a:prstGeom prst="ellipse">
            <a:avLst/>
          </a:pr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30"/>
          <p:cNvSpPr/>
          <p:nvPr/>
        </p:nvSpPr>
        <p:spPr>
          <a:xfrm>
            <a:off x="1590840" y="1093680"/>
            <a:ext cx="633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выработки электроэнергии в России и некоторых странах в 2015 год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стасия Алексеевна &l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ishenok@expo-elektra.ru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Заголовок 1"/>
          <p:cNvSpPr/>
          <p:nvPr/>
        </p:nvSpPr>
        <p:spPr>
          <a:xfrm>
            <a:off x="324000" y="333360"/>
            <a:ext cx="8820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получения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298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лрд. евро экономии в период с 2015 по 2035 год необходимы инвестиции в размере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11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лрд. евро </a:t>
            </a:r>
            <a:br>
              <a:rPr sz="12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8" descr=""/>
          <p:cNvPicPr/>
          <p:nvPr/>
        </p:nvPicPr>
        <p:blipFill>
          <a:blip r:embed="rId1"/>
          <a:stretch/>
        </p:blipFill>
        <p:spPr>
          <a:xfrm>
            <a:off x="609480" y="1052640"/>
            <a:ext cx="7983720" cy="37828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0"/>
          <p:cNvSpPr/>
          <p:nvPr/>
        </p:nvSpPr>
        <p:spPr>
          <a:xfrm>
            <a:off x="117360" y="4835520"/>
            <a:ext cx="734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RussianRail G Pro Medium"/>
              </a:rPr>
              <a:t>Рентабельные инвести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173160" y="5145120"/>
            <a:ext cx="8797680" cy="1127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Arial Narrow"/>
                <a:ea typeface="Times New Roman"/>
              </a:rPr>
              <a:t>Ежегодные инвестиции для реализации рентабельных мер в течение следующих 20 лет потребуют ежегодно  </a:t>
            </a:r>
            <a:r>
              <a:rPr b="1" lang="ru-RU" sz="1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6 млрд.  евр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Arial Narrow"/>
                <a:ea typeface="Times New Roman"/>
              </a:rPr>
              <a:t>Для сравнения: объем ожидаемых совокупных инвестиций в экономику России (2015-2035 годы) составит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200-300 млрд. евро</a:t>
            </a:r>
            <a:r>
              <a:rPr b="0" lang="ru-RU" sz="1400" spc="-1" strike="noStrike">
                <a:solidFill>
                  <a:srgbClr val="262626"/>
                </a:solidFill>
                <a:latin typeface="Arial Narrow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Arial Narrow"/>
                <a:ea typeface="Times New Roman"/>
              </a:rPr>
              <a:t>Таким образом, реализация рентабельных мер по повышению  энергоэффективности приведет к увеличению или перераспределению около </a:t>
            </a:r>
            <a:r>
              <a:rPr b="1" lang="ru-RU" sz="1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2-3%</a:t>
            </a:r>
            <a:r>
              <a:rPr b="1" lang="ru-RU" sz="1400" spc="-1" strike="noStrike">
                <a:solidFill>
                  <a:srgbClr val="262626"/>
                </a:solidFill>
                <a:latin typeface="Arial Narrow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Arial Narrow"/>
                <a:ea typeface="Times New Roman"/>
              </a:rPr>
              <a:t>от всего объема инвестиций в экономику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7" descr=""/>
          <p:cNvPicPr/>
          <p:nvPr/>
        </p:nvPicPr>
        <p:blipFill>
          <a:blip r:embed="rId1"/>
          <a:stretch/>
        </p:blipFill>
        <p:spPr>
          <a:xfrm>
            <a:off x="19080" y="909720"/>
            <a:ext cx="4360680" cy="3743280"/>
          </a:xfrm>
          <a:prstGeom prst="rect">
            <a:avLst/>
          </a:prstGeom>
          <a:ln w="0">
            <a:noFill/>
          </a:ln>
        </p:spPr>
      </p:pic>
      <p:sp>
        <p:nvSpPr>
          <p:cNvPr id="374" name="Заголовок 1"/>
          <p:cNvSpPr/>
          <p:nvPr/>
        </p:nvSpPr>
        <p:spPr>
          <a:xfrm>
            <a:off x="324000" y="333360"/>
            <a:ext cx="8820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Заголовок 1"/>
          <p:cNvSpPr/>
          <p:nvPr/>
        </p:nvSpPr>
        <p:spPr>
          <a:xfrm>
            <a:off x="324000" y="4797360"/>
            <a:ext cx="83516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 роста выбросов ПГ, порождаемый экономическим ростом, был нейтрализован рядом факторов, которые их снижали: структурные сдвиги в экономике обеспечили 68% такого снижения, снижение удельных выбросов ПГ на единицу энергии за счет роста доли использования природного газа, электроэнергии АЭС и ГЭС – еще 4%; повышение энергоэффективности – 9%; рост загрузки производственных мощностей – 2%, а ценовой фактор – 1%. Поскольку основными источниками выбросов ПГ являются сектора, слабо подверженные циклическим колебаниям экономической конъюнктуры, – отрасли ТЭК, жилищный сектор и автомобильный транспорт, – то при падении ВВП структурный фактор относительно замедляет снижение выбросов, а при росте ВВП, напротив, замедляет их рост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10" descr=""/>
          <p:cNvPicPr/>
          <p:nvPr/>
        </p:nvPicPr>
        <p:blipFill>
          <a:blip r:embed="rId2"/>
          <a:stretch/>
        </p:blipFill>
        <p:spPr>
          <a:xfrm>
            <a:off x="4286160" y="920880"/>
            <a:ext cx="4791240" cy="3744720"/>
          </a:xfrm>
          <a:prstGeom prst="rect">
            <a:avLst/>
          </a:prstGeom>
          <a:ln w="0">
            <a:noFill/>
          </a:ln>
        </p:spPr>
      </p:pic>
      <p:sp>
        <p:nvSpPr>
          <p:cNvPr id="377" name="Заголовок 1"/>
          <p:cNvSpPr/>
          <p:nvPr/>
        </p:nvSpPr>
        <p:spPr>
          <a:xfrm>
            <a:off x="4910040" y="378000"/>
            <a:ext cx="3909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гральная оценка технического потенциала экономии энергии в России в 2015 г. (млн тут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Заголовок 1"/>
          <p:cNvSpPr/>
          <p:nvPr/>
        </p:nvSpPr>
        <p:spPr>
          <a:xfrm>
            <a:off x="174600" y="485640"/>
            <a:ext cx="4267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енциал повышения энергоэффективности в России в 2015 г. (млн тут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Прямоугольный треугольник 24"/>
          <p:cNvGrpSpPr/>
          <p:nvPr/>
        </p:nvGrpSpPr>
        <p:grpSpPr>
          <a:xfrm>
            <a:off x="420840" y="1006560"/>
            <a:ext cx="8454960" cy="2401920"/>
            <a:chOff x="420840" y="1006560"/>
            <a:chExt cx="8454960" cy="2401920"/>
          </a:xfrm>
        </p:grpSpPr>
        <p:pic>
          <p:nvPicPr>
            <p:cNvPr id="380" name="Прямоугольный треугольник 24" descr=""/>
            <p:cNvPicPr/>
            <p:nvPr/>
          </p:nvPicPr>
          <p:blipFill>
            <a:blip r:embed="rId1"/>
            <a:stretch/>
          </p:blipFill>
          <p:spPr>
            <a:xfrm>
              <a:off x="420840" y="1006560"/>
              <a:ext cx="84549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127160" y="2406600"/>
              <a:ext cx="42274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Прямая соединительная линия 3"/>
          <p:cNvSpPr/>
          <p:nvPr/>
        </p:nvSpPr>
        <p:spPr>
          <a:xfrm flipV="1">
            <a:off x="422280" y="2341440"/>
            <a:ext cx="8397720" cy="504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4"/>
          <p:cNvSpPr/>
          <p:nvPr/>
        </p:nvSpPr>
        <p:spPr>
          <a:xfrm>
            <a:off x="4275000" y="2536920"/>
            <a:ext cx="6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Arial"/>
              </a:rPr>
              <a:t>20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11"/>
          <p:cNvSpPr/>
          <p:nvPr/>
        </p:nvSpPr>
        <p:spPr>
          <a:xfrm>
            <a:off x="85680" y="24908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Arial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ая соединительная линия 12"/>
          <p:cNvSpPr/>
          <p:nvPr/>
        </p:nvSpPr>
        <p:spPr>
          <a:xfrm>
            <a:off x="422280" y="2171880"/>
            <a:ext cx="0" cy="2934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ая соединительная линия 14"/>
          <p:cNvSpPr/>
          <p:nvPr/>
        </p:nvSpPr>
        <p:spPr>
          <a:xfrm>
            <a:off x="4621320" y="2200320"/>
            <a:ext cx="0" cy="29376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18"/>
          <p:cNvSpPr/>
          <p:nvPr/>
        </p:nvSpPr>
        <p:spPr>
          <a:xfrm>
            <a:off x="7037280" y="2549520"/>
            <a:ext cx="6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Arial"/>
              </a:rPr>
              <a:t>20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ая соединительная линия 19"/>
          <p:cNvSpPr/>
          <p:nvPr/>
        </p:nvSpPr>
        <p:spPr>
          <a:xfrm>
            <a:off x="7345440" y="2200320"/>
            <a:ext cx="0" cy="29376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21"/>
          <p:cNvSpPr/>
          <p:nvPr/>
        </p:nvSpPr>
        <p:spPr>
          <a:xfrm>
            <a:off x="7345440" y="932040"/>
            <a:ext cx="1533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  <a:ea typeface="Arial"/>
              </a:rPr>
              <a:t>ЭТАП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III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 Narrow"/>
                <a:ea typeface="Arial"/>
              </a:rPr>
              <a:t>Введение системы регулирования выбросов парниковых газ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22"/>
          <p:cNvSpPr/>
          <p:nvPr/>
        </p:nvSpPr>
        <p:spPr>
          <a:xfrm>
            <a:off x="4586400" y="993600"/>
            <a:ext cx="2739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  <a:ea typeface="Arial"/>
              </a:rPr>
              <a:t>ЭТАП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II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 Narrow"/>
                <a:ea typeface="Arial"/>
              </a:rPr>
              <a:t>Стимулирование 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  <a:ea typeface="Arial"/>
              </a:rPr>
              <a:t>реализация мер повышения энергоэффектив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Box 23"/>
          <p:cNvSpPr/>
          <p:nvPr/>
        </p:nvSpPr>
        <p:spPr>
          <a:xfrm>
            <a:off x="2779560" y="1041480"/>
            <a:ext cx="187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  <a:ea typeface="Arial"/>
              </a:rPr>
              <a:t>ЭТАП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I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 Narrow"/>
                <a:ea typeface="Arial"/>
              </a:rPr>
              <a:t>Подготовка ме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оугольник 17"/>
          <p:cNvSpPr/>
          <p:nvPr/>
        </p:nvSpPr>
        <p:spPr>
          <a:xfrm>
            <a:off x="4705200" y="2557440"/>
            <a:ext cx="2541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инфраструктуры в тепло- и электроэнергети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25"/>
          <p:cNvSpPr/>
          <p:nvPr/>
        </p:nvSpPr>
        <p:spPr>
          <a:xfrm>
            <a:off x="384120" y="116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Arial Black"/>
                <a:ea typeface="Arial"/>
              </a:rPr>
              <a:t>СО</a:t>
            </a:r>
            <a:r>
              <a:rPr b="0" lang="ru-RU" sz="1400" spc="-1" strike="noStrike">
                <a:solidFill>
                  <a:srgbClr val="7f7f7f"/>
                </a:solidFill>
                <a:latin typeface="Arial Black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оугольник 32"/>
          <p:cNvSpPr/>
          <p:nvPr/>
        </p:nvSpPr>
        <p:spPr>
          <a:xfrm>
            <a:off x="4716360" y="2957400"/>
            <a:ext cx="272268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анка типовых проектов повышения энергоэффе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Прямоугольник 57"/>
          <p:cNvSpPr/>
          <p:nvPr/>
        </p:nvSpPr>
        <p:spPr>
          <a:xfrm>
            <a:off x="2798640" y="2805120"/>
            <a:ext cx="17877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езагрузка» госполитики в сфере повышения энергоэффектив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Государственной программы повышения энергоэффективности до 2030 год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тратегии низкоуглеродного развития до 2050 год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ая соединительная линия 61"/>
          <p:cNvSpPr/>
          <p:nvPr/>
        </p:nvSpPr>
        <p:spPr>
          <a:xfrm flipH="1">
            <a:off x="4586400" y="2874960"/>
            <a:ext cx="1440" cy="22813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Заголовок 6"/>
          <p:cNvSpPr/>
          <p:nvPr/>
        </p:nvSpPr>
        <p:spPr>
          <a:xfrm>
            <a:off x="384120" y="189000"/>
            <a:ext cx="8188560" cy="51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мероприятий обеспечения экономического роста с низким уровнем эмиссии парниковых газ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32"/>
          <p:cNvSpPr/>
          <p:nvPr/>
        </p:nvSpPr>
        <p:spPr>
          <a:xfrm>
            <a:off x="4748040" y="3341520"/>
            <a:ext cx="2487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генерации широкого диапазона мощностей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оугольник 32"/>
          <p:cNvSpPr/>
          <p:nvPr/>
        </p:nvSpPr>
        <p:spPr>
          <a:xfrm>
            <a:off x="4716360" y="3716280"/>
            <a:ext cx="280512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стемы сопоставления параметров энергоэффективности («бенчмаркинга»)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повышения энергетической эффективности в процессе капитального ремонта многоквартирных домов (далее – МКД), выплаты субсидий из бюджетов различного уровня на капитальный ремонт по энергоэффективным проектам …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национального плана адаптации к неблагоприятным изменениям климата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модели регулирования выбросов парниковых газов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20"/>
          <p:cNvSpPr/>
          <p:nvPr/>
        </p:nvSpPr>
        <p:spPr>
          <a:xfrm>
            <a:off x="2798640" y="2197080"/>
            <a:ext cx="0" cy="29376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2467080" y="2533680"/>
            <a:ext cx="66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Arial"/>
              </a:rPr>
              <a:t>20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оугольник 57"/>
          <p:cNvSpPr/>
          <p:nvPr/>
        </p:nvSpPr>
        <p:spPr>
          <a:xfrm>
            <a:off x="324000" y="2727360"/>
            <a:ext cx="229392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резидента Российской Федерации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от 4 июня 2008 г. № 889 «О некоторых мерах по повышению энергетической эффективности и экологической эффективности»;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роприятий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еспечению к 2020 году сокращения объема выбросов парниковых газов до уровня не более 75% объема указанных выбросов в 1990 году (распоряжение Правительства Российской Федерации от 2 апреля 2014 г. № 504-р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 апреля 2016 года Российской Федерацией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ано Парижское соглашение по климату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714240" y="1484280"/>
            <a:ext cx="7777440" cy="41767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2"/>
          <p:cNvSpPr/>
          <p:nvPr/>
        </p:nvSpPr>
        <p:spPr>
          <a:xfrm>
            <a:off x="65880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ноз динамики антропогенных выбросов ПГ во всех секторах как доля от уровня 1990 г. для «энергоэффективного сцена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тькин А.Н.</dc:creator>
  <dc:description/>
  <dc:language>en-US</dc:language>
  <cp:lastModifiedBy>FYN</cp:lastModifiedBy>
  <cp:lastPrinted>2016-11-15T08:34:32Z</cp:lastPrinted>
  <dcterms:modified xsi:type="dcterms:W3CDTF">2016-12-06T05:38:30Z</dcterms:modified>
  <cp:revision>555</cp:revision>
  <dc:subject/>
  <dc:title>Департамент стратегического управления, государственных программ и инвестиционных проектов</dc:title>
</cp:coreProperties>
</file>