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0" y="0"/>
            <a:ext cx="2930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828960" y="0"/>
            <a:ext cx="292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080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0" y="9442440"/>
            <a:ext cx="2930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7"/>
          </p:nvPr>
        </p:nvSpPr>
        <p:spPr>
          <a:xfrm>
            <a:off x="3828960" y="9442440"/>
            <a:ext cx="29210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CE50A-660A-437F-899A-F8DF379458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080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28960" y="9442440"/>
            <a:ext cx="2921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20657-8CB5-4F45-AF7E-74946EA268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A54F-BFFF-4458-917D-E3195713A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14AC-32F2-4E84-B83A-60C77E5B96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B589-51BE-48CD-8D0E-ADEF71DCE8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DE14-1F3D-4A3C-8679-7FBD192EF0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19F0-47EE-4821-AF83-C98789BEF4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0B81-D217-4319-A00B-A0C9BD35A3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9BB2-685E-4BC2-ABE9-3371FCA85D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15F1-28C9-4D24-BF14-F92902B0F6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FE5E-20D0-4085-8640-BB0A3600D7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CE58-C72D-45F1-BFFC-2ACA3E70BD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F7FA-CDC4-41D1-B4E9-3BBE7A28B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54E9-8035-40E1-8E42-01AFB84D28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783A-FA48-4E45-8672-44C57E1E5C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46AC-4734-4A2F-804E-03EC163A84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BB47-B756-4581-833C-8B31EBD66D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31B9-4980-46E7-9716-A58C2C3703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E165-5541-4CF3-B83B-4751AD3243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FF66-44DB-4274-BD31-4CA2D3018D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62A2-BFAB-4AD9-A06A-B8F8241B68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EF0D-E256-44EC-A7C6-74ED3CE4BB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DA82-5108-4BAB-A6D5-DEDF4ABE4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1867-E9A7-4D54-ADE5-A9FBDE3496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AC7A-57A5-44A1-84C0-F00BC8515D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DCD2-4166-43FE-AEEE-B22D264F8C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5339-B072-431D-8BBF-407A7E290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67E4-96F6-43AD-91CF-47B2719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223B0-F88F-4C63-BBA5-346C6A05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29A6A-8208-4D4C-97A1-14197C3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C462D-F390-4958-BD02-59DA5299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38A8-46A5-477B-9963-63EA235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EE4E2-F7C0-495D-B512-8EC4B3C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1138B-DA75-4CEF-8436-4C48533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42352-8496-455D-8365-BEADA8A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1E337-190C-4B7A-B105-5662454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8DC87-C35C-4D7A-B70A-5391367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59772-2B86-4DFA-99D7-6E214A0B0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CF53-27E0-43DB-BE7D-360D9CAD6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58A9-0EFC-4555-AE94-C347499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637-2E03-4400-82B2-EAF9B376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5B2-AFC7-4463-BE63-68FDB73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8AD5-A00E-4A85-B430-EC752E88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EFF8-3CAA-459F-B6B7-359AF9BD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9961-A614-49F2-A69E-E51B7C99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8A4B-2D25-4A5D-B073-25261CD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DBF-77B2-4E9B-B4F1-F483270C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781-361D-4165-B9C0-8E409E57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04F0-7600-4B21-B986-99E2742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E4CE-AA1B-4043-9561-0BA83A062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7A30-D279-4C52-B82D-9113DC236FC1}" type="slidenum">
              <a:rPr b="0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8C0E4-C31D-4A02-AB7F-C97B3BC3E5E1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77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2190600" y="191124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Num" idx="1"/>
          </p:nvPr>
        </p:nvSpPr>
        <p:spPr>
          <a:xfrm>
            <a:off x="6804000" y="6381360"/>
            <a:ext cx="2124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71954A-2E6D-4FC4-9F12-145247EF388C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92E0C-A087-4AB0-A8F5-B88ECE98FEAA}" type="slidenum">
              <a:rPr b="0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ldNum" idx="2"/>
          </p:nvPr>
        </p:nvSpPr>
        <p:spPr>
          <a:xfrm>
            <a:off x="6791400" y="6492960"/>
            <a:ext cx="21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9E92B4-2F30-4DFA-B8DB-5AABCEBB3811}" type="slidenum">
              <a:rPr b="0" lang="ru-RU" sz="2400" spc="-1" strike="noStrike">
                <a:solidFill>
                  <a:srgbClr val="ffffff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8DE64-3B9B-4311-815D-FC49334457E8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235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dt" idx="3"/>
          </p:nvPr>
        </p:nvSpPr>
        <p:spPr>
          <a:xfrm>
            <a:off x="6582960" y="612360"/>
            <a:ext cx="947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8.0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257800" y="612720"/>
            <a:ext cx="1325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4"/>
          </p:nvPr>
        </p:nvSpPr>
        <p:spPr>
          <a:xfrm>
            <a:off x="8174160" y="1080"/>
            <a:ext cx="752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D8B4993-EB51-4782-A0EC-1914A0BFF87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D36FB-A8DD-4817-AB7A-9487D1AD223F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277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5"/>
          </p:nvPr>
        </p:nvSpPr>
        <p:spPr>
          <a:xfrm>
            <a:off x="6586200" y="612360"/>
            <a:ext cx="947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8.0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52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AF3768-9418-4F8F-AAB7-54978F3B3F1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257800" y="612720"/>
            <a:ext cx="1325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81327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низкоуглеродного развития экономик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Заголовок 4"/>
          <p:cNvSpPr/>
          <p:nvPr/>
        </p:nvSpPr>
        <p:spPr>
          <a:xfrm>
            <a:off x="0" y="6093000"/>
            <a:ext cx="91393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324000" y="537372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директора Департамента государственного регулирования тарифов, инфраструктурных реформ и энергоэффективно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.Н. Фед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hart 1" descr=""/>
          <p:cNvPicPr/>
          <p:nvPr/>
        </p:nvPicPr>
        <p:blipFill>
          <a:blip r:embed="rId1"/>
          <a:stretch/>
        </p:blipFill>
        <p:spPr>
          <a:xfrm>
            <a:off x="201600" y="907920"/>
            <a:ext cx="8674200" cy="41767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690480" y="2708280"/>
            <a:ext cx="79455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г. 1991г. 1992г. 1993г. 1994г. 1995г. 1996г. 1997г. 1998г. 1999г. 2000г. 2001г. 2002г. 2003г. 2004г. 2005г. 2006г. 2007г. 2008г. 2009г. 2010г. 2011г.  2012г.  2013г.  2014г.  2015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4957920" y="509760"/>
            <a:ext cx="367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выбросов парниковых газов и ВВП России за период с 1990 по 2014 г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711360" y="333360"/>
            <a:ext cx="397188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8 года Россия продемонстрировала способность развивать экономику с минимальным приростом выбросов парниковых газ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3157560" y="4111560"/>
            <a:ext cx="5473800" cy="2573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250920" y="4365720"/>
            <a:ext cx="2808360" cy="137160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19080">
            <a:solidFill>
              <a:srgbClr val="00cc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осы ПГ от энергетического сектора в 2015 г. были ниже уровня 1990 г. на 29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сжигания топлива снизились на 39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мышлен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%, от сельскохозяйственной деятельности – на 6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12"/>
          <p:cNvSpPr/>
          <p:nvPr/>
        </p:nvSpPr>
        <p:spPr>
          <a:xfrm>
            <a:off x="3059280" y="3754440"/>
            <a:ext cx="575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антропогенных выбросов парниковых газов из всех источников в России с 1990 по 2015 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690480" y="333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оле низкоэмиссионных технологий в электроэнергетике Россия существенно опережает остальные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Диаграмма 2" descr=""/>
          <p:cNvPicPr/>
          <p:nvPr/>
        </p:nvPicPr>
        <p:blipFill>
          <a:blip r:embed="rId1"/>
          <a:stretch/>
        </p:blipFill>
        <p:spPr>
          <a:xfrm>
            <a:off x="1582560" y="1608120"/>
            <a:ext cx="6197760" cy="49258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2195640" y="4508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220920" y="3270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3220920" y="4179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198520" y="1751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124000" y="20271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5,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2174760" y="2492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2195640" y="3633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292640" y="2033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4284720" y="238608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4284720" y="276552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4284720" y="337824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15"/>
          <p:cNvSpPr/>
          <p:nvPr/>
        </p:nvSpPr>
        <p:spPr>
          <a:xfrm>
            <a:off x="6388200" y="35226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16"/>
          <p:cNvSpPr/>
          <p:nvPr/>
        </p:nvSpPr>
        <p:spPr>
          <a:xfrm>
            <a:off x="5349960" y="3503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17"/>
          <p:cNvSpPr/>
          <p:nvPr/>
        </p:nvSpPr>
        <p:spPr>
          <a:xfrm>
            <a:off x="4275000" y="4071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8"/>
          <p:cNvSpPr/>
          <p:nvPr/>
        </p:nvSpPr>
        <p:spPr>
          <a:xfrm>
            <a:off x="6383160" y="1968480"/>
            <a:ext cx="3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3*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5349960" y="2075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1*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21"/>
          <p:cNvSpPr/>
          <p:nvPr/>
        </p:nvSpPr>
        <p:spPr>
          <a:xfrm>
            <a:off x="5329080" y="24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6388200" y="223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3"/>
          <p:cNvSpPr/>
          <p:nvPr/>
        </p:nvSpPr>
        <p:spPr>
          <a:xfrm>
            <a:off x="2021040" y="5877000"/>
            <a:ext cx="40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* Для стран Индии и Китая представлен общий % по АЭС, ГЭС и ВИЭ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ятиугольник 24"/>
          <p:cNvSpPr/>
          <p:nvPr/>
        </p:nvSpPr>
        <p:spPr>
          <a:xfrm>
            <a:off x="395280" y="1098720"/>
            <a:ext cx="1440000" cy="9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4142" y="0"/>
                </a:lnTo>
                <a:lnTo>
                  <a:pt x="21600" y="10800"/>
                </a:lnTo>
                <a:lnTo>
                  <a:pt x="14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технологий с низким выбросом С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3168720" y="1438200"/>
            <a:ext cx="43956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Овал 26"/>
          <p:cNvSpPr/>
          <p:nvPr/>
        </p:nvSpPr>
        <p:spPr>
          <a:xfrm>
            <a:off x="4205160" y="1438200"/>
            <a:ext cx="43812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Овал 27"/>
          <p:cNvSpPr/>
          <p:nvPr/>
        </p:nvSpPr>
        <p:spPr>
          <a:xfrm>
            <a:off x="5272200" y="1438200"/>
            <a:ext cx="43812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Овал 28"/>
          <p:cNvSpPr/>
          <p:nvPr/>
        </p:nvSpPr>
        <p:spPr>
          <a:xfrm>
            <a:off x="6348240" y="1438200"/>
            <a:ext cx="43848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29"/>
          <p:cNvSpPr/>
          <p:nvPr/>
        </p:nvSpPr>
        <p:spPr>
          <a:xfrm>
            <a:off x="2163600" y="1438200"/>
            <a:ext cx="438480" cy="31284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0"/>
          <p:cNvSpPr/>
          <p:nvPr/>
        </p:nvSpPr>
        <p:spPr>
          <a:xfrm>
            <a:off x="1590840" y="1093680"/>
            <a:ext cx="63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выработки электроэнергии в России и некоторых странах в 2015 го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стасия Алексеевна 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ishenok@expo-elektra.ru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324000" y="333360"/>
            <a:ext cx="88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лучения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9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лрд. евро экономии в период с 2015 по 2035 год необходимы инвестиции в размере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лрд. евро </a:t>
            </a:r>
            <a:br>
              <a:rPr sz="12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8" descr=""/>
          <p:cNvPicPr/>
          <p:nvPr/>
        </p:nvPicPr>
        <p:blipFill>
          <a:blip r:embed="rId1"/>
          <a:stretch/>
        </p:blipFill>
        <p:spPr>
          <a:xfrm>
            <a:off x="609480" y="1052640"/>
            <a:ext cx="7983720" cy="3782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0"/>
          <p:cNvSpPr/>
          <p:nvPr/>
        </p:nvSpPr>
        <p:spPr>
          <a:xfrm>
            <a:off x="117360" y="4835520"/>
            <a:ext cx="734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RussianRail G Pro Medium"/>
              </a:rPr>
              <a:t>Рентабельные инвести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73160" y="5145120"/>
            <a:ext cx="8797680" cy="1127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Ежегодные инвестиции для реализации рентабельных мер в течение следующих 20 лет потребуют ежегодно 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6 млрд.  ев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Для сравнения: объем ожидаемых совокупных инвестиций в экономику России (2015-2035 годы) составит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00-300 млрд. евро</a:t>
            </a: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Таким образом, реализация рентабельных мер по повышению  энергоэффективности приведет к увеличению или перераспределению около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-3%</a:t>
            </a:r>
            <a:r>
              <a:rPr b="1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от всего объема инвестиций в экономику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19080" y="909720"/>
            <a:ext cx="4360680" cy="374328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324000" y="333360"/>
            <a:ext cx="88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324000" y="4797360"/>
            <a:ext cx="8351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 роста выбросов ПГ, порождаемый экономическим ростом, был нейтрализован рядом факторов, которые их снижали: структурные сдвиги в экономике обеспечили 68% такого снижения, снижение удельных выбросов ПГ на единицу энергии за счет роста доли использования природного газа, электроэнергии АЭС и ГЭС – еще 4%; повышение энергоэффективности – 9%; рост загрузки производственных мощностей – 2%, а ценовой фактор – 1%. Поскольку основными источниками выбросов ПГ являются сектора, слабо подверженные циклическим колебаниям экономической конъюнктуры, – отрасли ТЭК, жилищный сектор и автомобильный транспорт, – то при падении ВВП структурный фактор относительно замедляет снижение выбросов, а при росте ВВП, напротив, замедляет их рос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10" descr=""/>
          <p:cNvPicPr/>
          <p:nvPr/>
        </p:nvPicPr>
        <p:blipFill>
          <a:blip r:embed="rId2"/>
          <a:stretch/>
        </p:blipFill>
        <p:spPr>
          <a:xfrm>
            <a:off x="4286160" y="920880"/>
            <a:ext cx="4791240" cy="3744720"/>
          </a:xfrm>
          <a:prstGeom prst="rect">
            <a:avLst/>
          </a:prstGeom>
          <a:ln w="0">
            <a:noFill/>
          </a:ln>
        </p:spPr>
      </p:pic>
      <p:sp>
        <p:nvSpPr>
          <p:cNvPr id="377" name="Заголовок 1"/>
          <p:cNvSpPr/>
          <p:nvPr/>
        </p:nvSpPr>
        <p:spPr>
          <a:xfrm>
            <a:off x="4910040" y="378000"/>
            <a:ext cx="3909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льная оценка технического потенциала экономии энергии в России в 2015 г. (млн тут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174600" y="485640"/>
            <a:ext cx="426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нциал повышения энергоэффективности в России в 2015 г. (млн тут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Прямоугольный треугольник 24"/>
          <p:cNvGrpSpPr/>
          <p:nvPr/>
        </p:nvGrpSpPr>
        <p:grpSpPr>
          <a:xfrm>
            <a:off x="420840" y="1006560"/>
            <a:ext cx="8454960" cy="2401920"/>
            <a:chOff x="420840" y="1006560"/>
            <a:chExt cx="8454960" cy="2401920"/>
          </a:xfrm>
        </p:grpSpPr>
        <p:pic>
          <p:nvPicPr>
            <p:cNvPr id="380" name="Прямоугольный треугольник 24" descr=""/>
            <p:cNvPicPr/>
            <p:nvPr/>
          </p:nvPicPr>
          <p:blipFill>
            <a:blip r:embed="rId1"/>
            <a:stretch/>
          </p:blipFill>
          <p:spPr>
            <a:xfrm>
              <a:off x="420840" y="1006560"/>
              <a:ext cx="84549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127160" y="2406600"/>
              <a:ext cx="42274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Прямая соединительная линия 3"/>
          <p:cNvSpPr/>
          <p:nvPr/>
        </p:nvSpPr>
        <p:spPr>
          <a:xfrm flipV="1">
            <a:off x="422280" y="2341440"/>
            <a:ext cx="8397720" cy="504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4275000" y="2536920"/>
            <a:ext cx="6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85680" y="24908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12"/>
          <p:cNvSpPr/>
          <p:nvPr/>
        </p:nvSpPr>
        <p:spPr>
          <a:xfrm>
            <a:off x="422280" y="2171880"/>
            <a:ext cx="0" cy="2934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14"/>
          <p:cNvSpPr/>
          <p:nvPr/>
        </p:nvSpPr>
        <p:spPr>
          <a:xfrm>
            <a:off x="4621320" y="220032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7037280" y="2549520"/>
            <a:ext cx="6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19"/>
          <p:cNvSpPr/>
          <p:nvPr/>
        </p:nvSpPr>
        <p:spPr>
          <a:xfrm>
            <a:off x="7345440" y="220032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7345440" y="932040"/>
            <a:ext cx="153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I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Введение системы регулирования выбросов парниковых га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4586400" y="993600"/>
            <a:ext cx="2739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Стимулирование 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реализация мер повышения энергоэффектив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23"/>
          <p:cNvSpPr/>
          <p:nvPr/>
        </p:nvSpPr>
        <p:spPr>
          <a:xfrm>
            <a:off x="2779560" y="1041480"/>
            <a:ext cx="18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м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7"/>
          <p:cNvSpPr/>
          <p:nvPr/>
        </p:nvSpPr>
        <p:spPr>
          <a:xfrm>
            <a:off x="4705200" y="2557440"/>
            <a:ext cx="2541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инфраструктуры в тепло- и электроэнергети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25"/>
          <p:cNvSpPr/>
          <p:nvPr/>
        </p:nvSpPr>
        <p:spPr>
          <a:xfrm>
            <a:off x="384120" y="116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Arial Black"/>
                <a:ea typeface="Arial"/>
              </a:rPr>
              <a:t>СО</a:t>
            </a:r>
            <a:r>
              <a:rPr b="0" lang="ru-RU" sz="1400" spc="-1" strike="noStrike">
                <a:solidFill>
                  <a:srgbClr val="7f7f7f"/>
                </a:solidFill>
                <a:latin typeface="Arial Black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32"/>
          <p:cNvSpPr/>
          <p:nvPr/>
        </p:nvSpPr>
        <p:spPr>
          <a:xfrm>
            <a:off x="4716360" y="2957400"/>
            <a:ext cx="27226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анка типовых проектов повышения энерго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57"/>
          <p:cNvSpPr/>
          <p:nvPr/>
        </p:nvSpPr>
        <p:spPr>
          <a:xfrm>
            <a:off x="2798640" y="2805120"/>
            <a:ext cx="17877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езагрузка» госполитики в сфере повышения энергоэффектив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Государственной программы повышения энергоэффективности до 2030 год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ратегии низкоуглеродного развития до 2050 год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61"/>
          <p:cNvSpPr/>
          <p:nvPr/>
        </p:nvSpPr>
        <p:spPr>
          <a:xfrm flipH="1">
            <a:off x="4586400" y="2874960"/>
            <a:ext cx="1440" cy="22813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Заголовок 6"/>
          <p:cNvSpPr/>
          <p:nvPr/>
        </p:nvSpPr>
        <p:spPr>
          <a:xfrm>
            <a:off x="384120" y="189000"/>
            <a:ext cx="8188560" cy="51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мероприятий обеспечения экономического роста с низким уровнем эмиссии парниковых газ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32"/>
          <p:cNvSpPr/>
          <p:nvPr/>
        </p:nvSpPr>
        <p:spPr>
          <a:xfrm>
            <a:off x="4748040" y="3341520"/>
            <a:ext cx="248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генерации широкого диапазона мощностей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32"/>
          <p:cNvSpPr/>
          <p:nvPr/>
        </p:nvSpPr>
        <p:spPr>
          <a:xfrm>
            <a:off x="4716360" y="3716280"/>
            <a:ext cx="280512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сопоставления параметров энергоэффективности («бенчмаркинга»)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овышения энергетической эффективности в процессе капитального ремонта многоквартирных домов (далее – МКД), выплаты субсидий из бюджетов различного уровня на капитальный ремонт по энергоэффективным проектам 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ационального плана адаптации к неблагоприятным изменениям климата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регулирования выбросов парниковых газов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>
            <a:off x="2798640" y="219708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2467080" y="2533680"/>
            <a:ext cx="6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57"/>
          <p:cNvSpPr/>
          <p:nvPr/>
        </p:nvSpPr>
        <p:spPr>
          <a:xfrm>
            <a:off x="324000" y="2727360"/>
            <a:ext cx="229392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т 4 июня 2008 г. № 889 «О некоторых мерах по повышению энергетической эффективности и экологической эффективности»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еспечению к 2020 году сокращения объема выбросов парниковых газов до уровня не более 75% объема указанных выбросов в 1990 году (распоряжение Правительства Российской Федерации от 2 апреля 2014 г. № 504-р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 апреля 2016 года Российской Федерацие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о Парижское соглашение по климату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714240" y="1484280"/>
            <a:ext cx="7777440" cy="41767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65880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 динамики антропогенных выбросов ПГ во всех секторах как доля от уровня 1990 г. для «энергоэффективного сцена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тькин А.Н.</dc:creator>
  <dc:description/>
  <dc:language>en-US</dc:language>
  <cp:lastModifiedBy>FYN</cp:lastModifiedBy>
  <cp:lastPrinted>2016-11-15T08:34:32Z</cp:lastPrinted>
  <dcterms:modified xsi:type="dcterms:W3CDTF">2016-12-06T05:38:30Z</dcterms:modified>
  <cp:revision>555</cp:revision>
  <dc:subject/>
  <dc:title>Департамент стратегического управления, государственных программ и инвестиционных проектов</dc:title>
</cp:coreProperties>
</file>