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A45-8D51-48EF-9426-846D175AB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C9A-8F9E-4256-88F3-CD05FB40A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FB5-E04E-4608-A661-3D4E63DE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E38-C1BD-4192-8C2E-F1A1B0C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EC3-575E-4B4C-AC75-F301FE89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A15-C620-4F7B-A46F-15474B8D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51C5-2899-42BD-8956-7B2E7A02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33E7-48A6-429C-A92F-2F64ACF8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B88-848B-43A1-AD85-67DC23E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40D-870F-4CFE-A9DB-63F3A08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6EDC-83E0-4CF2-A7B0-4458E07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78D8-3D6B-4C87-AA7A-38164B0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0AAA-CFFD-4956-9782-9E9DA61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7BC-B41D-48D8-86BA-BD0D804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E8A0-8983-42EE-A878-3B3C1AB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37E-D8EB-48AE-AAB5-1CAE140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6C0F-CCA7-4A0B-8AF6-1DA2657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35C7-FA71-47EA-B174-24C94132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1E0-6F03-4106-88AD-A88FE25E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1E447-D09F-4789-A736-B6454C4E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47FA2-5869-46E7-B9CE-5C567E3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0FD4A-8AF4-4CD2-AC04-456483EE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C95F-7B25-4121-B171-8B4860D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86382-4192-4C73-8AA0-52575F7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F37-6F0D-410E-9CD1-B2CFE36F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151D0-03CF-4D47-8CBD-D6B2B6D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EF40E-EDA4-42EB-9D77-EAC1837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C0448-A17E-435E-9285-6D8BEE5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2BDDE-778F-4C54-9A88-1079786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B5E73-82E3-43DB-B3AD-3AF8C1D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09B51-6B8F-4CEE-94F9-95310488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ACCC7-8D67-4760-B391-9D2257E7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8B91-6710-420D-86B5-C62BEAE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AEF7-5781-4111-B6F5-3FA6D44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7B02-5937-4EE3-8D9C-5E39BDA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A28-A344-407C-823E-3FE3E26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9918-0E16-4AFA-B87B-65640C2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43A2-451E-48BC-A158-B649783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2E4F-E8AB-4A66-8505-A0FDA54B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C35E-1991-496E-890D-55E5A85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3D6D-975C-4AAD-B16A-697818F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2EFE-7D11-4183-B560-C52783B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B193D-5E97-4697-A08C-8BB5B3F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4E0E-FEED-4F30-A146-F3434112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C882-DA00-4A10-A070-89F62AEC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E3FCA-4A0D-4455-8012-3CEA96AB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2CB-993C-424F-A8C4-D1FA256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AB704-C20D-47F8-94EB-ACD6E3F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89F08C-AEC0-4EA5-8203-800BAB8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1C7966-AA49-406D-BF00-68824E5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D89AE4-2649-4751-A999-4C65E00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FB2FC-B8F9-4270-A14C-2E8D35D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2A957-1249-4880-9C4C-30640DB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EA588-848C-4946-A72B-B3F8819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72F90-98E0-4657-B096-858B84D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DA771-896F-4D4A-B53A-5F9D542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B9657-97AB-46DB-96DA-68C32049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2DE-7041-4919-9ED3-1267F360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2820E-1D8F-4CCF-977F-7E3F1E9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37A-5D16-4DC2-BAD7-5FB7C90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E11-31BD-4857-8723-E3AA374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A79-5A21-431B-BE59-E633694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1EE6-DDBA-46AE-B7E3-37B4C59D639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460-633F-4CF4-89FF-91E85EE413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AAE-BB84-4E81-B9D1-B58D041CFC9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186-0FB1-4C17-AFD2-3EE6DB487A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 flipV="1">
            <a:off x="949320" y="6371280"/>
            <a:ext cx="10858680" cy="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6372360"/>
            <a:ext cx="11802960" cy="4856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nettore 1 13"/>
          <p:cNvSpPr/>
          <p:nvPr/>
        </p:nvSpPr>
        <p:spPr>
          <a:xfrm flipH="1">
            <a:off x="0" y="6315120"/>
            <a:ext cx="11802960" cy="0"/>
          </a:xfrm>
          <a:prstGeom prst="line">
            <a:avLst/>
          </a:prstGeom>
          <a:ln w="19080">
            <a:solidFill>
              <a:srgbClr val="6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3"/>
          </p:nvPr>
        </p:nvSpPr>
        <p:spPr>
          <a:xfrm>
            <a:off x="11073960" y="297000"/>
            <a:ext cx="73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9E3-D1CD-4A0C-AAB8-D0EA8737025A}" type="slidenum">
              <a:rPr b="0" lang="it-IT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4"/>
          </p:nvPr>
        </p:nvSpPr>
        <p:spPr>
          <a:xfrm>
            <a:off x="9771120" y="6451560"/>
            <a:ext cx="202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15 May 20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5"/>
          </p:nvPr>
        </p:nvSpPr>
        <p:spPr>
          <a:xfrm>
            <a:off x="1693440" y="6451560"/>
            <a:ext cx="7939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E-waste Academy - Managers Editions.       Moscow 15 - 19 May 20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4138560"/>
            <a:ext cx="1123308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rebuchet MS"/>
              </a:rPr>
              <a:t>Опасные вещества в составе отходов электронного и электротехнического оборудования. Особенности обращения.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9" name="Рисунок 4" descr="АПЭТ лого 1.png"/>
          <p:cNvPicPr/>
          <p:nvPr/>
        </p:nvPicPr>
        <p:blipFill>
          <a:blip r:embed="rId2"/>
          <a:stretch/>
        </p:blipFill>
        <p:spPr>
          <a:xfrm>
            <a:off x="8150400" y="558720"/>
            <a:ext cx="3336840" cy="210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80" name="Заголовок 1"/>
          <p:cNvSpPr/>
          <p:nvPr/>
        </p:nvSpPr>
        <p:spPr>
          <a:xfrm>
            <a:off x="3187800" y="5823000"/>
            <a:ext cx="8310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, Директор Ассоциации переработчиков электронной и электробытовой техники, национальный координатор ЮНИ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Unido_logo_white.eps"/>
          <p:cNvPicPr/>
          <p:nvPr/>
        </p:nvPicPr>
        <p:blipFill>
          <a:blip r:embed="rId3"/>
          <a:stretch/>
        </p:blipFill>
        <p:spPr>
          <a:xfrm>
            <a:off x="461880" y="515880"/>
            <a:ext cx="2328840" cy="1981080"/>
          </a:xfrm>
          <a:prstGeom prst="rect">
            <a:avLst/>
          </a:prstGeom>
          <a:ln w="0">
            <a:noFill/>
          </a:ln>
        </p:spPr>
      </p:pic>
      <p:sp>
        <p:nvSpPr>
          <p:cNvPr id="282" name="Объект 2"/>
          <p:cNvSpPr/>
          <p:nvPr/>
        </p:nvSpPr>
        <p:spPr>
          <a:xfrm>
            <a:off x="206280" y="6354720"/>
            <a:ext cx="36892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2 марта 201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566640" y="1596960"/>
            <a:ext cx="114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аиболее серьезные риски неблагоприятного воздействия на экологию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хоронение компонентов и материалов, содержащих опасные вещества на свалках и полигон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уществует серьезный риск образования вредных веществ при неконтролируемом горении на свалках и полиг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9320" y="61560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dd9"/>
                </a:solidFill>
                <a:latin typeface="Trebuchet MS"/>
              </a:rPr>
              <a:t>Официальный и неофициальный подход к управлению электронными отходами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6" name="Segnaposto numero diapositiva 3"/>
          <p:cNvSpPr/>
          <p:nvPr/>
        </p:nvSpPr>
        <p:spPr>
          <a:xfrm>
            <a:off x="9829800" y="2970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data 4"/>
          <p:cNvSpPr/>
          <p:nvPr/>
        </p:nvSpPr>
        <p:spPr>
          <a:xfrm>
            <a:off x="11074320" y="297000"/>
            <a:ext cx="73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5 Ma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egnaposto piè di pagina 5"/>
          <p:cNvSpPr/>
          <p:nvPr/>
        </p:nvSpPr>
        <p:spPr>
          <a:xfrm>
            <a:off x="9771120" y="6451560"/>
            <a:ext cx="202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E-waste Academy - Managers Editions.       Moscow 15 - 19 May 2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uppo 10"/>
          <p:cNvGrpSpPr/>
          <p:nvPr/>
        </p:nvGrpSpPr>
        <p:grpSpPr>
          <a:xfrm>
            <a:off x="1441440" y="1646280"/>
            <a:ext cx="4308480" cy="2700360"/>
            <a:chOff x="1441440" y="1646280"/>
            <a:chExt cx="4308480" cy="2700360"/>
          </a:xfrm>
        </p:grpSpPr>
        <p:pic>
          <p:nvPicPr>
            <p:cNvPr id="360" name="Picture 2" descr="Scenario 1.jpg"/>
            <p:cNvPicPr/>
            <p:nvPr/>
          </p:nvPicPr>
          <p:blipFill>
            <a:blip r:embed="rId1"/>
            <a:stretch/>
          </p:blipFill>
          <p:spPr>
            <a:xfrm>
              <a:off x="1441440" y="1646280"/>
              <a:ext cx="430848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CasellaDiTesto 8"/>
            <p:cNvGrpSpPr/>
            <p:nvPr/>
          </p:nvGrpSpPr>
          <p:grpSpPr>
            <a:xfrm>
              <a:off x="2608920" y="1700640"/>
              <a:ext cx="2807280" cy="603360"/>
              <a:chOff x="2608920" y="1700640"/>
              <a:chExt cx="2807280" cy="603360"/>
            </a:xfrm>
          </p:grpSpPr>
          <p:pic>
            <p:nvPicPr>
              <p:cNvPr id="362" name="CasellaDiTesto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08920" y="1700640"/>
                <a:ext cx="27982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2617200" y="1761840"/>
                <a:ext cx="279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Georgia"/>
                  </a:rPr>
                  <a:t>Официальная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uppo 11"/>
          <p:cNvGrpSpPr/>
          <p:nvPr/>
        </p:nvGrpSpPr>
        <p:grpSpPr>
          <a:xfrm>
            <a:off x="5956200" y="1646280"/>
            <a:ext cx="4753080" cy="2700360"/>
            <a:chOff x="5956200" y="1646280"/>
            <a:chExt cx="4753080" cy="2700360"/>
          </a:xfrm>
        </p:grpSpPr>
        <p:pic>
          <p:nvPicPr>
            <p:cNvPr id="365" name="Picture 2" descr="Scenario 4.jpg"/>
            <p:cNvPicPr/>
            <p:nvPr/>
          </p:nvPicPr>
          <p:blipFill>
            <a:blip r:embed="rId3"/>
            <a:stretch/>
          </p:blipFill>
          <p:spPr>
            <a:xfrm>
              <a:off x="5956200" y="1646280"/>
              <a:ext cx="475308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CasellaDiTesto 9"/>
            <p:cNvGrpSpPr/>
            <p:nvPr/>
          </p:nvGrpSpPr>
          <p:grpSpPr>
            <a:xfrm>
              <a:off x="7162560" y="1700640"/>
              <a:ext cx="3067200" cy="603360"/>
              <a:chOff x="7162560" y="1700640"/>
              <a:chExt cx="3067200" cy="603360"/>
            </a:xfrm>
          </p:grpSpPr>
          <p:pic>
            <p:nvPicPr>
              <p:cNvPr id="367" name="CasellaDiTesto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2560" y="1700640"/>
                <a:ext cx="304812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164000" y="1761840"/>
                <a:ext cx="306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Georgia"/>
                  </a:rPr>
                  <a:t>Неофициальная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 txBox="1"/>
          <p:nvPr/>
        </p:nvSpPr>
        <p:spPr>
          <a:xfrm>
            <a:off x="1731600" y="4395600"/>
            <a:ext cx="3809880" cy="1882440"/>
          </a:xfrm>
          <a:prstGeom prst="rect">
            <a:avLst/>
          </a:prstGeom>
          <a:noFill/>
          <a:ln w="38160">
            <a:solidFill>
              <a:srgbClr val="7cca62"/>
            </a:solidFill>
            <a:prstDash val="sysDash"/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правление электронными отходами на основании условий ЭМС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быль против  экологических аспектов и здоровья, не связанных между собой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вные услов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Segnaposto contenuto 2"/>
          <p:cNvSpPr/>
          <p:nvPr/>
        </p:nvSpPr>
        <p:spPr>
          <a:xfrm>
            <a:off x="6172200" y="4381560"/>
            <a:ext cx="3811680" cy="1882800"/>
          </a:xfrm>
          <a:prstGeom prst="rect">
            <a:avLst/>
          </a:prstGeom>
          <a:noFill/>
          <a:ln w="38160">
            <a:solidFill>
              <a:srgbClr val="a5c24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Фокус на материалах, имеющих ц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Потеря критических металлов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низкая концентрация, отсутствие технолог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Сильные социальные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Барьер для официальных игроков, несправедливая конкуре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Заголовок 1"/>
          <p:cNvSpPr/>
          <p:nvPr/>
        </p:nvSpPr>
        <p:spPr>
          <a:xfrm>
            <a:off x="1295280" y="703440"/>
            <a:ext cx="9490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17b"/>
                </a:solidFill>
                <a:uFillTx/>
                <a:latin typeface="Trebuchet MS"/>
              </a:rPr>
              <a:t>Региональ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8" descr="unido logo.bmp"/>
          <p:cNvPicPr/>
          <p:nvPr/>
        </p:nvPicPr>
        <p:blipFill>
          <a:blip r:embed="rId1"/>
          <a:stretch/>
        </p:blipFill>
        <p:spPr>
          <a:xfrm>
            <a:off x="318960" y="457200"/>
            <a:ext cx="1073160" cy="961920"/>
          </a:xfrm>
          <a:prstGeom prst="rect">
            <a:avLst/>
          </a:prstGeom>
          <a:ln w="0">
            <a:noFill/>
          </a:ln>
        </p:spPr>
      </p:pic>
      <p:sp>
        <p:nvSpPr>
          <p:cNvPr id="373" name="Заголовок 1"/>
          <p:cNvSpPr/>
          <p:nvPr/>
        </p:nvSpPr>
        <p:spPr>
          <a:xfrm>
            <a:off x="1014480" y="1515960"/>
            <a:ext cx="1061244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Trebuchet MS"/>
              </a:rPr>
              <a:t>Межправительственное соглашение стран СНГ по электронным отход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rebuchet MS"/>
              </a:rPr>
              <a:t>Создание правовых, технологических и организационных условий в странах-участницах для предотвращения попадания вредных веществ из ОЭЭО на свалки и полигоны и, одновременно, для извлечения из них максимального уровня полезных веществ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rebuchet MS"/>
              </a:rPr>
              <a:t>Проект соглашения прошел предварительные стадии согласования. Ожидается подписание летом 2018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бъект 2"/>
          <p:cNvSpPr/>
          <p:nvPr/>
        </p:nvSpPr>
        <p:spPr>
          <a:xfrm>
            <a:off x="3354480" y="182880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Спасибо за внима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бъект 2"/>
          <p:cNvSpPr/>
          <p:nvPr/>
        </p:nvSpPr>
        <p:spPr>
          <a:xfrm>
            <a:off x="784080" y="3419640"/>
            <a:ext cx="678024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Директор АПЭТ, национальный координатор ЮНИД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+7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91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197 95 0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-mail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weeerecyclers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URL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weeerecycler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723600"/>
            <a:ext cx="9872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Отходы электронного и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электротехнического оборудования в России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5" name="Рисунок 3" descr="unido logo.bmp"/>
          <p:cNvPicPr/>
          <p:nvPr/>
        </p:nvPicPr>
        <p:blipFill>
          <a:blip r:embed="rId1"/>
          <a:stretch/>
        </p:blipFill>
        <p:spPr>
          <a:xfrm>
            <a:off x="318960" y="468360"/>
            <a:ext cx="1049400" cy="960480"/>
          </a:xfrm>
          <a:prstGeom prst="rect">
            <a:avLst/>
          </a:prstGeom>
          <a:ln w="0">
            <a:noFill/>
          </a:ln>
        </p:spPr>
      </p:pic>
      <p:sp>
        <p:nvSpPr>
          <p:cNvPr id="286" name="Заголовок 1"/>
          <p:cNvSpPr/>
          <p:nvPr/>
        </p:nvSpPr>
        <p:spPr>
          <a:xfrm>
            <a:off x="871560" y="1717560"/>
            <a:ext cx="109393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Общая характеристика ситуаци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По экспертным оценкам в регионе образуется около 1,2 млн. тонн ОЭЭ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Собирается и перерабатывается около 5-8% ОЭЭО. Особенно низок уровень сбора ОЭЭО у населения. В РФ возврат техники в торговые точки осуществляется в рамках промокампаний сетевых торговых комп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Наличие предприятий, занимающихся переработкой ОЭЭО: Россия – около 8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Извлекаются главным образом наиболее ценные материалы (драгметаллы, черные и цветные металл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 (в т.ч. первого и второго класса опасности), как правило оказываются на полигонах и несанкционированных свалках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2"/>
          <a:stretch/>
        </p:blipFill>
        <p:spPr>
          <a:xfrm>
            <a:off x="10696680" y="506520"/>
            <a:ext cx="1206360" cy="750960"/>
          </a:xfrm>
          <a:prstGeom prst="rect">
            <a:avLst/>
          </a:prstGeom>
          <a:ln w="0">
            <a:noFill/>
          </a:ln>
        </p:spPr>
      </p:pic>
      <p:sp>
        <p:nvSpPr>
          <p:cNvPr id="288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100440" y="146052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98240" y="669600"/>
            <a:ext cx="952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Отходы электронного и электротехнического оборудования в странах СНГ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91" name="Рисунок 3" descr="unido logo.bmp"/>
          <p:cNvPicPr/>
          <p:nvPr/>
        </p:nvPicPr>
        <p:blipFill>
          <a:blip r:embed="rId1"/>
          <a:stretch/>
        </p:blipFill>
        <p:spPr>
          <a:xfrm>
            <a:off x="318960" y="468360"/>
            <a:ext cx="1049400" cy="960480"/>
          </a:xfrm>
          <a:prstGeom prst="rect">
            <a:avLst/>
          </a:prstGeom>
          <a:ln w="0">
            <a:noFill/>
          </a:ln>
        </p:spPr>
      </p:pic>
      <p:sp>
        <p:nvSpPr>
          <p:cNvPr id="292" name="Заголовок 1"/>
          <p:cNvSpPr/>
          <p:nvPr/>
        </p:nvSpPr>
        <p:spPr>
          <a:xfrm>
            <a:off x="811080" y="1920960"/>
            <a:ext cx="1063476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Общая характеристика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(продол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У юридических лиц собираются и перерабатываются относительно большие объемы компьютерной техники, ртутьсодержащих ла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В регионе отсутствуют мощности по переработке ряда опасных отходов из состава ОЭЭ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Практически не перерабатываются химические источники тока, нет мощностей по переработке свинецсодержащего стекла, по сжиганию хладонов, нет информации о переработке картридж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7. Большая часть пластиков из ОЭЭО вывозилась на переработку в Китай. Часть перерабатываетс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2"/>
          <a:stretch/>
        </p:blipFill>
        <p:spPr>
          <a:xfrm>
            <a:off x="10696680" y="506520"/>
            <a:ext cx="1206360" cy="750960"/>
          </a:xfrm>
          <a:prstGeom prst="rect">
            <a:avLst/>
          </a:prstGeom>
          <a:ln w="0">
            <a:noFill/>
          </a:ln>
        </p:spPr>
      </p:pic>
      <p:sp>
        <p:nvSpPr>
          <p:cNvPr id="29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 в мире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9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"/>
          <p:cNvSpPr/>
          <p:nvPr/>
        </p:nvSpPr>
        <p:spPr>
          <a:xfrm>
            <a:off x="125280" y="1459080"/>
            <a:ext cx="11833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новные тенденции развит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управления ОЭЭ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ервая директива ЕС по электронным отходам была принята в 2003 г. В ней были определены основные принципы обращения с ОЭЭО, сформулированы некоторые требования к перерабатывающим предприятиям. Одним из важнейших элементов было установление контрольных показателей по сбору от населения в 4 кг на человека в год. Были также перечислены опасные вещества и компоненты, подлежащие обязательному удалению из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 ЕС в 2012 году принята 2-я директива по ОЭЭО. В отличие от первой директивы по ОЭЭО в ней уже ставятся контрольные показатели не только по объемам сбора (65% с 2019 г), но и по переработке (до 80% по некоторым видам товаров)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а – обеспечить максимальное вовлечение извлекаемых из ОЭЭО вторичных материальных ресурсов в производство.  Именно эта задача, определяет пути дальнейшего развития обращения с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Содержание ценных фракций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19320" y="1523880"/>
          <a:ext cx="9656640" cy="4403880"/>
        </p:xfrm>
        <a:graphic>
          <a:graphicData uri="http://schemas.openxmlformats.org/drawingml/2006/table">
            <a:tbl>
              <a:tblPr/>
              <a:tblGrid>
                <a:gridCol w="2941560"/>
                <a:gridCol w="1631880"/>
                <a:gridCol w="1587600"/>
                <a:gridCol w="2006640"/>
                <a:gridCol w="148896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упная бытовая тех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лая бытовая тех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требительская электро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амп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ерный ме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юми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ви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дм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ту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алл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н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ромированный плас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лас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еклянные пан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ек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12" name="Прямоугольник 4"/>
          <p:cNvSpPr/>
          <p:nvPr/>
        </p:nvSpPr>
        <p:spPr>
          <a:xfrm>
            <a:off x="1398600" y="5948280"/>
            <a:ext cx="949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й состав некоторых видов электробытовой и компьютерной техники (%, Швейцарская федеральная лаборатория естественных наук и технологий (E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, содержащиеся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"/>
          <p:cNvSpPr/>
          <p:nvPr/>
        </p:nvSpPr>
        <p:spPr>
          <a:xfrm>
            <a:off x="512640" y="1876320"/>
            <a:ext cx="1105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ства, ведущие к уменьшению озонового сло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реоны в холодильниках, системах кондиционирования, увлажнителях и др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ихлорированные бифени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нцерогены, содержащиеся в конденсаторах многих устройст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яжелые метал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еклянные устройства, содержащие такие тяжелые металлы, как барий, стронций, свинец; кадмий, свинец в источниках тока, ртутьсодержащие осветительные приборы), накапливающиеся в организме и приводящие к серьезным нарушениям в деятельности различных органов организма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ромированные антипире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печатных платах или коннекторах и кабелях)  воздействуют на нервную систему, вызывают р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т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 литиевых, литий-ионных и литий-полимерных аккумуляторах) пожароопасен в виде чистого метал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ивинилхлор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изоляция проводов и кабелей) способствует возникновению заболеваний различных органов, в том числе рака; при сжигании образуются диоксины особо токсичные в любых до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, содержащиеся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"/>
          <p:cNvSpPr/>
          <p:nvPr/>
        </p:nvSpPr>
        <p:spPr>
          <a:xfrm>
            <a:off x="512640" y="1876320"/>
            <a:ext cx="11055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атареи (химические источники тока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ходятся во всех мобильных электронных и электротехнических товарах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тутьсодержащие компоненты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ыключатели, содержащие металлическую ртуть, лампы задней подсветк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онер-картридж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 копировально-множительной техникестеклянные устройства, содержащие такие тяжелые металлы, как барий, стронций, свинец; кадмий, свинец в источниках тока, ртутьсодержащие осветительные приборы), накапливающиеся в организме и приводящие к серьезным нарушениям в деятельности различных органов организма челове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нешние провод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часто содержа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еречисленные вещества и компоненты подлежат удалению из ОЭЭО в соответствии с директивой 2002/96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об ОЭЭО от 27.01.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"/>
          <p:cNvSpPr/>
          <p:nvPr/>
        </p:nvSpPr>
        <p:spPr>
          <a:xfrm>
            <a:off x="566640" y="1596960"/>
            <a:ext cx="11461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иды переработки ОЭЭ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едварительная разборка и сортировка отходов и их компонент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анный вид переработки занимает основное место в объеме операций, наибольшее число предприятий заняты именно им. В РФ более 70% предприятий ограничиваются разборкой и продажей ценных фракций (металлы, печатные платы, некоторые виды пласт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лубокая переработка ОЭЭО, извлечение полезных фр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Более глубокая переработка стоит сначала в обогащении фракций переработки, повышении содержания в них черных, цветных и драгоценных металлов. Полученные концентраты передаются на специализированные (металлургические, аффинажные) предприятия для извлечения собственно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учение энергии от сжигания сгораемых фр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остаточно распространено в некоторых странах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3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566640" y="1596960"/>
            <a:ext cx="11461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аиболее серьезные риски неблагоприятного воздействия на экологию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едварительная разборка и сортировка отходов и их компонент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звлечение тонера из картриджей; отсутствие практики сбора и последующего уничтожения хладагентов (фреоны попадают в атмосферу); работа без применения защитных средств с асбестом, другими видами волокнистых теплоизоля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лубокая переработка ОЭЭО, извлечение полезных фр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спользование кустарных методов извлечения драгоценных металлов с применением химических веществ, но без надлежащей очистки стоков; сжигание плат для получения драгоценных мет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учение энергии от сжигания сгораемых фр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остаточно распространено в некоторых странах Европы. Необходимо соблюдение технологических режимов, соответствующих филь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5:52Z</dcterms:created>
  <dc:creator>User</dc:creator>
  <dc:description/>
  <dc:language>en-US</dc:language>
  <cp:lastModifiedBy>Vladimir Komissarov</cp:lastModifiedBy>
  <dcterms:modified xsi:type="dcterms:W3CDTF">2018-03-02T05:16:14Z</dcterms:modified>
  <cp:revision>214</cp:revision>
  <dc:subject/>
  <dc:title>Презентация PowerPoint</dc:title>
</cp:coreProperties>
</file>