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703-4C0D-4979-88FF-B19F85EB49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43E-19DB-4D8F-B947-10094E745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AF5-6D84-4B07-84A0-B423EC02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5C6-F209-4024-9E48-736D423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4EB-22FD-473F-A519-A068054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36D-1D12-4B06-8920-F1C80439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18ED-3724-4AE7-B43D-57C4B24D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0F5-65E7-4E6A-8478-5F53577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AE67-EBEB-462C-AE3D-33B5CEF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39E-846F-42E1-9C08-5AC49EB5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587-1531-40BF-AC66-764A0E5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B689-3118-4D7D-92B1-AA006C1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098-8FBB-452D-9BFB-CEC1D70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8CE-D8F5-4B97-B703-FDD7F7B9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9188-A363-4C84-8927-2CED908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9CF6-9F65-4846-849C-62365F50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559-C18F-44DF-988B-C94C6B9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C7E-37DB-411D-91F6-329E8866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DA1F-1751-433A-8984-9BCBCB0C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8E056-BFE5-4839-BC62-A770D47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A65D8-BB3F-4E80-80B7-E8640682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7CB9C-F8D8-4B2F-A05F-C37D5132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B4979-9773-48BD-AB55-76B6DA07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D82D0-33E3-40D7-86C8-20651EE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A63-6E02-4C45-94CF-96007ED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6AA47-4A72-4FC2-B197-13959486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32593-2882-4ECE-A385-DEABAC9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C0099-F7F7-43AF-A4A6-596F653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89F5D-D78D-4174-AB25-25815A4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2D262-2278-406B-A627-76C05203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0C5A3-A6AD-4CBC-A1DA-CCBD40B8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ABA43-B473-4275-9AD7-24D0B619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9450-24B8-446F-B7AD-7623FBF2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0D10-2435-4133-A375-AFD6D43D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B8FB-EDFC-4D4B-BCA6-9BF38E99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443-06EB-470F-A242-7916367A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DA2A-6B61-4456-BD42-35CBFDFA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18A8-FF7C-415A-AC4D-871A67C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04DA-BE98-4A60-8215-623B9FD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0B03-3B04-49D9-9875-275378A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CD1F-8E82-4B4E-80F4-753824E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69C4-6921-4AB2-8865-578AAED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0E61-D04F-4D6F-B438-2E5E497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A6EE-FBAA-4555-9C44-23EEA896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95B4-C974-4F34-8868-A33B50A0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CA4B3-9F18-4118-8D94-E0C5B0F9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9B1-92DA-4723-8935-1663B57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520C3-6180-4319-9888-EF05C170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48613-6D7B-4D54-A890-5EAFCC5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43231-8D10-44B3-BC29-D9603F3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15835-AF01-4FE5-B264-CC0DC99D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C83E4-8974-4465-9DBA-39019A2E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74D53-0F28-431C-9AA9-9C074CD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168B4-7B9F-47D6-ACC2-D272A75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3ADC1-CE3F-4215-A5CD-EC914A1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B20B96-AC3D-4182-800E-30FA2E2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2B5FD4-476D-46D8-8F16-FD2438F2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FF2-964E-45E7-B4F5-CC267A4F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187D2-8070-4BDC-AF09-11156BD9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39D-E350-4B09-A05F-EDD0DD7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0C4-8F2C-464C-9BEF-7B1879E3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E2A-4692-4E64-A448-70AA61C4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AE98-D831-41BF-93EA-898BF1548E1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FE5-3A5E-489A-8834-A2336B5C56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9D8-547A-43AD-BE43-43F933BF959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2001-BC4F-4335-9EAB-E8AFC23E088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 flipV="1">
            <a:off x="949320" y="6371280"/>
            <a:ext cx="10858680" cy="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6372360"/>
            <a:ext cx="11802960" cy="4856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nettore 1 13"/>
          <p:cNvSpPr/>
          <p:nvPr/>
        </p:nvSpPr>
        <p:spPr>
          <a:xfrm flipH="1">
            <a:off x="0" y="6315120"/>
            <a:ext cx="11802960" cy="0"/>
          </a:xfrm>
          <a:prstGeom prst="line">
            <a:avLst/>
          </a:prstGeom>
          <a:ln w="19080">
            <a:solidFill>
              <a:srgbClr val="6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3"/>
          </p:nvPr>
        </p:nvSpPr>
        <p:spPr>
          <a:xfrm>
            <a:off x="11073960" y="297000"/>
            <a:ext cx="73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3EEC-F763-471C-B871-56B1913E90E2}" type="slidenum">
              <a:rPr b="0" lang="it-IT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4"/>
          </p:nvPr>
        </p:nvSpPr>
        <p:spPr>
          <a:xfrm>
            <a:off x="9771120" y="6451560"/>
            <a:ext cx="202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15 May 20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5"/>
          </p:nvPr>
        </p:nvSpPr>
        <p:spPr>
          <a:xfrm>
            <a:off x="1693440" y="6451560"/>
            <a:ext cx="7939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E-waste Academy - Managers Editions.       Moscow 15 - 19 May 20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4138560"/>
            <a:ext cx="1123308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rebuchet MS"/>
              </a:rPr>
              <a:t>Опасные вещества в составе отходов электронного и электротехнического оборудования. Особенности обращения.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9" name="Рисунок 4" descr="АПЭТ лого 1.png"/>
          <p:cNvPicPr/>
          <p:nvPr/>
        </p:nvPicPr>
        <p:blipFill>
          <a:blip r:embed="rId2"/>
          <a:stretch/>
        </p:blipFill>
        <p:spPr>
          <a:xfrm>
            <a:off x="8150400" y="558720"/>
            <a:ext cx="3336840" cy="210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80" name="Заголовок 1"/>
          <p:cNvSpPr/>
          <p:nvPr/>
        </p:nvSpPr>
        <p:spPr>
          <a:xfrm>
            <a:off x="3187800" y="5823000"/>
            <a:ext cx="8310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, Директор Ассоциации переработчиков электронной и электробытовой техники, национальный координатор ЮНИ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Unido_logo_white.eps"/>
          <p:cNvPicPr/>
          <p:nvPr/>
        </p:nvPicPr>
        <p:blipFill>
          <a:blip r:embed="rId3"/>
          <a:stretch/>
        </p:blipFill>
        <p:spPr>
          <a:xfrm>
            <a:off x="461880" y="515880"/>
            <a:ext cx="2328840" cy="1981080"/>
          </a:xfrm>
          <a:prstGeom prst="rect">
            <a:avLst/>
          </a:prstGeom>
          <a:ln w="0">
            <a:noFill/>
          </a:ln>
        </p:spPr>
      </p:pic>
      <p:sp>
        <p:nvSpPr>
          <p:cNvPr id="282" name="Объект 2"/>
          <p:cNvSpPr/>
          <p:nvPr/>
        </p:nvSpPr>
        <p:spPr>
          <a:xfrm>
            <a:off x="206280" y="6354720"/>
            <a:ext cx="36892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2 марта 201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566640" y="1596960"/>
            <a:ext cx="1146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аиболее серьезные риски неблагоприятного воздействия на экологию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хоронение компонентов и материалов, содержащих опасные вещества на свалках и полигон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уществует серьезный риск образования вредных веществ при неконтролируемом горении на свалках и полиг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9320" y="61560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dd9"/>
                </a:solidFill>
                <a:latin typeface="Trebuchet MS"/>
              </a:rPr>
              <a:t>Официальный и неофициальный подход к управлению электронными отходами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6" name="Segnaposto numero diapositiva 3"/>
          <p:cNvSpPr/>
          <p:nvPr/>
        </p:nvSpPr>
        <p:spPr>
          <a:xfrm>
            <a:off x="9829800" y="2970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data 4"/>
          <p:cNvSpPr/>
          <p:nvPr/>
        </p:nvSpPr>
        <p:spPr>
          <a:xfrm>
            <a:off x="11074320" y="297000"/>
            <a:ext cx="73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15 Ma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egnaposto piè di pagina 5"/>
          <p:cNvSpPr/>
          <p:nvPr/>
        </p:nvSpPr>
        <p:spPr>
          <a:xfrm>
            <a:off x="9771120" y="6451560"/>
            <a:ext cx="202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Calibri"/>
              </a:rPr>
              <a:t>E-waste Academy - Managers Editions.       Moscow 15 - 19 May 2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uppo 10"/>
          <p:cNvGrpSpPr/>
          <p:nvPr/>
        </p:nvGrpSpPr>
        <p:grpSpPr>
          <a:xfrm>
            <a:off x="1441440" y="1646280"/>
            <a:ext cx="4308480" cy="2700360"/>
            <a:chOff x="1441440" y="1646280"/>
            <a:chExt cx="4308480" cy="2700360"/>
          </a:xfrm>
        </p:grpSpPr>
        <p:pic>
          <p:nvPicPr>
            <p:cNvPr id="360" name="Picture 2" descr="Scenario 1.jpg"/>
            <p:cNvPicPr/>
            <p:nvPr/>
          </p:nvPicPr>
          <p:blipFill>
            <a:blip r:embed="rId1"/>
            <a:stretch/>
          </p:blipFill>
          <p:spPr>
            <a:xfrm>
              <a:off x="1441440" y="1646280"/>
              <a:ext cx="430848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CasellaDiTesto 8"/>
            <p:cNvGrpSpPr/>
            <p:nvPr/>
          </p:nvGrpSpPr>
          <p:grpSpPr>
            <a:xfrm>
              <a:off x="2608920" y="1700640"/>
              <a:ext cx="2807280" cy="603360"/>
              <a:chOff x="2608920" y="1700640"/>
              <a:chExt cx="2807280" cy="603360"/>
            </a:xfrm>
          </p:grpSpPr>
          <p:pic>
            <p:nvPicPr>
              <p:cNvPr id="362" name="CasellaDiTesto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08920" y="1700640"/>
                <a:ext cx="27982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2617200" y="1761840"/>
                <a:ext cx="279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Georgia"/>
                  </a:rPr>
                  <a:t>Официальная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uppo 11"/>
          <p:cNvGrpSpPr/>
          <p:nvPr/>
        </p:nvGrpSpPr>
        <p:grpSpPr>
          <a:xfrm>
            <a:off x="5956200" y="1646280"/>
            <a:ext cx="4753080" cy="2700360"/>
            <a:chOff x="5956200" y="1646280"/>
            <a:chExt cx="4753080" cy="2700360"/>
          </a:xfrm>
        </p:grpSpPr>
        <p:pic>
          <p:nvPicPr>
            <p:cNvPr id="365" name="Picture 2" descr="Scenario 4.jpg"/>
            <p:cNvPicPr/>
            <p:nvPr/>
          </p:nvPicPr>
          <p:blipFill>
            <a:blip r:embed="rId3"/>
            <a:stretch/>
          </p:blipFill>
          <p:spPr>
            <a:xfrm>
              <a:off x="5956200" y="1646280"/>
              <a:ext cx="475308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CasellaDiTesto 9"/>
            <p:cNvGrpSpPr/>
            <p:nvPr/>
          </p:nvGrpSpPr>
          <p:grpSpPr>
            <a:xfrm>
              <a:off x="7162560" y="1700640"/>
              <a:ext cx="3067200" cy="603360"/>
              <a:chOff x="7162560" y="1700640"/>
              <a:chExt cx="3067200" cy="603360"/>
            </a:xfrm>
          </p:grpSpPr>
          <p:pic>
            <p:nvPicPr>
              <p:cNvPr id="367" name="CasellaDiTesto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2560" y="1700640"/>
                <a:ext cx="304812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164000" y="1761840"/>
                <a:ext cx="306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Georgia"/>
                  </a:rPr>
                  <a:t>Неофициальная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 txBox="1"/>
          <p:nvPr/>
        </p:nvSpPr>
        <p:spPr>
          <a:xfrm>
            <a:off x="1731600" y="4395600"/>
            <a:ext cx="3809880" cy="1882440"/>
          </a:xfrm>
          <a:prstGeom prst="rect">
            <a:avLst/>
          </a:prstGeom>
          <a:noFill/>
          <a:ln w="38160">
            <a:solidFill>
              <a:srgbClr val="7cca62"/>
            </a:solidFill>
            <a:prstDash val="sysDash"/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правление электронными отходами на основании условий ЭМС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быль против  экологических аспектов и здоровья, не связанных между собой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вные услов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Segnaposto contenuto 2"/>
          <p:cNvSpPr/>
          <p:nvPr/>
        </p:nvSpPr>
        <p:spPr>
          <a:xfrm>
            <a:off x="6172200" y="4381560"/>
            <a:ext cx="3811680" cy="1882800"/>
          </a:xfrm>
          <a:prstGeom prst="rect">
            <a:avLst/>
          </a:prstGeom>
          <a:noFill/>
          <a:ln w="38160">
            <a:solidFill>
              <a:srgbClr val="a5c24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Фокус на материалах, имеющих ц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Потеря критических металлов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низкая концентрация, отсутствие технолог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Сильные социальные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Arial"/>
              </a:rPr>
              <a:t>Барьер для официальных игроков, несправедливая конкуре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Заголовок 1"/>
          <p:cNvSpPr/>
          <p:nvPr/>
        </p:nvSpPr>
        <p:spPr>
          <a:xfrm>
            <a:off x="1295280" y="703440"/>
            <a:ext cx="9490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17b"/>
                </a:solidFill>
                <a:uFillTx/>
                <a:latin typeface="Trebuchet MS"/>
              </a:rPr>
              <a:t>Региональ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8" descr="unido logo.bmp"/>
          <p:cNvPicPr/>
          <p:nvPr/>
        </p:nvPicPr>
        <p:blipFill>
          <a:blip r:embed="rId1"/>
          <a:stretch/>
        </p:blipFill>
        <p:spPr>
          <a:xfrm>
            <a:off x="318960" y="457200"/>
            <a:ext cx="1073160" cy="961920"/>
          </a:xfrm>
          <a:prstGeom prst="rect">
            <a:avLst/>
          </a:prstGeom>
          <a:ln w="0">
            <a:noFill/>
          </a:ln>
        </p:spPr>
      </p:pic>
      <p:sp>
        <p:nvSpPr>
          <p:cNvPr id="373" name="Заголовок 1"/>
          <p:cNvSpPr/>
          <p:nvPr/>
        </p:nvSpPr>
        <p:spPr>
          <a:xfrm>
            <a:off x="1014480" y="1515960"/>
            <a:ext cx="1061244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Trebuchet MS"/>
              </a:rPr>
              <a:t>Межправительственное соглашение стран СНГ по электронным отход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rebuchet MS"/>
              </a:rPr>
              <a:t>Создание правовых, технологических и организационных условий в странах-участницах для предотвращения попадания вредных веществ из ОЭЭО на свалки и полигоны и, одновременно, для извлечения из них максимального уровня полезных веществ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rebuchet MS"/>
              </a:rPr>
              <a:t>Проект соглашения прошел предварительные стадии согласования. Ожидается подписание летом 2018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бъект 2"/>
          <p:cNvSpPr/>
          <p:nvPr/>
        </p:nvSpPr>
        <p:spPr>
          <a:xfrm>
            <a:off x="3354480" y="182880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Спасибо за внима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бъект 2"/>
          <p:cNvSpPr/>
          <p:nvPr/>
        </p:nvSpPr>
        <p:spPr>
          <a:xfrm>
            <a:off x="784080" y="3419640"/>
            <a:ext cx="678024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Директор АПЭТ, национальный координатор ЮНИД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+7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91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197 95 0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-mail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weeerecyclers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URL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weeerecycler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723600"/>
            <a:ext cx="9872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Отходы электронного и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электротехнического оборудования в России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5" name="Рисунок 3" descr="unido logo.bmp"/>
          <p:cNvPicPr/>
          <p:nvPr/>
        </p:nvPicPr>
        <p:blipFill>
          <a:blip r:embed="rId1"/>
          <a:stretch/>
        </p:blipFill>
        <p:spPr>
          <a:xfrm>
            <a:off x="318960" y="468360"/>
            <a:ext cx="1049400" cy="960480"/>
          </a:xfrm>
          <a:prstGeom prst="rect">
            <a:avLst/>
          </a:prstGeom>
          <a:ln w="0">
            <a:noFill/>
          </a:ln>
        </p:spPr>
      </p:pic>
      <p:sp>
        <p:nvSpPr>
          <p:cNvPr id="286" name="Заголовок 1"/>
          <p:cNvSpPr/>
          <p:nvPr/>
        </p:nvSpPr>
        <p:spPr>
          <a:xfrm>
            <a:off x="871560" y="1717560"/>
            <a:ext cx="109393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Общая характеристика ситуаци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По экспертным оценкам в регионе образуется около 1,2 млн. тонн ОЭЭ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Собирается и перерабатывается около 5-8% ОЭЭО. Особенно низок уровень сбора ОЭЭО у населения. В РФ возврат техники в торговые точки осуществляется в рамках промокампаний сетевых торговых комп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Наличие предприятий, занимающихся переработкой ОЭЭО: Россия – около 8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Извлекаются главным образом наиболее ценные материалы (драгметаллы, черные и цветные металл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4617b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 (в т.ч. первого и второго класса опасности), как правило оказываются на полигонах и несанкционированных свалках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461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2"/>
          <a:stretch/>
        </p:blipFill>
        <p:spPr>
          <a:xfrm>
            <a:off x="10696680" y="506520"/>
            <a:ext cx="1206360" cy="750960"/>
          </a:xfrm>
          <a:prstGeom prst="rect">
            <a:avLst/>
          </a:prstGeom>
          <a:ln w="0">
            <a:noFill/>
          </a:ln>
        </p:spPr>
      </p:pic>
      <p:sp>
        <p:nvSpPr>
          <p:cNvPr id="288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100440" y="146052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98240" y="669600"/>
            <a:ext cx="952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rebuchet MS"/>
              </a:rPr>
              <a:t>Отходы электронного и электротехнического оборудования в странах СНГ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91" name="Рисунок 3" descr="unido logo.bmp"/>
          <p:cNvPicPr/>
          <p:nvPr/>
        </p:nvPicPr>
        <p:blipFill>
          <a:blip r:embed="rId1"/>
          <a:stretch/>
        </p:blipFill>
        <p:spPr>
          <a:xfrm>
            <a:off x="318960" y="468360"/>
            <a:ext cx="1049400" cy="960480"/>
          </a:xfrm>
          <a:prstGeom prst="rect">
            <a:avLst/>
          </a:prstGeom>
          <a:ln w="0">
            <a:noFill/>
          </a:ln>
        </p:spPr>
      </p:pic>
      <p:sp>
        <p:nvSpPr>
          <p:cNvPr id="292" name="Заголовок 1"/>
          <p:cNvSpPr/>
          <p:nvPr/>
        </p:nvSpPr>
        <p:spPr>
          <a:xfrm>
            <a:off x="811080" y="1920960"/>
            <a:ext cx="1063476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Общая характеристика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4617b"/>
                </a:solidFill>
                <a:uFillTx/>
                <a:latin typeface="Trebuchet MS"/>
                <a:ea typeface="Arial"/>
              </a:rPr>
              <a:t>(продол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У юридических лиц собираются и перерабатываются относительно большие объемы компьютерной техники, ртутьсодержащих ла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В регионе отсутствуют мощности по переработке ряда опасных отходов из состава ОЭЭ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Практически не перерабатываются химические источники тока, нет мощностей по переработке свинецсодержащего стекла, по сжиганию хладонов, нет информации о переработке картридж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rebuchet MS"/>
                <a:ea typeface="Arial"/>
              </a:rPr>
              <a:t>7. Большая часть пластиков из ОЭЭО вывозилась на переработку в Китай. Часть перерабатываетс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2"/>
          <a:stretch/>
        </p:blipFill>
        <p:spPr>
          <a:xfrm>
            <a:off x="10696680" y="506520"/>
            <a:ext cx="1206360" cy="750960"/>
          </a:xfrm>
          <a:prstGeom prst="rect">
            <a:avLst/>
          </a:prstGeom>
          <a:ln w="0">
            <a:noFill/>
          </a:ln>
        </p:spPr>
      </p:pic>
      <p:sp>
        <p:nvSpPr>
          <p:cNvPr id="294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 в мире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9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"/>
          <p:cNvSpPr/>
          <p:nvPr/>
        </p:nvSpPr>
        <p:spPr>
          <a:xfrm>
            <a:off x="125280" y="1459080"/>
            <a:ext cx="11833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новные тенденции развит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управления ОЭЭ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ервая директива ЕС по электронным отходам была принята в 2003 г. В ней были определены основные принципы обращения с ОЭЭО, сформулированы некоторые требования к перерабатывающим предприятиям. Одним из важнейших элементов было установление контрольных показателей по сбору от населения в 4 кг на человека в год. Были также перечислены опасные вещества и компоненты, подлежащие обязательному удалению из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 ЕС в 2012 году принята 2-я директива по ОЭЭО. В отличие от первой директивы по ОЭЭО в ней уже ставятся контрольные показатели не только по объемам сбора (65% с 2019 г), но и по переработке (до 80% по некоторым видам товаров)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а – обеспечить максимальное вовлечение извлекаемых из ОЭЭО вторичных материальных ресурсов в производство.  Именно эта задача, определяет пути дальнейшего развития обращения с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Содержание ценных фракций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19320" y="1523880"/>
          <a:ext cx="9656640" cy="4403880"/>
        </p:xfrm>
        <a:graphic>
          <a:graphicData uri="http://schemas.openxmlformats.org/drawingml/2006/table">
            <a:tbl>
              <a:tblPr/>
              <a:tblGrid>
                <a:gridCol w="2941560"/>
                <a:gridCol w="1631880"/>
                <a:gridCol w="1587600"/>
                <a:gridCol w="2006640"/>
                <a:gridCol w="148896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ри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упная бытовая тех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лая бытовая тех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требительская электро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ампо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ерный ме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юми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ви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дм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ту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алл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н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ромированный плас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ласт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еклянные пан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ек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12" name="Прямоугольник 4"/>
          <p:cNvSpPr/>
          <p:nvPr/>
        </p:nvSpPr>
        <p:spPr>
          <a:xfrm>
            <a:off x="1398600" y="5948280"/>
            <a:ext cx="949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й состав некоторых видов электробытовой и компьютерной техники (%, Швейцарская федеральная лаборатория естественных наук и технологий (EM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, содержащиеся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"/>
          <p:cNvSpPr/>
          <p:nvPr/>
        </p:nvSpPr>
        <p:spPr>
          <a:xfrm>
            <a:off x="512640" y="1876320"/>
            <a:ext cx="1105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ства, ведущие к уменьшению озонового сло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реоны в холодильниках, системах кондиционирования, увлажнителях и др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ихлорированные бифени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нцерогены, содержащиеся в конденсаторах многих устройст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яжелые метал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еклянные устройства, содержащие такие тяжелые металлы, как барий, стронций, свинец; кадмий, свинец в источниках тока, ртутьсодержащие осветительные приборы), накапливающиеся в организме и приводящие к серьезным нарушениям в деятельности различных органов организма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ромированные антипире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печатных платах или коннекторах и кабелях)  воздействуют на нервную систему, вызывают р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т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 литиевых, литий-ионных и литий-полимерных аккумуляторах) пожароопасен в виде чистого метал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ивинилхлор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изоляция проводов и кабелей) способствует возникновению заболеваний различных органов, в том числе рака; при сжигании образуются диоксины особо токсичные в любых до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7360" y="40788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Trebuchet MS"/>
                <a:ea typeface="Arial"/>
              </a:rPr>
              <a:t>Опасные вещества, содержащиеся в ОЭЭО</a:t>
            </a:r>
            <a:endParaRPr b="0" lang="en-US" sz="35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566640" y="1596960"/>
            <a:ext cx="114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"/>
          <p:cNvSpPr/>
          <p:nvPr/>
        </p:nvSpPr>
        <p:spPr>
          <a:xfrm>
            <a:off x="512640" y="1876320"/>
            <a:ext cx="11055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батареи (химические источники тока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ходятся во всех мобильных электронных и электротехнических товарах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тутьсодержащие компоненты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ыключатели, содержащие металлическую ртуть, лампы задней подсветк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онер-картридж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в копировально-множительной техникестеклянные устройства, содержащие такие тяжелые металлы, как барий, стронций, свинец; кадмий, свинец в источниках тока, ртутьсодержащие осветительные приборы), накапливающиеся в организме и приводящие к серьезным нарушениям в деятельности различных органов организма челове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40404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нешние провод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часто содержа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еречисленные вещества и компоненты подлежат удалению из ОЭЭО в соответствии с директивой 2002/96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об ОЭЭО от 27.01.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"/>
          <p:cNvSpPr/>
          <p:nvPr/>
        </p:nvSpPr>
        <p:spPr>
          <a:xfrm>
            <a:off x="566640" y="1596960"/>
            <a:ext cx="11461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иды переработки ОЭЭ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едварительная разборка и сортировка отходов и их компонент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анный вид переработки занимает основное место в объеме операций, наибольшее число предприятий заняты именно им. В РФ более 70% предприятий ограничиваются разборкой и продажей ценных фракций (металлы, печатные платы, некоторые виды пласт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лубокая переработка ОЭЭО, извлечение полезных фр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Более глубокая переработка стоит сначала в обогащении фракций переработки, повышении содержания в них черных, цветных и драгоценных металлов. Полученные концентраты передаются на специализированные (металлургические, аффинажные) предприятия для извлечения собственно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учение энергии от сжигания сгораемых фр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остаточно распространено в некоторых странах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лого"/>
          <p:cNvPicPr/>
          <p:nvPr/>
        </p:nvPicPr>
        <p:blipFill>
          <a:blip r:embed="rId2"/>
          <a:stretch/>
        </p:blipFill>
        <p:spPr>
          <a:xfrm>
            <a:off x="438120" y="714240"/>
            <a:ext cx="681120" cy="609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72960" y="407880"/>
            <a:ext cx="8785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Организация управления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3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566640" y="1596960"/>
            <a:ext cx="11461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аиболее серьезные риски неблагоприятного воздействия на экологию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едварительная разборка и сортировка отходов и их компонент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звлечение тонера из картриджей; отсутствие практики сбора и последующего уничтожения хладагентов (фреоны попадают в атмосферу); работа без применения защитных средств с асбестом, другими видами волокнистых теплоизоля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лубокая переработка ОЭЭО, извлечение полезных фр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спользование кустарных методов извлечения драгоценных металлов с применением химических веществ, но без надлежащей очистки стоков; сжигание плат для получения драгоценных метал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учение энергии от сжигания сгораемых фр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Достаточно распространено в некоторых странах Европы. Необходимо соблюдение технологических режимов, соответствующих филь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3600" y="1308240"/>
            <a:ext cx="157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c0"/>
                </a:solidFill>
                <a:latin typeface="Arial"/>
                <a:ea typeface="Arial"/>
              </a:rPr>
              <a:t>Центр ЮНИДО в Р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atumsplatzhalter 4"/>
          <p:cNvSpPr/>
          <p:nvPr/>
        </p:nvSpPr>
        <p:spPr>
          <a:xfrm>
            <a:off x="3432240" y="0"/>
            <a:ext cx="5087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Семинар по электронным отходам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01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5:52Z</dcterms:created>
  <dc:creator>User</dc:creator>
  <dc:description/>
  <dc:language>en-US</dc:language>
  <cp:lastModifiedBy>Vladimir Komissarov</cp:lastModifiedBy>
  <dcterms:modified xsi:type="dcterms:W3CDTF">2018-03-02T05:16:14Z</dcterms:modified>
  <cp:revision>214</cp:revision>
  <dc:subject/>
  <dc:title>Презентация PowerPoint</dc:title>
</cp:coreProperties>
</file>