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</p:sldMasterIdLst>
  <p:notesMasterIdLst>
    <p:notesMasterId r:id="rId83"/>
  </p:notesMasterIdLst>
  <p:sldIdLst>
    <p:sldId id="256" r:id="rId84"/>
    <p:sldId id="257" r:id="rId85"/>
    <p:sldId id="258" r:id="rId86"/>
    <p:sldId id="259" r:id="rId87"/>
    <p:sldId id="260" r:id="rId88"/>
    <p:sldId id="261" r:id="rId89"/>
    <p:sldId id="262" r:id="rId90"/>
    <p:sldId id="263" r:id="rId91"/>
    <p:sldId id="264" r:id="rId92"/>
    <p:sldId id="265" r:id="rId93"/>
    <p:sldId id="266" r:id="rId94"/>
    <p:sldId id="267" r:id="rId95"/>
    <p:sldId id="268" r:id="rId96"/>
    <p:sldId id="269" r:id="rId97"/>
    <p:sldId id="270" r:id="rId98"/>
    <p:sldId id="271" r:id="rId99"/>
    <p:sldId id="272" r:id="rId100"/>
    <p:sldId id="273" r:id="rId101"/>
    <p:sldId id="274" r:id="rId102"/>
    <p:sldId id="275" r:id="rId103"/>
    <p:sldId id="276" r:id="rId104"/>
    <p:sldId id="277" r:id="rId105"/>
    <p:sldId id="278" r:id="rId10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notesMaster" Target="notesMasters/notesMaster1.xml"/><Relationship Id="rId84" Type="http://schemas.openxmlformats.org/officeDocument/2006/relationships/slide" Target="slides/slide1.xml"/><Relationship Id="rId85" Type="http://schemas.openxmlformats.org/officeDocument/2006/relationships/slide" Target="slides/slide2.xml"/><Relationship Id="rId86" Type="http://schemas.openxmlformats.org/officeDocument/2006/relationships/slide" Target="slides/slide3.xml"/><Relationship Id="rId87" Type="http://schemas.openxmlformats.org/officeDocument/2006/relationships/slide" Target="slides/slide4.xml"/><Relationship Id="rId88" Type="http://schemas.openxmlformats.org/officeDocument/2006/relationships/slide" Target="slides/slide5.xml"/><Relationship Id="rId89" Type="http://schemas.openxmlformats.org/officeDocument/2006/relationships/slide" Target="slides/slide6.xml"/><Relationship Id="rId90" Type="http://schemas.openxmlformats.org/officeDocument/2006/relationships/slide" Target="slides/slide7.xml"/><Relationship Id="rId91" Type="http://schemas.openxmlformats.org/officeDocument/2006/relationships/slide" Target="slides/slide8.xml"/><Relationship Id="rId92" Type="http://schemas.openxmlformats.org/officeDocument/2006/relationships/slide" Target="slides/slide9.xml"/><Relationship Id="rId93" Type="http://schemas.openxmlformats.org/officeDocument/2006/relationships/slide" Target="slides/slide10.xml"/><Relationship Id="rId94" Type="http://schemas.openxmlformats.org/officeDocument/2006/relationships/slide" Target="slides/slide11.xml"/><Relationship Id="rId95" Type="http://schemas.openxmlformats.org/officeDocument/2006/relationships/slide" Target="slides/slide12.xml"/><Relationship Id="rId96" Type="http://schemas.openxmlformats.org/officeDocument/2006/relationships/slide" Target="slides/slide13.xml"/><Relationship Id="rId97" Type="http://schemas.openxmlformats.org/officeDocument/2006/relationships/slide" Target="slides/slide14.xml"/><Relationship Id="rId98" Type="http://schemas.openxmlformats.org/officeDocument/2006/relationships/slide" Target="slides/slide15.xml"/><Relationship Id="rId99" Type="http://schemas.openxmlformats.org/officeDocument/2006/relationships/slide" Target="slides/slide16.xml"/><Relationship Id="rId100" Type="http://schemas.openxmlformats.org/officeDocument/2006/relationships/slide" Target="slides/slide17.xml"/><Relationship Id="rId101" Type="http://schemas.openxmlformats.org/officeDocument/2006/relationships/slide" Target="slides/slide18.xml"/><Relationship Id="rId102" Type="http://schemas.openxmlformats.org/officeDocument/2006/relationships/slide" Target="slides/slide19.xml"/><Relationship Id="rId103" Type="http://schemas.openxmlformats.org/officeDocument/2006/relationships/slide" Target="slides/slide20.xml"/><Relationship Id="rId104" Type="http://schemas.openxmlformats.org/officeDocument/2006/relationships/slide" Target="slides/slide21.xml"/><Relationship Id="rId105" Type="http://schemas.openxmlformats.org/officeDocument/2006/relationships/slide" Target="slides/slide22.xml"/><Relationship Id="rId106" Type="http://schemas.openxmlformats.org/officeDocument/2006/relationships/slide" Target="slides/slide2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dt" idx="74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 type="ftr" idx="75"/>
          </p:nvPr>
        </p:nvSpPr>
        <p:spPr>
          <a:xfrm>
            <a:off x="-360" y="9361440"/>
            <a:ext cx="291132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6"/>
          <p:cNvSpPr>
            <a:spLocks noGrp="1"/>
          </p:cNvSpPr>
          <p:nvPr>
            <p:ph type="sldNum" idx="76"/>
          </p:nvPr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8BA-0484-4E10-9CA5-CE2AC9B701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ln w="0">
            <a:noFill/>
          </a:ln>
        </p:spPr>
      </p:sp>
      <p:sp>
        <p:nvSpPr>
          <p:cNvPr id="3629" name="PlaceHolder 2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Номер слайда 3"/>
          <p:cNvSpPr/>
          <p:nvPr/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415-FA89-465D-88A0-6D63DEDD7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ln w="0">
            <a:noFill/>
          </a:ln>
        </p:spPr>
      </p:sp>
      <p:sp>
        <p:nvSpPr>
          <p:cNvPr id="3632" name="PlaceHolder 2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Номер слайда 3"/>
          <p:cNvSpPr/>
          <p:nvPr/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9F1-E756-44C1-B9CF-515D21F2A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BC0-EED5-427B-96D0-2E6AA150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26D-DC28-4B12-9B3C-4359A22E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057C2-43BB-4151-92B7-1265C5A808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A476B-EE0B-407C-8BFC-2B21E83CB1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61497-CC7F-41CD-998C-34C3296285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EB8B7-5A4C-4132-BAA2-EA8BD402BE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97ECA-24A6-4BDA-91E8-36BDFE4DD0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00861-2922-48CA-8361-A01F614E41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84515-976B-47B9-8911-5CB304BACB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A76B7-DECD-45E0-8B2B-0BB201C3B3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48104-8E09-4065-B076-C3CE8B6B3F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A918-67EE-4A0C-A83B-19B0746B2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035-CA00-4417-9E93-5B355E2C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27B2-AD54-4C25-B897-FBBEDC9283D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C14A-543C-4775-AB3E-DA97BF1A64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966F-180E-4642-B1C4-A9E59C8168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E5D7-74B6-4513-99F3-02FB521C1FB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9EA0-65B0-40C5-9C82-29F17117D05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79A8-1F0B-4887-8D03-37622CB594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6A3B-3A28-4668-9C09-C2B2C29ACDD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56D9-1710-4C4F-8863-4AF59C2AC1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3A3A-A30A-4888-9F36-06A695458C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E7BC-9257-447D-895B-8A6B5F9B5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8F6-EFA4-4609-B457-1BF24F72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60CC-9A44-4895-A06A-B3B24207A5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C4B4A-D4D0-4309-BDCB-234DEFDEEE7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C8D92-DFB3-43DD-B53A-955B85D9A9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76D60B-F52B-4CAB-9486-B7649698757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5FF49-840F-4F46-99C1-376D02290D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69ACB-1852-4E7D-9F20-159ACB5AEB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55F1C-9D7B-4564-88BD-CA686B3C3C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01677-FACA-40C4-BE47-E06ED9B265E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40DDD0-E326-481D-A525-D9906DE32D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070C7-2860-4607-8E76-B0C5FD995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5087F-FF10-460C-8915-0CF343FC2D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32F0F-3611-489E-A2C8-3597978796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B1329-2187-4901-9B23-52E1749210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72775-9D0D-43A9-918C-9888D0945F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601F-AE12-480E-BD96-838DBCBBBA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6D702-D1AB-438B-BA2A-245F88FF347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32744-D51B-450D-9B7D-13C6208494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10F30-F4A9-424C-9A9F-50A3A82A4F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3A5F7-4DEB-4E1E-B5C1-D623573420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D8B9A-A963-4BBD-8FB8-A09DCEDC8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2CBB6-2729-4E89-9EBA-BA79DCCF9B6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DF5F4-2282-4C8E-A65F-5CF6DAE7D2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B7FA3-E67E-4B05-B634-C57730C983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D82F8-8C1C-40B5-9DF7-D11E3C514D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600D5-1008-4C06-9CE9-0C39B1773F8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DE28D-CB22-499E-A197-EF8864B16D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5E2FF-7537-4C48-A0C6-6BAC915D97B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C0904-649A-43EA-B794-FCCB5BAC182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CFE4-B869-49E5-AF0D-99B96E9B77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1AE8-14DC-4400-A563-60826DDA0EB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7E07-321C-438C-B1AA-A88C5B9922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BE2B7-86EE-4241-BA43-29E7EB50C4F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D628-8DDE-4567-9492-96035F0AE0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FA6C-4306-446A-8923-6BDEE1AFD3E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7688-74F4-4EC2-9004-D15E12D3F4A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8536-0A42-4638-A548-F3A41D5339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551B-074B-4DA0-A180-F0DB3C589D8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7322-1762-4305-B241-B25AC6D4D8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46ED-B741-4455-8239-E3AB557E48C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CF8F-F2EF-42D6-9619-76CEB519827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B195-F1D7-4B1E-A7C3-19DEBBF54DD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FDF4A2-9005-4C2D-A097-2434CBF1A6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814D-8050-408D-A87D-AB56F5B22A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518A2-1B06-4361-9883-49A44817967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D50D8E-613F-4065-96D2-E2158DCB300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D4817-9111-4AED-BC10-DFCEFCBB52B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287F8-9E42-4BB1-9A69-E12B88F3EE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01CB1-1611-4CCF-ADF6-7909536DE7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C7617-F772-4FA4-8293-E425E22CB49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5D92EA-6EBE-4C10-9ADB-5A0BDE38F6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D474D-34EF-4B6A-8649-AAD04EE1DB4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63FBE-D0D1-48D3-9B19-1E5B3739188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A0157-23E4-4DD8-A99E-3BAF73F2D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73195-BA5F-4525-A8C3-F92F88DF6C2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C6302-BC67-4250-AD57-6411DD7558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0E09D-0769-4990-8A30-FB7C669D8B0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FCFB1-3DAE-4D4C-8B5A-E4FC5C5B917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9A298-5B18-4AB5-AE68-BCEAE8CCB9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93B6F-BCDE-410B-B94F-31EBF3F7E7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A7AA7-A885-4162-835C-FB1070FAE40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6328F-D4A9-4377-AC7C-43ABD1A5E9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AD997-3A27-420A-9145-FAD46CCD563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043B9-6422-4BE6-9537-DE21D6A8ABF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15D6D-80AA-460B-A7E3-D374A57AC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098D3-BA8B-47CD-AE80-9668F125560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A9EE0-1811-4578-AEEB-43DDD3356C5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E2877-1D3A-427E-AB99-19FA75812C5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53144-6CF8-4ECA-904E-2D0813B25B2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2035-AF34-4549-9FA5-1D251C71BF5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AD65-848F-482F-BC01-EFB60CB0A29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FF87E-CA69-4FB2-B326-2D177ECEEC2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0375-F544-42AE-B2C6-56E9998707D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F1CE-2F1C-4F8E-9868-756E1621DE1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6CA1-F4CC-4CC8-94D6-1FC04D54785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C824-0A48-499C-969C-88F1C6AB5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4A5-D51C-4819-A74B-776233C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FA85-03CB-4B4B-A1F5-00CB9F060C6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1C05-C163-4B8C-AA32-22D4618C5D2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B396-D732-426E-9482-04A2AA6F47C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31915-152E-4AFF-A4FC-533B3AEBF1B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FD45-E8F8-4BCA-9B88-E267BE734DC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906A9-9FCF-4DE8-8EDF-AC06416CA34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47AE7-8D2D-4497-BBD0-B0F6737FA0D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FC1ABE-0065-459E-8473-B610EFDAF8A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79894-EA06-4CF0-ADF3-311338945B7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891957-6B56-4DB5-9C8D-3773AE72FD3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9FB8F-3F69-4128-AFB8-A54D788643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B38D4-9E6D-4EAF-8AC5-B42BDE0DA24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DCB7F7-D7D9-4288-9E0B-A0F8C2DC11F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E9CDC8-702C-4846-8358-73411E31D77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D8131-0299-42B5-BF61-04BBA372BE9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9897F-CC4C-4C9D-A39E-75F48B436C6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22259-5F05-447C-B873-56BDF16D2B7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981AA4-1F8D-4CC4-B97E-5B832230009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648EA-C5AC-4A22-A65A-58C324FA665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BECA6-7EF9-4678-818B-BC60CC2DEEF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B47CB-862B-4409-A9F6-4C8FBDFCA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5951-2E24-4D50-81F8-5AE238AFA91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049D2-0CEE-4AF0-ADF9-A54331884B4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976AB-799E-44AB-93A2-F026018841C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DC269-5217-4EB0-B0A7-533041026B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EC1C1-2E00-4859-BBBD-7F67B1F7FF3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0FD10-6E50-45BF-99D6-5F6E2BF2851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B8362-AEF0-4467-AD02-8B03A303579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871A6-DD26-40F5-9DEC-E50A01394CF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6F0B9-E210-42B7-B71E-C02F2FE06D2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8BE85-14FE-44BB-BCB4-28A42E71090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000D9-3426-41C7-981B-C217F642C6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8CB51-B58A-4E70-B55E-FC6AB14E69E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12F24-AA65-4A0E-856B-82229375FBF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562A-21CA-49CF-B4AA-3C083B23D85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432B-4F67-4F75-A58C-6513158CC3E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300B-F4F9-4B5B-9A5E-72481039A6A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E176-F5E7-42A6-8BF7-FCE0275593D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7C91-51E8-468E-BE92-9CE3600F67E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EAAE-4BDE-4826-AA69-24AF3725E68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1CD7-7440-4137-BBDF-16064A3AFEC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EB79-73BE-4C29-87D2-9B4C30213FA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F962-3C10-4402-9317-411A796928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26442-EC3E-4ACE-9FBA-1C4F9DA1A35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9DD8F-55D0-435F-9A5D-350102E5785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0995-FA36-4DB8-BBD9-6540C65E2EE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5819-D362-4052-8876-9C51CED9545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727DC-25D7-40E0-83F7-3FE675659A9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8656E-A0D6-4270-97E5-9D28E70DA15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764B0-28D1-41CB-8956-E5CDE101D21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1CB072-4DAE-4F2A-9618-69AF4F76614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739DA-E500-41F3-B25C-7A202AAF22D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D7675-9F07-49AD-9A0F-255DE2137AE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D46E6-43ED-4311-8E3F-E785641A44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55C4-446D-450A-8175-35177C276A3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5AE6A2-8D89-4F0F-BA24-0864DA6980C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0C81E-23D1-4476-9CAB-F18B53F05AF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1E3BF-8879-4CC5-A426-A83BB002DE4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816D32-1E66-4794-89E4-C9E3B765746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E10619-72D6-4706-A53A-EE363A5E08D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500CB-CA9E-422C-85BC-D35B1F6E6B1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646CC-E5D3-4678-8EF3-934A14D5502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1AF06-9F37-4E9B-8034-A11E5F34122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5C068-0D33-4B34-97F5-B6A679669EB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1A822-7BE1-4541-BAAC-FBA45594E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EBB3A-C405-4F84-84A1-6AF5173C313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2E62B-1BFE-4133-8F5D-E315CA2129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0A480-E61F-4068-8045-CE3C6C8F98C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D6E02-DFFA-4DCD-98BC-D20F6FF79B9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CB7F24-F76D-434C-91E9-80EE4C24CA5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82057-DC9C-44D1-A560-C4B57DAFB24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A1D14-457A-4FD7-8EBE-DDABAB2A8CA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8CA77-4939-451A-921E-57FB56FD5F7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6AFD-196E-4557-95D4-1D2410B0468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8BFF-DE00-4F48-9DF8-24FB738DDEC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8592-89FE-4C86-890F-ACA65BB876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5741-406D-4C6C-A1BE-D2C9B0B122A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A76C-C6AC-4E29-80C6-1759EF73D32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863F1-5274-423A-B1E0-E6257AD1890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35C4-AF69-499A-8B19-A0CCA270FEC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2E57-3DAF-4FEF-AD62-C808BA48A55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118F-7161-45BA-BDA8-F04CBFEDB0A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389F-BF76-4FC2-BAC5-44AC612504E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4C2D-3D52-433B-B60C-AF5EF2877A7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B7BC-9395-4608-98B7-CA8CF83C191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D4F0-E9A6-4BB4-9F1C-A65F0C77F76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1EDC7-16A0-47BE-9C5B-EB00564FEB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34C8F-AFBD-4BA4-8456-9AD5FA01707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4E361-723E-4FE1-8AEE-F65AB3179DA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65592-49BB-4F73-A655-086D48FBF4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75D67-668F-498E-8F6B-B7B7F529163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C09BC-762C-408B-9D52-C7C87C48D65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624C8-5D83-42D9-BF9D-88EA110B3E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B043F-73C7-45C1-A4B6-E03145F05E2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70C1E-EED0-46CC-A39D-3DA34CC8541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89405-7522-46A9-88A2-459D92A944B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F1A95-E495-4174-90CC-3A4B10023B0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5AE92-D027-42E8-A46D-62EA66A76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B31-98AA-4B90-BD03-DFEB032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50921-80E2-4AA2-8405-0EDC42DF2C4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8B0B9-2E23-490C-AA53-9F40E3F0822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BB94-F92C-47CF-8794-3E08DC6C853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6830B-6AEC-4EA2-BE93-A0E57AECF60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E237B-B279-4110-8F70-D44DA1BD5EC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A0B5D-FF18-4869-84B0-D2D006B068F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C277F6-6A4A-4CA7-AB19-96E38FB30A9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76CDA-4061-431A-BE1E-08207D37C7F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AAABE-404C-47CA-92A4-40B8C051A95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A992AA-38B3-4B3F-A197-D034B422D2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ADB9C-D3AB-4DE2-94CB-152C426E6E7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794208-679B-4155-86AB-835872D22E7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A0476-6CAE-4BD3-8607-45C995D4602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8187D-9790-49F7-A37F-6FDF008AA55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09D64-34E9-40A6-A116-4629333D0D3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02524-835A-43F8-AEC1-571C5170BB7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FF28D-556B-4600-8FB8-25853E8C9E8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26802-7D49-434F-AD36-50135ED337C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A88B-8C13-4CCE-81F0-0F851021608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C4C9-5D79-49D4-9289-0A9D77CC897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F907E-A141-460C-AA40-34B5032874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5F60A-52BE-4601-8A7E-13E02ABBF31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63206-EA86-4230-97BE-5C313336EF0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21B5-EC25-4FA0-A2BE-55E6F45DF97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00BC-D305-4CDB-98F9-AA13B29D256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6785C-8FEE-4875-B70A-4C6B399B6CE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8B122-6F84-4172-A1C5-2B1225F8177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93F74-C448-4063-9972-E6CB748F96F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92C6-D07F-4C3C-B376-27B772EBB59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46919-D134-4841-9918-7E7DEC9548D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48D1A-75CC-4792-9352-065BE093E1E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47701-8B02-44F9-9F11-1F90BE092F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7CFC2-43A3-417F-9DC1-CAE9311B311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EE390-705C-4600-BD28-C684298F222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B6D92-9BEA-4F96-B83C-54A120EDAE5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0C83A-BD38-478C-ACA1-B830BF2409C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B3990-2A91-45FE-AAFC-103385F57BB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E60E2-8D45-4F13-AFBB-CC9B3E4C897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1B7B2-DC00-45B6-85C1-68C93C7A664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AB8D1-0BCB-48AD-8B9D-3A99BF7CF22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6DB82-7551-4118-8DB3-75742B87782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7CC3D-F30B-463A-8127-80CE66478F8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F3711-1EC6-4B1E-9BC7-24155D3B7C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3E0F8-5270-408C-8BAB-9809934888C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B44ED3-A281-4122-9C7C-3D025033F1C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952CE-F1C2-41BB-9D94-E4DA3F66FCA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ED597-A195-44FD-B11A-C6A85ABFE44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18D3BE-31C4-4543-9A87-01A64E9FF2F6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D07117-B6CE-4725-9651-A820E4D52DB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1D8A9-2B78-472F-9ABA-464803143D3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EF1D67-B45B-4B82-815E-274D7533F71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83A972-7AED-449E-98A6-3961348B85A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856E22-B883-4D41-9ACD-5AB7766B321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A66BB-19BD-4886-AA03-F993FB4E86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5F790-273D-404A-9E96-07A3A460824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26455F-6067-4C72-898A-4A69CE2FB32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9A714-C007-4C1D-8E06-44B6A9ADB1C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E50BB-7AB6-474C-853E-2A3B1589B5A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D1D24-414E-4400-ACA0-F39BBC5406D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2B6C8-5238-48F1-8FBA-E732FAB516C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D14FF-76FE-4713-BE9F-9A31556DE36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5B62D-767F-445B-86FA-9866040B4D82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F462D-7C48-4316-BBA8-851258EB2D9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55299-282F-4107-B118-305242EEF5A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1D245-1E95-4B23-9774-F5F3B0348B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762-6601-4459-987D-28D7E45C29B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8265C-5410-4C77-9AA8-1CAF6B9BDFA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B3247-4777-4B13-867D-62AB3B38DD7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CC44-462F-4CB0-BF48-847499892D5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6CEB94-60FA-4013-8547-651EE61776A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69A03C-E3DC-466A-8CB3-1007C69BFAF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C2F2FE-D523-4F44-86D7-9FFFCCFCC42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3C2058-4ECC-4E87-BACB-038C96C2D2C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0E8E79-2AE8-4C87-8F43-E1B8A922CC7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A25ADC-8AE9-47A1-B457-E3E57FF9DB0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3EE4B6-EC44-4757-ADD5-F3AE11705A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8AB-F340-41B4-B12A-3FFCF993FFF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0B6C03-1F8B-47F4-9805-255A5DF8EAF7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50CAF0-EABB-45BD-A0C1-FF29260FDA7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ADF4B4-A5E3-4439-B4A5-3021B53404C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F1FEF3-0EC7-480F-B18C-456578200AA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CB93AE-349E-4CE4-8F8C-969FB3DFDAB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412-4232-43D1-AE04-234B077F9A60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75BB0E-C4EB-4572-AFC9-75115E53477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F69322-F32F-438F-9788-43C5950B10A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49FC7F-06D6-45DD-BFCE-B82E2CE21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884-5175-487D-AD40-BB77DD2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FABC-B3DA-4867-A788-CCA8C8939845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A0F97B-1D86-45A6-8BD3-D70B0FD43F2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B3A64-1599-453B-87E6-906627413C6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1C14D3-0648-427B-9B2B-637E3BB8140E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B6899-ED82-48A8-BFF5-16D16A3AB58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98656-130B-46EC-9440-77A1AB0ACCC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E832D-C563-41AE-9A75-CACA3D38407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F2EA26-5C96-480E-A069-B11A3889DA3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B1CC7A-D26F-48AD-98FD-9B86AF64A415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E41533-E9F3-445C-9830-F42937017BC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3709-EE3A-4B7F-9213-029308805A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515-2E46-4394-BD85-CB593FD590A0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DF1A8-E7E6-485F-B41B-21704B3E184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6E02-C90E-4FD3-B9B1-C88AE5A4915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8EB39-8B2D-4066-B5E1-D23988121D6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5BFF-EB52-4F7B-AB91-3004E594CC4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AF257-9F43-4146-AE73-200780A5CE4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15605-0BEC-445B-BEF2-6F6EE13D1FE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E719C-F2B3-46CA-956F-0D3E6DF6926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781D-EF38-421C-BD79-82AB24908BA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BF241-EEEB-4E06-A5B6-3D463325D7E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9C729-A4C1-4660-8D63-7AF07F7248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B4B-4EF9-4C7E-8069-CD285005818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C279-2988-4EDE-8F62-EF1B07D921E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FC96B-85AD-49BF-8CA2-7DFE5F869A61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A4ADC-C9FD-4145-9CF6-F5A7DE91B4F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4ED87-385B-4303-B336-D5B92C24A135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81ABF-493C-4BCC-A6E3-8367032330B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BDEEB-AC86-4661-BE84-208C80C63E73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3C240-9EE5-4FC8-B53E-BD01D1F2352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304E8-5672-42A0-BE9C-A7AA56E33901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A13F0-0856-40C4-A694-8B2DCD3C850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7FA73-49EB-4014-A910-0ABABB73FF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D86C-F6D5-4EE3-A933-1850904BABBF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2C02A-11AE-4A26-BC70-5A88F58B6E4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2C195-2CE0-41A7-BE01-C83A3B4D4A3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80861-83F3-4FB1-B008-4233A9AC3ED5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3A1171-480F-4B28-9E67-9DA76E21CE2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58C6C-4A68-4EDA-9B95-E5387AB9A0D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18B1B-2610-4F04-860F-CE0DE890973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C0A928-C627-49FA-A11C-66548D2B537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D6F0A4-9205-4B7F-B49D-32953F10BFE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1C9135-FC47-4B2F-95A3-5738CB1E14C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8AA055-D8CE-4485-AEFF-62D76FAF08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797-2A4C-493E-A110-CE9267B45FFE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B434AD-7910-487B-A2FF-16D5ED93849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5F8F9F-DB21-443C-902C-3E05EBBA3E2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620295-8890-40F8-B21E-E82E17F3251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0A52B1-E966-49CE-B90D-452544885F5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76080B-1B27-4E59-B44B-56EF4B096F8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07346-EF9C-491D-B5FA-99284A042DE3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F743C-3A65-415C-A327-8BAF7C670E5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CB860-0579-46EE-9BF5-2476A3B4254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ADA7C-6D2D-44EA-BF5D-0438C38CCBC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3F4FE-6BA8-4A41-AE32-ED8D87580B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219-7921-498C-9A6E-D13F0FA69EFA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2949B-1F85-46FB-87B1-510D51256B0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B0E4-6B7F-47D4-BECE-1DC830D9693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A358B-C5D8-436A-9B0D-72ECF6A0D489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F0CB9-4594-4A17-9423-824F284295B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FDC5B-E9BD-4C43-8CBF-D3E68AFD208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29415-3F22-4C8B-A634-FF6FB11A12A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8DDF5-5BC8-490B-9938-C7864A67FF19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7AA3E1-9A8B-4D9A-916B-FB40F954792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F0E701-08E7-49AD-9021-338778A57AF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81E750-B395-4336-8792-360E00CB0E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B73-B6E7-4ED3-86E1-954AD5E63660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78AA09-03F1-4B7E-BCAD-F9910EA6FECB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FE1C1E-DE7C-4F88-BD6E-A31565FC93D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8A144-CE30-4274-80D8-97BB43248FB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335596-7905-4003-B871-E509DF1924A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32C0E9-2E83-4C05-A823-433CA4D70D6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9BB768-760E-45E7-AC5B-0533E407EF61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DE981F-5B3C-40D3-B307-6CB7281D552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9D09DC-C3D8-4E55-86C7-23EFEEFDF3E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4997D0-82CE-4E25-81AB-D6A39AA76BE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FD4C-E1E8-4961-930F-C63C293442E5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A7D-F046-45E9-A5D8-6C45B440CFD1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0FB6B7-3A52-4957-AF28-8071B26CF22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D4B15-E35B-4AA7-B4B3-4F27BE0A1C7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B7B72F-FB21-4BBF-8209-06EB0084051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DFAE7-E902-4A1A-8502-96281ECC7BFD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6E125-14A1-49CB-83D1-B79E2968378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D3F2D7-BFDD-4E13-B532-8208CD20048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3C9D17-9DCB-4736-9D8B-AEA23389728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7979D-7DBD-49BA-89F1-8C79718A439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00D53-19A6-48BD-BDF6-D318394562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31EDD-35FF-4D4A-B47E-185A7C7A226A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831B2-1F98-4B27-BC8A-CC0CECFC61E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161D7A-2D96-4FCE-98FD-A681304ADA6D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FD8EDF-AD80-4BE0-958B-04D8B5D17AA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03B5E-6AA2-4F96-9557-66F8D30B5943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E78D9-F059-42CF-A5AC-2CFB70A43D1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5824F-79C6-4EE9-9CB5-F2E645F8BCA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13AB0-A507-47AE-9C16-F8D46DF185B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80104-67F4-45BE-B7EB-06FBF35B983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52624-22CB-4CD6-86CE-78175D41DFE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2D3C7-D7AA-4843-93FE-337B3A5B2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BBF-8221-435D-AE84-599D4447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187A8-B918-457F-ABC9-A8095D785CE3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5534E-085A-4E98-B750-3EED766D7FE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F3AE7-6685-4E17-8EC9-E5EB4638884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E6E37-CD61-4B6F-8B9F-738CB7654EB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181E3-8B7B-4E46-A074-9952AA33D292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7E8F4-EFB1-4F3A-9CB7-BA9EE4D76F9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A287CF-588C-4548-8D0C-338FEE84BB7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9638EA-4793-4373-B09A-3BF5BD3C588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EAD402-2007-49B8-8FA5-88059A5E923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A43DC6-E965-4868-8810-AC9689A6B2D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AF8982-A43F-4F95-967F-3EC62EE5E0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6D4C2-137F-49C3-873D-879C6B0D1E77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69BB51-25A7-4D9B-8A15-1BE150A4E1AE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6933A5-DB67-4EBD-9D9C-DA10F569217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99BF6B-4874-4A23-925E-9E4EE7ECF93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EFF0E5-9C65-4854-9D5C-2135862E58E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9C3B85-AEDA-4336-BABE-E69451E0FB6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28DFA9-FF5A-459C-B7BC-240430ACFB3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8AA1B5-8635-4308-A217-99BDFFE816A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4BC2A9-E810-4F60-AB45-65C460CB45A8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E49315-CA51-42C0-B749-585770170799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C19F0B-0226-4280-9BBD-62FA27251B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A7227-D978-4EB1-A371-D10D9248837C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C378B9-A5BA-4BE4-9959-ACA142949EC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8F1A26-F2AA-4EC2-BF0A-0F2193CFC8E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982B3C-DF59-4A30-A9EB-D282F1002CBE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ECC891-764F-4CDF-9803-76A92CD88FC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AB896-E0E4-4167-8605-38463C2EEF7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E65994-458F-4D2B-960D-A9E47081789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A57EB1-447F-48FE-B197-B9C8792A4FA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E1D117-0B16-4494-B4AD-A19713DA215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A179F4-49CE-4C5A-A18E-C91ED06601D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2D093-A040-4823-AD72-A8903BF4F3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57C3E-A79D-4C63-AD53-2938B577323B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F74D-BF40-47D3-A564-A6B665EF978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62062-5976-4249-B402-C751015BC867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633AB-92CE-417D-AC53-5B1961F0A1A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B16BE-4D5C-44CC-999A-CE946FC90C0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42DB1-3116-445D-82CE-6A816B39984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F1D87-9400-482B-A647-39E737B5D61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31DE6-A057-4255-9530-C957FF32EBF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AEE20-C80F-4589-9706-B9EA22917EA8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D1044-77AD-461A-877D-3F396455620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5508A-810D-4B6F-ADF5-112F08270D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81BBD-5489-4581-9796-A2F55D93A5CC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4C731-229D-49D2-BD4D-5B174C80A54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4FE992-B1CE-4FF4-B6B1-1AA039448DD7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41BDBB-6333-45DC-93FF-452671638B4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5121CD-9688-4596-8938-98506BFEF0A6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216FD7-5755-4F70-BC9F-FB458A22E3CD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9379E1-2351-4763-A2ED-897B144E5070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D11CB8-602B-4A5D-83B0-8B0C4E07443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64D565-CF0D-4563-914A-792DDCF0055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BCC22F-0124-4D55-9976-949F8802078C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33E3B9-46A3-48E5-975C-0C8DE4D0E1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EC276-C972-4C6A-B913-1A93088DCAE7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7C9F06-73CF-4FE4-8298-893C7220F71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5CDD4F-7E29-4EE5-9AAF-21EA056C7CB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F370AF-12EA-4F57-9807-EDDAE47C138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C5735-6921-4A42-84E2-6FC6B967BA0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492348-6C74-49AF-AABC-79F1337A718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826A7C-E272-4721-8EEA-AC5CC08B764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76648-1159-46B6-91F1-23D6D4E84503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886D1F-F071-433D-952D-8171B45FCE8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26D9BC-81AC-440C-BBEA-25362953E0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C00F2-F3F5-4241-A34B-CE3AC99626ED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941850-E033-4C69-9677-62ED4AC287D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14A489-FD92-45E6-9F83-349B09350D7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3D40AB-B0AC-4E21-83A5-B945E8BF7F5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97DE2C-B1A3-4629-8169-34BBB6E1E54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5B533F-0D35-4D12-9BA1-DEB48C4E064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DAC47D-92D3-4AF3-9150-1713AF3B840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EC7B19-B718-470D-91B0-F0A9CFAD6D3C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C23DC-A0D3-4C46-917B-5C967F0B1C12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F3ABA-19C2-4F75-8805-F2A5F336E05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EF99D-BF2F-477E-A735-EF0BC99112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F05AA-63CB-47CB-AFE2-DCE352D31D2B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23840-2425-4AC0-BA28-4381FFA914F7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93015-9C74-483D-AF80-6A3A6DF21887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63206-55B6-4FFE-8FB7-52F94773E945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2BD00-C245-4AEE-BC23-3CFBB61917F0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EB7DC-3478-4384-A0A3-1419AE46C763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7CE39-C2F3-4F25-ADA0-AE8EF2999874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19ED9-5AF2-4DE5-835D-3B665ED1FEC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4931A-54A6-452E-958A-2B6ECDE7FCD3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21661-E7DB-4981-8188-F91638A7E98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4714E0-1F23-41BB-98EA-3F00843842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3EAEB-EE49-4196-85D8-427E6D501A80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CA56EA-35CC-4C78-BB3B-371E76F8632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EEDF63-DBDB-4365-9403-7A3354B87EE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6C07B1-19A2-4BFF-A95E-61F917AF551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E93C6E-44AF-479C-8A46-153F104FA0A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A72F0A-06E0-40A9-BF79-0E30E2CA56EE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3E70B0-5AD3-465B-9725-0F8F0939CD3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55E921-2052-4CEC-8EFF-FED18CEF73D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323665-ADF9-4FF3-8EC2-0AA15422335E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A8FD7A-AEF9-400E-851E-2E197EF71AA4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538CE8-6BD9-4CB8-9794-AB7441C39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3BC-6896-423E-B947-0071C90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63D51-3E03-463A-8B12-B84D8B4317BE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4AD328-DF67-443D-A88D-E8E213BE2A0E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787073-43A3-4D36-98F8-BA9DE8FBF51A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D5FA3B-6354-4381-9943-D51098A5F2B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52A41C-85B9-46CC-9B85-235C05AA6ED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732D94-9E96-483D-8D47-10BB4A147C1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9204BC-C724-4A74-B5C7-49F2863CBD1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914B60-9FD3-4AFF-A910-ECACAB80783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5B9F10-9B92-4A04-9048-77D04D49DE9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BF21EC-73D3-4C0A-8A00-13E00073723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2844CF-F440-411D-81E0-C5C6DC2689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ABE36-79E0-4088-B0A6-ADAF824D3CD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742A32-2015-4290-B7DA-5786F475AE8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32D672-D04D-4A3B-9D1D-7FBE7979A97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2C5376-FD3C-402D-BFEC-2E95F2692F3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83215-38B9-44CC-9880-8B14DBDFD15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757BC-556F-4381-B91F-2DFF7112CC0F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FE884-59B5-465E-92D3-04A0C46960A4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402D4-A824-440F-8AF1-5CAB0B0C6716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8EA10-D607-4774-928C-CD0ACCDA7E5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F3B3A-A0A8-4DA0-9CB9-3EF2975CC5D6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E0D5B-0B17-4567-8389-B836370D94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99E0E-EFF5-4825-A42D-DC0DA830B1F9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1C555-EBA6-47E0-9B5C-B96998C98315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F5321-C409-4427-BA2D-33FC630D32C0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E1C30-6595-493D-A7A4-9A4340DC0189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1D13E-4FAA-42A2-9255-2FB59B07E3B1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CB2F2-DCF9-42D5-A007-22B9248AAD08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21E171-144D-4386-8DC0-15BC6DB2B7B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BA43BC-51C7-4644-905E-36957D652BB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DBD420-B70B-48A2-B434-58D0904EF28F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12A374-28AF-418B-BB50-40BD5FBCB420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75A797-E93A-4B9F-85CA-29312F6B58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664A7-8A19-4278-A70B-AFF5DC1C34BD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A9A46D-1A45-4764-BE64-233950FBBF5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4B276D-E4B9-489F-8785-94B4D161E7D3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021FC9-0D08-48F5-A89A-43EB0D4D50B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34336E-0CF9-4B06-B02F-5E6D8191FAC7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4B260F-4075-49CF-B094-A2E1A937123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339D32-5AED-46EB-8787-98522E461F7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85D3FB-0FCE-45FD-B8D4-035C29FD330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681B5-060A-4D5E-A946-0407B6D573E6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D328F8-A7ED-4757-82F3-3C7E113824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FD1B9-2A82-46E2-8B10-089DE15F8389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FC0C4B-B796-46BB-90E1-5866B608E88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4C7371-AEAC-4F2A-A4ED-419CE8847AA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4EDC68-AB8E-42FD-9D43-FA0395B526E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282B01-D444-4247-9ADD-E4C62C30C3B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0A1D53-63D2-458F-B1CA-9A90065E7A4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D36420-E4A2-46D7-B248-A82B325F44A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522DE1-B069-4725-9A77-13A89C7C5D4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50E4A1-9F2D-4237-B357-26C064BC361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1B3C69-DB2A-4021-8E41-93F432B1D0F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E05190-7BE6-4CBE-B418-D7CA5BF4D5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9E7C6-BD7A-4455-A3B4-B97219638D59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5EB734-612E-495D-89AA-457187C326C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2D8B0-454D-42CD-AD4C-0194FF397FF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E45DD-E752-4C3F-B64A-146F6585D93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FE133-48E3-4CBE-8292-DD582650064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90ABB-AE41-45BE-AA7F-65450147DC70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0CCB7-7709-4253-B068-C10E5266A38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D43DA-1D5C-45EC-8D18-987B264FEA5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E480C-9BAC-4E14-B597-21F153D0DA0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85B3E-A9EE-4273-98C1-82A9DDCDCDC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A2272-F47C-4AFE-9A9E-AFB48ED088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7FF35-48CC-4255-9B7F-D9FEA054BD3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30A0E-8C13-4B9A-9389-6759309B4FE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6382E-6726-446A-920C-12F1BFD04E2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7E632-504C-4F50-BDF9-35BC1660D13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18E630-6C44-415D-A334-82D589AC59A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3D50A3-D096-426A-9547-71A76BC37C4C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93E752-987E-47D5-A54F-C02403FB3AF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38E2B4-CF50-4C29-B36E-941BDFDB015F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BC25F3-BB53-4C72-B6BC-14ED80FBB41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29ABFD-7143-451D-BB91-7BB13137AB3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EB7C60-9713-4CE3-9F00-03776A32B9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B477B-FB72-4B17-8DC5-D5DE98B6CB51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2BAD05-61ED-4DD4-B13F-5051D97ADA8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A4814A-630F-4ABB-8050-3DBA27F2CB1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484257-0BF4-4151-A09E-1AB0B24DEEFF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79B888-4FD6-4DC6-9E3D-CD6A239C1F8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CE13A4-BF01-47D5-A92E-694AA57C5F5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3CDC25-2D67-4B06-BD23-1ACD7B13191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ED2DB3-4A1E-4467-9FFC-76946C8A557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252CA5-9082-419A-996C-4461790D76D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D497C8-CF21-4EB9-9F20-4FEC18A4AE4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969E3F-4210-4FD5-91F5-03E00B3BA4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64C1A-B6AA-479B-ABA6-89C2DA4F0E84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2FD6CE-0563-484A-9DB3-1335FA142AA0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2227D0-C024-43C6-B530-E84C442127A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AE7B81-114B-44D4-909A-C8608E45DFF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1E8732-5620-4457-9DDA-36C205E06EA7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B187BE-D67C-402C-9F63-1E865B2CCFF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680D32-2AF5-4BD7-8476-877D80A956F4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DF4405-B96D-438E-B9B1-54489B2DB3D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E909F-5772-44B6-AB52-A5091BB73FA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E8CAE-54A6-46FB-AB04-42F08EDB21B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2E7D1-F5EA-49A3-B067-D0A339F9F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821-6A75-4BD1-956C-E2469CD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10330-F49B-4586-85F7-1C123F91C771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54B42-B50A-48A1-9C0A-7C653ABD4D2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B1A44-6226-4F47-9765-60B72D7D679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767E1-4F9C-44F7-B369-6DEA357FDCB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7BCC9-7251-454B-802C-B5BC146115B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D48BA-7030-43BB-BEA1-1D46D373DF0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8D965-98D0-43A5-A1E5-671F5EE1120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11E90-7A3D-4D9E-8269-5274D8B8F4FB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C500D-B2E7-4851-A34D-B3A6189FB29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7AB0A-08BB-4294-8954-E305B233F34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38F993-26F3-4311-9FB3-0E9D78C82A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1E2BD-5A96-4DB5-A207-603DE6280C4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A8E9825-7D12-4625-A0F0-5717BE3ACA0E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3F37EC-9C50-406C-8E78-7FF3795C9A46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3C2623-755C-496A-9CA5-1878A647DCCE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457C07-1BEF-4B4B-961E-BC90159420E2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6BCF81-41DE-48DF-AE1E-2CCAA7D2CC30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0D7C95-70DD-4C27-8BFB-B9FA7A97D778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312B3E-8969-4DC0-846E-3CAF5F4EE726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B0D100-9720-4175-9566-EB5A5295C2BF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5219DA-07A9-41B5-98EA-C8471A861CE0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4D41D6-FA11-4949-822D-18FAA7C69B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EF4DA-CA0F-4DCD-8D50-991E487AF9C8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B3D6BD-704F-498B-8BA7-4EC5E7C46D9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E4AB-FDDD-4B9E-932B-32CACA580CE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C87E49-06BA-43F0-8D40-495346963F5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395FB8-934A-4F8F-BEAC-10587FD2836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5738B0-1CFE-4E64-A1F6-10030CDD933D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06EC37-E535-4DAA-B2DD-2ED90FA44AC7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768294-38A5-4198-9B0C-7984C6CBEDA9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DE776D-B36E-4B1D-8881-14670F6EDF9F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C54015-1DA2-49F9-A638-D4101D20D7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A887-0C2C-4306-9A3E-53EA3F3270EA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254464-6A56-45BC-9368-5E1B3D4B8023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92CB12-1446-4302-BD83-664008A20BA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7E253B-AD89-4951-9963-2B57DD22D04D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CC921C-2575-4383-879F-3187403FE2A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0D0E44-DC2B-40B6-9F6D-4AF4ACFDF1A9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75D67-74AD-4669-A4E5-BCB8F83C9527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A0951-9A9A-4CAA-82BF-9CA3BB447436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290C5-853F-4EFC-8258-080098E9DDE1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E96B1-D7FE-4376-97E7-4D6EA1642D55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1A0E8-6BED-44AA-981A-89F20E39DA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3470-3310-40CB-BA3B-E842A2A41992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A17AD-C693-4168-91A9-1DB4DFFC8CB9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AAB6B-7EE7-41DA-808A-70C07EBEB160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B5212-87FE-4B12-9C84-209511159B9B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F608D-956C-4530-8723-08D2A5EB8EE1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526AA-B38D-4555-A226-0FF86577DAEC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83C51-EA3F-4FE1-8522-DF41284862F0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D47E1-8059-4819-BDD4-77D2A249C64B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4057B2-5C3F-40A6-B3C2-7046F2D35B3F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C3E3CA-7782-4D53-9A2C-FAFB01D0B31B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38B13A-4DB2-44A4-8764-38C2432E9B1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9994-63E4-4F19-956F-99FF659200EE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C384DD-775A-49DA-889E-A0F453C5950F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671D1E-7A16-4AA2-A8A5-B294D60726A3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E55272-55AF-42EC-840B-C04E83CA48FE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C53B22-011E-4BB1-B485-F9C5756EF3AA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C4A23B-66FC-4F26-A51A-3A131C0D7CC1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16AECF-D70F-429A-B10E-558A538C3AE1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3D5BD7-69ED-4F87-ACDD-C395A9B4F568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EACA0E-FE9A-43F9-81E9-8FCF4CAE4FA4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EADE74-CB0A-4124-A15F-9BC6A10FE1AA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F37A1E-338D-4687-A13D-2888F89B82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1B1A-17DF-490A-8C3E-884C8FBD67D1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7311DA-7B72-45E7-8FA1-E509538BF20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AF9B9E-2A3D-4CA8-991C-C0E4D90FE7CB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C6E4F5-56ED-4AA4-8DE6-87AFCC41D409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3A834E-4E90-49D3-A1EF-297A6219D629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18B36D-CAC5-4468-855D-31D97395813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7818BB-1DD4-46B4-8352-44CA4DFCAFD7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A7064F-FC40-4654-9943-924C44AA094B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D3941D-AC2F-4C30-8F6A-533EE6A4540D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518F48-FBFE-4137-9305-2FC1EC6B0ECE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02B2FC-11F7-40ED-A26D-B24F59C4E8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BDDC-FDF1-4E93-97EA-4A251C04DE52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E1DAA0-9E42-453E-B89E-50A47E7B37D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1AB4EB-4911-4768-9EF2-923063FA093B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57921-A25A-4614-8621-418AF7F08337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4DB0A-8CCA-4505-97C3-A10368D0962A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235C4-0D4C-4E45-8798-36B579556765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4CFA2-0100-4ABC-BEE0-FFBC16D4B005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ADCBC-83CF-4BD5-8277-FC7973E03C96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3BF8C-5709-4D35-A663-2A96584A9CCB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E74BE-60CB-472C-89B9-7A604D1999A4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D1243-2175-40F7-B7C4-F870034DD9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8465-D413-492F-BD24-A14B329FF182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45F1C-4CB3-4353-AD6D-A3C3A8A57F36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D5A21-9F38-45DA-96E2-6377946B4A74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34270-4F93-4BEB-B5F5-79BCC4D7952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CBD9C9-F4D0-4104-8C48-EB8835B773F7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7EE247-FB46-40A9-9A09-3716BA2E6BBC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B5E984-C044-4E70-8054-ABFF4AF7C88C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B4F3FB-3D1E-4AA9-B83A-151DCA13D97A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CCDAC0-A368-419A-A871-4800D7120DA4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8EF760-E72C-4609-96A0-8C4746CFB001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84EF56-92EA-4CB6-ADB7-41CC52168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588-AD19-44CA-B70B-2536533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8DED-6BD5-49AE-877B-D6BF597032F5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2E2344-C5E6-493F-A31F-1C4008171A49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FE9C48-FBEC-4B61-8BBF-AF410943E413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87A8C0-544D-475D-A6A4-8EDADEEDA2E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0A533B-C734-4E96-AEAE-B3784829D93C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183CAC-6911-4AA3-A7C7-82AAD0FE948E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2FA3-18AD-4276-8DC3-677D90057AC5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CC4C47-A93F-4592-A24E-2EFF9870BC20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D7AB82-9122-4628-B2B6-B94365A40FC6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C5E6A9-D415-4DFA-BB5C-ED69794E0E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F2DF-CC68-402D-8DBA-364A0843B885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10BC16-8DEB-4E86-8888-2B9A55A55EE5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11F70C-C3FD-4E8C-8266-2A87D0A26641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884EE0-A7CF-4195-A58A-69B95A22DDE3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3C6129-2E65-442C-8F12-94B6EC316EFF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DF2DD5-8F34-4876-9638-8FA8BA02547A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2C3286-8277-45CB-B04A-DA70C617EEB6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AB9E70-7559-4DD9-9139-22080931ECC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75EF4C-BFB2-4925-AAF6-BA0B48CFDDDC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ACE576-6BF6-4140-8D7B-3C8B245C9A7C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1A657-0319-44FB-BF3B-20868468E5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216B-E204-4F46-BF88-D5679D964AD3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5FDDD-1556-449E-9F3A-20ECD1FB09CA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81BBF-82D8-4DE5-B7A0-B3237ABC79A8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86B90-0BD1-4985-8BD1-0B657EFC2073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657DD-587C-481E-BEDB-4E1328C783FD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9AD76-F8B6-44CE-B554-7D298AA557A8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E3C6D-BAD3-4C80-AEC3-5DE79DC5FF3B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0F346-C8B9-4E51-A801-5FCF0978A561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0ACC8-B360-4CB9-AFF5-607039502499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D40BC-B790-4F2D-9545-F1153AFF3866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5559D-9A67-4D85-AC4E-2725FABDF0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2BE3-EC20-429E-B436-486FF8071CE0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C8968-FCEC-4339-8D64-C7C699D96CDF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36F2F9-5835-4DE0-839B-25FF2275588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22FCC1-E4E9-4C05-9136-82353B1F7530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B39A32-DDAE-4211-8DB4-9744EA43C2C9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0947AE-B738-4248-BE15-4F50A966FC56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86CDD8-ECC7-4FAB-9EED-4ED6ACA0BD39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7B9EDA-50A1-4453-B9F8-5C863121BE39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451D10-45A5-4C72-ADB3-A4B303189AB8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0DEA19E-ABAA-432F-A328-BBE0A0C1947B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17BA99-5565-4BD9-B9F3-3CC70EDE9F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55628-64EF-4FFF-BCB4-035C56611418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190794-DD51-4BFA-9EBF-34041955AFA6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D13B2A-77CE-4280-932F-E33FC6047538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AAE6EA-78D7-4710-A857-D229CFBF6CED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564FCF-C92C-4D5F-9182-0F2096C3ED9C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91F24B-7258-40F1-99FB-AE9854E650F1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75393F6-4191-403E-9559-9071177BCD6A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DFD140-E927-448E-9D68-DC0ABAB3B70F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69355E2-0A41-4F2A-87FF-7281F918BECB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9724E4-3ECC-4F7D-B439-94ECD4E3CE5D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D5D19F-9381-473F-B198-A37CE67B3B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C3BB4-0163-4F11-BD53-1301662C2FB3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86745EA-EFBC-477A-AA74-AEC1C9B41E8C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4CA1B9-5EC1-4641-AB27-3D3F81A3766F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F777DB-4F2D-4F58-AE18-CD2FD80FEDF2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41C912-EC5F-4F29-8F86-C1444445FCF0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6042D3-4A00-43CE-A735-FB121F1C306B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DD201-96F5-4FAE-ABAD-E90C23C765E6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5D51F6-8CAF-4978-B1C9-5C72F0A38CFC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C0DB0A-C5C8-4D10-A0FF-84290B4F578E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4839E-FB4F-488F-8BFC-E3FD2E6DB556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BF02D7-B461-4077-82C0-2B17E5CCA7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ECB1C-C72D-4A53-A6F8-959209D5143C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9AF2B-0702-49B0-8C3A-99B73B6F8E77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9501F8-FECE-45E1-A754-8E30E6BA3AE2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86A05-F3DF-489C-95A4-96C0589957F8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37B8B-67D0-4F17-B5DD-10AE7ADD2E17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75526D-2352-4C14-993B-F9018BE0432F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34A619-917D-479C-A71E-0212C46669AB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D21178-C8BF-4135-AC1F-EA181AEA1956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40DDD5B-02BF-4E27-9B0C-B46837265ACB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75F09C9-7368-4231-8D8F-0989A27BC9D1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0F7E11-5E85-4D72-BE46-2A4958D070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9D6CC-5B6C-4E28-A87D-330F4F5ED919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863DD1-2915-401F-BB1C-3B51C6C3325E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BBD782-202D-4D9F-9536-7FF1A1F267B6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ACB21A-B547-4741-9AF1-7F123208D2C6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D984ABE-C0B1-4447-BEFB-00687AA788C0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960B11-4DAE-48C4-9105-97D9D134C0C6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F3D8B6-C53A-40B0-9706-FAA0EBEE3AD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E8CB98-BE70-4998-AAE4-C2B5671395AB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288DD3-F014-4FFA-A8F8-367E0B2F8003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F40F98C-E657-490A-924C-AB251C3A697F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B2A51-0CE1-421E-B2DC-647897607B8D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797-3F08-4A11-8E53-7A5C1C4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86C5A-F08F-42AC-816B-9501A3FD760A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8404F7-63FB-4B63-88F1-0D4297BCABB1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6CFF3E-50CA-468C-B946-F8440EF3A6CB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0F730D-C2C0-4EAC-81A8-2E2A30BC45EC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29B2E6-8497-4FF3-A4A1-2D06F3EEE5AB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F68E95-DF4C-4340-A013-38C66A508B71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DD87E9-A7F1-41F4-B16F-5A448D252718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A1C3F6-E655-4E76-90D0-F4C883AC404F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312CD6-56C0-48EF-AEDE-A20D49550F61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0C9F04-1AA5-446E-9383-42B3E896F4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93025-1275-4238-9FDB-0A8C80AB81B5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AD6260-5974-4064-AA07-687579B88016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485913-7D89-4ED3-9310-8A6CFD25470D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924B7F-016E-4C41-9029-7EBC48ECBBCA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075C2-659C-4B67-8F29-BE625AD17AC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D812B3-7195-4F52-807A-076C5728AA2F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E2AC9-9B9E-453C-ADC2-E957FAB03D4A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7A8503-EB0D-4BCB-AB48-6C4E4FAD1B90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6CB685-C795-4EA7-B4A0-E36326B9A0FF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78FDF-85CE-4161-BA2F-0F12DACDB8B0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F181D7-3F48-424A-ABB4-18D40203C4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83D63-9EFC-4106-8950-272287543EE4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E7644B-58B3-4C41-8D11-2841450DB9F5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C4674-573F-44F8-8A22-F68C42297784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904CC-35C8-4188-B1C0-D241A9FA3011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316FBA-1C4F-4023-8C4F-06FF18873792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8E645-47BF-405E-AAF3-E523C7F9FFAA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0086CA6-D022-471B-9480-0E921277E22B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1B5F13-5B29-4888-B210-EE1677577BD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E935C2-5153-4AAC-A03D-90AFA330BD3F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F5B5B6-AADB-43EB-A96E-A1280E5B0BE6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22BC43-BF27-49FD-9552-66DCE741D70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5A615-1843-4E44-90BF-9B02F61947D6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4B9395-42A3-4958-824D-DB03C989CE9A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04A947-CB47-4A9E-B8D0-C25FD37D307F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71858F-EFB8-49C2-9451-17966E62EDE4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93A59F-9A90-43A0-B072-D2172745B963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0E5130-621F-4D80-B84E-93E61D5BE9A4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F68790-2D30-40AF-A8FA-C1344456423E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9EC47F-FE7A-4F9B-80E4-06DE9F808146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7287DE-E67F-4AB6-8B46-5A68B4DD2FC8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705A6C-8852-45FB-8AFF-F4A7ED48069E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C2D849-C7D7-4F4A-B0B3-ECE3E258C7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0BEB9-9DDE-4936-AAEA-71CDFC9DEEB4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2EC36B-838E-4644-95A8-1E19F3CD546A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834234-A334-4BAC-A4D2-D80F4944F70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A9F526-4F75-4C05-8AAB-4728CA6C8EB1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64D623-4AD1-4682-9E57-D1EAF0DD5399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ABED67-9389-4F43-8A19-412A852938C3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293125-B363-4459-AE67-C5C39CCEF1F2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15E2BD-CBEB-4AA7-88C9-4AB0FC7B5C73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A588E1-D895-4236-B206-C838487453BF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22E2DE-AAEF-4580-81B9-5449E2875C4E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82B69B-DD24-40CC-8B4D-D959888538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C47A3-DE8B-4F46-AF62-2926EFE6248D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AB8B0-7FC8-4E09-ABE6-C35CC7ECA468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075A4-BA63-494C-AC82-2B7A1EBA09AC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184E2-6135-4BE3-8490-8CCEAF80BAA2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203627-1C15-43D1-88BC-A708B0073E8E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0EA0A-650D-4657-A869-22A7CE76A2E8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B9B9B2-1486-46AA-A92C-1FE5A6651D43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5AB274-EAA6-4E2C-ADE3-692327714203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B48870-9E91-407D-912D-B82E12771115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D7E809-0F2B-4744-B824-9F8B2046A45E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3AFC3F-8E43-4FD7-8DBB-E998F66AB8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D3F07-4D29-4E0D-867E-86A907FC18EB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554B9-EDA0-453F-A87D-BB2BA36CEDB1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E0873DB-CB2E-4D1F-9A93-757D2F5F318F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E99CCC-B13B-4001-A68E-ECB90DACA150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AF1CD8-5F2B-4196-8C6A-5EAB281ABE83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EB281AC-4AE6-401D-B550-9F755482DC78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2E9864A-05EC-4D09-B09E-DC178FADA862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7D3A5B-D21F-470E-B7D0-950CC51EFDDE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09043B-8D53-4150-92B9-78D8A90ED340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AA42F98-AF5E-48D1-BB01-03B54E8FB72C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790A0FB-4C62-485B-AC12-197D3F5B2F7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F6E2D-02ED-4A8F-A0F7-6B5E095FF25C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1A7697-0BF3-4D27-8B64-14D0E6AC9985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CBA3FBB-587B-4F32-810F-DB4E5C4F4D07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128870-3CDB-4653-B1AC-8BC8707BB0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C801E-EE6E-496B-A887-728774DC4B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6A1D4-31C8-4894-A88B-8DC0CEC07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92B0-A628-4896-B6D6-AE9B06FCC4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1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0E1-9622-4C8E-A974-7DFBCC48C88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9276-7D0E-4C39-87CD-E6F26B02EC5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1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789-0791-45A9-B335-670183B93C0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1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CE8-F0E2-45FB-B288-C2E40B69116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6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731-7153-4E8A-8396-9B8BB140092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Num" idx="1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FCF-69D6-472B-ACEB-661FAD3EEB2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1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4E8-DFA7-4C16-BDE7-D6C3FE29663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D72C-334A-45CB-A364-2C6D5795FE4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CE0-56C6-45D6-8021-C6C57207355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78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Num" idx="2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7AF1-37F6-48C2-AD7C-200645EBE5A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2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sldNum" idx="2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E0C0-9F60-43E0-9272-DA9BC845CB9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6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sldNum" idx="22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2A17-4071-4515-B90E-185D3AB2C76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0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2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E3C-DA12-4749-9DF2-608C2A5AC5D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4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2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6651-D88A-4413-BE19-602FF9C5B2F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8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sldNum" idx="2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1E2D-CB94-48C3-95D6-966CCE95109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02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06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2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A49-AC2D-41D1-A1F2-C5A3CB25E15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1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2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1FF-2206-467B-A2B7-42185F0BEF0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5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sldNum" idx="28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F0A-111F-49FB-91EC-86E93C6E1B1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55A-C17F-4F9E-9C1D-05AA16FA9ED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2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9CE5-D900-4F9A-B0D6-654A2FA4BBF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3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3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621E-26F6-43EC-B4A3-79A079CE0B5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7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sldNum" idx="3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0A3-A938-47F9-B035-5242658F35B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1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5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sldNum" idx="3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2AC-1C14-40B7-B6D9-A8E9464B895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9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 type="sldNum" idx="3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196-3FE6-45F1-874E-5686437705D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44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sldNum" idx="34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C7D-97EC-4F9B-A9EB-F792A3C9B4E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3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A746-1F3D-412F-B63C-8131FE6FDA1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52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sldNum" idx="3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C372-D4BA-4EDC-955A-B81ADF75DA7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56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Num" idx="3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EDF-A6A8-4B33-8343-1E4D06D01DE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B19D-88E7-4DAE-99CF-BD05015ABCF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0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sldNum" idx="3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091-62CE-4075-8D45-FCBFDE60CD98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8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sldNum" idx="3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D3D-9D6D-471F-90B9-2E313D5D5DF8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72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0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3CA3-9025-4BD6-9AD9-B0CF6287143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76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sldNum" idx="4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801C-21B4-444A-8B8C-FC4A64645BC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1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 type="sldNum" idx="4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A57-0D21-4E97-8D1A-2B37FFBD286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5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sldNum" idx="4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6C4-042B-4A1B-AA13-4AA3D5AA03B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9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93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sldNum" idx="4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A843-0029-43D3-A97F-9163F3AE192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97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Num" idx="4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00D-CD49-400D-B1D2-F27DF454773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C2B-2755-474C-9EB0-DADC2D8548F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1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sldNum" idx="46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568-1467-4439-8F8C-2384C4BDD12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5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sldNum" idx="4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8026-90A5-4CDA-8248-EC8CFB504E7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9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 type="sldNum" idx="4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2F28-81DE-42B3-B42D-3A25CE645D0C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4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916-F1CF-41C6-8900-7FB5514FD07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18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22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 type="sldNum" idx="5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68B4-E06C-4ACF-97A9-4EC67147AE6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26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sldNum" idx="5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8150-EE57-4D1A-B815-8B01417DC37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0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 type="sldNum" idx="52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DE0E-3F49-4C79-B117-050CB97A2C9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 type="sldNum" idx="5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72F-3176-44B4-8A06-B57FD0E49D4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8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Num" idx="5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3F7-C3CE-4CF4-924B-55E7AF28925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8554-D217-411B-821B-80D2C8901EC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4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 type="sldNum" idx="5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7D7-09F1-45C6-9A8B-F7EB7D3C727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4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sldNum" idx="5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B57D-1D28-4FA8-AFF2-0D7D7D7901D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5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 type="sldNum" idx="5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2FC-3F4A-4004-9234-72B212040436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9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 type="sldNum" idx="58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2529-E2F0-4E0B-A2E4-310E4FB4E5D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63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 type="sldNum" idx="5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7FF8-C920-4645-A86C-21E365B55E7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67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 type="sldNum" idx="6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8D5-DC4A-423E-8EDC-CFB9BA8E6CD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1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 type="sldNum" idx="6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8B26-A00D-4C28-93B2-3A7F15D8D30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5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9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 type="sldNum" idx="6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03B5-9C60-4F75-956F-701608F115E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F884-89CD-43A2-A087-1CA51D287BF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83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 type="sldNum" idx="6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DAC6-3CEA-46FD-9A79-77AB5BB3838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88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 type="sldNum" idx="64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65DF-E9B8-4C14-B5E7-038409D382C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2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 type="sldNum" idx="6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1BB2-6519-41D8-934C-73E3DF32741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6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 type="sldNum" idx="6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98C-8192-48CF-9FFB-3F3FE279BF9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0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 type="sldNum" idx="6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268C-4C02-4FDD-815D-2B5CC87C3BC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4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8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 type="sldNum" idx="6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8221-19F8-4532-85ED-230AC63386B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1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sldNum" idx="6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16F-C106-4EC3-9235-C2BDFFFD84A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1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 type="sldNum" idx="70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470F-88F9-4E11-B273-60EEA4A5A2F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 type="sldNum" idx="7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464-D7CF-4C86-8409-F4175CD3BA3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76AA-47E4-4B26-B46B-B06221794E7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5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sldNum" idx="7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E28-C94C-42F5-9062-492E9A08097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9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 type="sldNum" idx="7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02C-8BC4-4DA1-871B-BC62173BA1E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E3B-C9D5-46C3-BD97-93780048F2B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mailto:prirodasouz@yandex.ru" TargetMode="External"/><Relationship Id="rId3" Type="http://schemas.openxmlformats.org/officeDocument/2006/relationships/hyperlink" Target="http://www.prirodasouz.com/" TargetMode="External"/><Relationship Id="rId4" Type="http://schemas.openxmlformats.org/officeDocument/2006/relationships/hyperlink" Target="http://voda.org.ru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080720" y="3242880"/>
            <a:ext cx="738972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SwiftC"/>
                <a:ea typeface="Arial Unicode MS"/>
              </a:rPr>
              <a:t>ФЕДЕРАЛЬНАЯ ЦЕЛЕВАЯ ПРОГРАММА «РАЗВИТИЕ ВОДОХОЗЯЙСТВЕННОГО КОМПЛЕКСА РОССИЙСКОЙ ФЕДЕРАЦИИ В 2012 – 2020 ГОДАХ»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SwiftC"/>
                <a:ea typeface="Arial Unicode MS"/>
              </a:rPr>
              <a:t>(ФЦП «ВОДА РОССИИ»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Прямоугольник 2"/>
          <p:cNvSpPr/>
          <p:nvPr/>
        </p:nvSpPr>
        <p:spPr>
          <a:xfrm>
            <a:off x="4691160" y="6240600"/>
            <a:ext cx="1819080" cy="61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33F-4AE5-438C-8E53-C03AEBC7063D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9" name="Рисунок 1" descr=""/>
          <p:cNvPicPr/>
          <p:nvPr/>
        </p:nvPicPr>
        <p:blipFill>
          <a:blip r:embed="rId1"/>
          <a:stretch/>
        </p:blipFill>
        <p:spPr>
          <a:xfrm>
            <a:off x="114480" y="1244520"/>
            <a:ext cx="8288280" cy="4486320"/>
          </a:xfrm>
          <a:prstGeom prst="rect">
            <a:avLst/>
          </a:prstGeom>
          <a:ln w="0">
            <a:noFill/>
          </a:ln>
        </p:spPr>
      </p:pic>
      <p:sp>
        <p:nvSpPr>
          <p:cNvPr id="3470" name="Rectangle 38"/>
          <p:cNvSpPr/>
          <p:nvPr/>
        </p:nvSpPr>
        <p:spPr>
          <a:xfrm>
            <a:off x="6138720" y="4365720"/>
            <a:ext cx="2608560" cy="2201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Объект 1"/>
          <p:cNvSpPr/>
          <p:nvPr/>
        </p:nvSpPr>
        <p:spPr>
          <a:xfrm>
            <a:off x="473040" y="3467160"/>
            <a:ext cx="121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3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Объект 1"/>
          <p:cNvSpPr/>
          <p:nvPr/>
        </p:nvSpPr>
        <p:spPr>
          <a:xfrm>
            <a:off x="422280" y="4573440"/>
            <a:ext cx="1609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13,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3" name="Объект 1"/>
          <p:cNvSpPr/>
          <p:nvPr/>
        </p:nvSpPr>
        <p:spPr>
          <a:xfrm>
            <a:off x="1712880" y="3932280"/>
            <a:ext cx="1101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8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Объект 1"/>
          <p:cNvSpPr/>
          <p:nvPr/>
        </p:nvSpPr>
        <p:spPr>
          <a:xfrm>
            <a:off x="1030320" y="2595600"/>
            <a:ext cx="1216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44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Объект 1"/>
          <p:cNvSpPr/>
          <p:nvPr/>
        </p:nvSpPr>
        <p:spPr>
          <a:xfrm>
            <a:off x="2889360" y="3693960"/>
            <a:ext cx="121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48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Объект 1"/>
          <p:cNvSpPr/>
          <p:nvPr/>
        </p:nvSpPr>
        <p:spPr>
          <a:xfrm>
            <a:off x="4195800" y="4290840"/>
            <a:ext cx="121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67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Объект 1"/>
          <p:cNvSpPr/>
          <p:nvPr/>
        </p:nvSpPr>
        <p:spPr>
          <a:xfrm>
            <a:off x="5524560" y="2924280"/>
            <a:ext cx="1557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283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Содержимое 9"/>
          <p:cNvSpPr/>
          <p:nvPr/>
        </p:nvSpPr>
        <p:spPr>
          <a:xfrm>
            <a:off x="5524560" y="3246480"/>
            <a:ext cx="182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Дальневосточный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Содержимое 9"/>
          <p:cNvSpPr/>
          <p:nvPr/>
        </p:nvSpPr>
        <p:spPr>
          <a:xfrm>
            <a:off x="4224240" y="4611600"/>
            <a:ext cx="182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Сибир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Содержимое 9"/>
          <p:cNvSpPr/>
          <p:nvPr/>
        </p:nvSpPr>
        <p:spPr>
          <a:xfrm>
            <a:off x="2889360" y="415620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Содержимое 9"/>
          <p:cNvSpPr/>
          <p:nvPr/>
        </p:nvSpPr>
        <p:spPr>
          <a:xfrm>
            <a:off x="1503360" y="310680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Севе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Запад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Содержимое 9"/>
          <p:cNvSpPr/>
          <p:nvPr/>
        </p:nvSpPr>
        <p:spPr>
          <a:xfrm>
            <a:off x="1731960" y="4398840"/>
            <a:ext cx="123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Приволж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Содержимое 9"/>
          <p:cNvSpPr/>
          <p:nvPr/>
        </p:nvSpPr>
        <p:spPr>
          <a:xfrm>
            <a:off x="422280" y="507528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Юж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и Севе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Кавказский 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Содержимое 9"/>
          <p:cNvSpPr/>
          <p:nvPr/>
        </p:nvSpPr>
        <p:spPr>
          <a:xfrm>
            <a:off x="466560" y="3960720"/>
            <a:ext cx="182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Централь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5" name="Содержимое 9"/>
          <p:cNvSpPr/>
          <p:nvPr/>
        </p:nvSpPr>
        <p:spPr>
          <a:xfrm>
            <a:off x="620640" y="1841400"/>
            <a:ext cx="18846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т</a:t>
            </a:r>
            <a:r>
              <a:rPr b="0" lang="en-US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с. м</a:t>
            </a:r>
            <a:r>
              <a:rPr b="0" lang="bg-BG" sz="1600" spc="-1" strike="noStrike" baseline="30000">
                <a:solidFill>
                  <a:srgbClr val="000000"/>
                </a:solidFill>
                <a:latin typeface="SwiftC Bold"/>
                <a:ea typeface="SwiftC Bold"/>
              </a:rPr>
              <a:t>3</a:t>
            </a: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/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н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Содержимое 9"/>
          <p:cNvSpPr/>
          <p:nvPr/>
        </p:nvSpPr>
        <p:spPr>
          <a:xfrm>
            <a:off x="6138720" y="4579920"/>
            <a:ext cx="260856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Белгород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Челябинская</a:t>
            </a:r>
            <a:r>
              <a:rPr b="0" lang="bg-BG" sz="1400" spc="-1" strike="noStrike">
                <a:solidFill>
                  <a:srgbClr val="000000"/>
                </a:solidFill>
                <a:latin typeface="SwiftC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ур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урган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Тамбов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wiftC Regular"/>
              </a:rPr>
              <a:t>Республика Кр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Республика</a:t>
            </a:r>
            <a:r>
              <a:rPr b="0" lang="bg-BG" sz="1400" spc="-1" strike="noStrike">
                <a:solidFill>
                  <a:srgbClr val="000000"/>
                </a:solidFill>
                <a:latin typeface="SwiftC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алмык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Rectangle 39"/>
          <p:cNvSpPr/>
          <p:nvPr/>
        </p:nvSpPr>
        <p:spPr>
          <a:xfrm>
            <a:off x="6138720" y="3919680"/>
            <a:ext cx="2592360" cy="5396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Название 4"/>
          <p:cNvSpPr/>
          <p:nvPr/>
        </p:nvSpPr>
        <p:spPr>
          <a:xfrm>
            <a:off x="6183360" y="3871800"/>
            <a:ext cx="2676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РЕГИОН</a:t>
            </a:r>
            <a:r>
              <a:rPr b="1" lang="en-US" sz="1300" spc="-1" strike="noStrike">
                <a:solidFill>
                  <a:srgbClr val="ffffff"/>
                </a:solidFill>
                <a:latin typeface="SwiftC"/>
              </a:rPr>
              <a:t>Ы</a:t>
            </a: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 С НИЗК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ВОДООБЕСПЕЧЕННОСТЬ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Название 4"/>
          <p:cNvSpPr/>
          <p:nvPr/>
        </p:nvSpPr>
        <p:spPr>
          <a:xfrm>
            <a:off x="622440" y="5834160"/>
            <a:ext cx="5081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В России на территории с 10% ресурсов речного стока</a:t>
            </a:r>
            <a:r>
              <a:rPr b="0" lang="bg-BG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проживает </a:t>
            </a:r>
            <a:r>
              <a:rPr b="1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более 70%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588600" y="101916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1 ЛОКАЛЬН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Е ДЕФИЦИТ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ВОДН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Х РЕСУРС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0F4-D59F-4315-9451-D9391D34934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2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2 НЕДОСТАТОЧНАЯ РАЦИОНАЛЬНОСТЬ ИСПОЛЬЗОВАНИЯ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ОДНЫХ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1015920" y="2124000"/>
            <a:ext cx="4091040" cy="40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ЪЁМ ВОДОЗАБО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 ЕДИНИЦУ ВВП (М3/ТЫС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. РУБ.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Содержимое 9"/>
          <p:cNvSpPr/>
          <p:nvPr/>
        </p:nvSpPr>
        <p:spPr>
          <a:xfrm>
            <a:off x="1082520" y="5268960"/>
            <a:ext cx="962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Росс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Содержимое 9"/>
          <p:cNvSpPr/>
          <p:nvPr/>
        </p:nvSpPr>
        <p:spPr>
          <a:xfrm>
            <a:off x="2522520" y="5268960"/>
            <a:ext cx="96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Канад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Содержимое 9"/>
          <p:cNvSpPr/>
          <p:nvPr/>
        </p:nvSpPr>
        <p:spPr>
          <a:xfrm>
            <a:off x="4038480" y="5268960"/>
            <a:ext cx="962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СШ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Содержимое 9"/>
          <p:cNvSpPr/>
          <p:nvPr/>
        </p:nvSpPr>
        <p:spPr>
          <a:xfrm>
            <a:off x="5535720" y="5268960"/>
            <a:ext cx="1301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Франц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Содержимое 9"/>
          <p:cNvSpPr/>
          <p:nvPr/>
        </p:nvSpPr>
        <p:spPr>
          <a:xfrm>
            <a:off x="6975360" y="5268960"/>
            <a:ext cx="1301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wiftC"/>
              </a:rPr>
              <a:t>Герм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Объект 1"/>
          <p:cNvSpPr/>
          <p:nvPr/>
        </p:nvSpPr>
        <p:spPr>
          <a:xfrm>
            <a:off x="1035000" y="4533840"/>
            <a:ext cx="1101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9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Объект 1"/>
          <p:cNvSpPr/>
          <p:nvPr/>
        </p:nvSpPr>
        <p:spPr>
          <a:xfrm>
            <a:off x="247500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4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Объект 1"/>
          <p:cNvSpPr/>
          <p:nvPr/>
        </p:nvSpPr>
        <p:spPr>
          <a:xfrm>
            <a:off x="400680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Объект 1"/>
          <p:cNvSpPr/>
          <p:nvPr/>
        </p:nvSpPr>
        <p:spPr>
          <a:xfrm>
            <a:off x="549288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0,7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Объект 1"/>
          <p:cNvSpPr/>
          <p:nvPr/>
        </p:nvSpPr>
        <p:spPr>
          <a:xfrm>
            <a:off x="694836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0,6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5" name="Picture 23" descr="drops-3.png"/>
          <p:cNvPicPr/>
          <p:nvPr/>
        </p:nvPicPr>
        <p:blipFill>
          <a:blip r:embed="rId1"/>
          <a:stretch/>
        </p:blipFill>
        <p:spPr>
          <a:xfrm>
            <a:off x="1082520" y="3133800"/>
            <a:ext cx="6731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43F-9785-4F88-9192-C4BC60A9BA9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2 НЕДОСТАТОЧНАЯ РАЦИОНАЛЬНОСТЬ ИСПОЛЬЗОВАНИЯ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ОДНЫХ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Прямоугольник 1"/>
          <p:cNvSpPr/>
          <p:nvPr/>
        </p:nvSpPr>
        <p:spPr>
          <a:xfrm>
            <a:off x="593640" y="1542960"/>
            <a:ext cx="7878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Прямоугольник 17"/>
          <p:cNvSpPr/>
          <p:nvPr/>
        </p:nvSpPr>
        <p:spPr>
          <a:xfrm>
            <a:off x="974880" y="1806480"/>
            <a:ext cx="756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сновные факто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менение устаревших водоемких производственных технологи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едостаточная степень оснащенности водозаборных сооружений системами приборного уче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ысокий уровень потерь воды при транспортиров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"/>
          <p:cNvSpPr txBox="1"/>
          <p:nvPr/>
        </p:nvSpPr>
        <p:spPr>
          <a:xfrm>
            <a:off x="813960" y="5592600"/>
            <a:ext cx="49467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ТЕРИ ВОДЫ ПРИ ТРАНСПОРТИРОВКЕ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РФ – 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7,5 КМ</a:t>
            </a:r>
            <a:r>
              <a:rPr b="0" lang="en-US" sz="1800" spc="-1" strike="noStrike" baseline="30000">
                <a:solidFill>
                  <a:srgbClr val="02a7e0"/>
                </a:solidFill>
                <a:latin typeface="SwiftC Regular"/>
                <a:ea typeface="SwiftC Regular"/>
              </a:rPr>
              <a:t>3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В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2" name="Picture 19" descr="5.png"/>
          <p:cNvPicPr/>
          <p:nvPr/>
        </p:nvPicPr>
        <p:blipFill>
          <a:blip r:embed="rId1"/>
          <a:stretch/>
        </p:blipFill>
        <p:spPr>
          <a:xfrm>
            <a:off x="800280" y="3416400"/>
            <a:ext cx="1244520" cy="1641240"/>
          </a:xfrm>
          <a:prstGeom prst="rect">
            <a:avLst/>
          </a:prstGeom>
          <a:ln w="0">
            <a:noFill/>
          </a:ln>
        </p:spPr>
      </p:pic>
      <p:pic>
        <p:nvPicPr>
          <p:cNvPr id="3513" name="Picture 20" descr="2.png"/>
          <p:cNvPicPr/>
          <p:nvPr/>
        </p:nvPicPr>
        <p:blipFill>
          <a:blip r:embed="rId2"/>
          <a:stretch/>
        </p:blipFill>
        <p:spPr>
          <a:xfrm>
            <a:off x="3314880" y="3454560"/>
            <a:ext cx="1712880" cy="1611000"/>
          </a:xfrm>
          <a:prstGeom prst="rect">
            <a:avLst/>
          </a:prstGeom>
          <a:ln w="0">
            <a:noFill/>
          </a:ln>
        </p:spPr>
      </p:pic>
      <p:pic>
        <p:nvPicPr>
          <p:cNvPr id="3514" name="Picture 22" descr="1.png"/>
          <p:cNvPicPr/>
          <p:nvPr/>
        </p:nvPicPr>
        <p:blipFill>
          <a:blip r:embed="rId3"/>
          <a:stretch/>
        </p:blipFill>
        <p:spPr>
          <a:xfrm>
            <a:off x="6226200" y="3422520"/>
            <a:ext cx="1306440" cy="1697040"/>
          </a:xfrm>
          <a:prstGeom prst="rect">
            <a:avLst/>
          </a:prstGeom>
          <a:ln w="0">
            <a:noFill/>
          </a:ln>
        </p:spPr>
      </p:pic>
      <p:sp>
        <p:nvSpPr>
          <p:cNvPr id="3515" name="Содержимое 9"/>
          <p:cNvSpPr/>
          <p:nvPr/>
        </p:nvSpPr>
        <p:spPr>
          <a:xfrm>
            <a:off x="2021040" y="4467240"/>
            <a:ext cx="1323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ельское хозяй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Объект 1"/>
          <p:cNvSpPr/>
          <p:nvPr/>
        </p:nvSpPr>
        <p:spPr>
          <a:xfrm>
            <a:off x="2071800" y="3851280"/>
            <a:ext cx="1334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Содержимое 9"/>
          <p:cNvSpPr/>
          <p:nvPr/>
        </p:nvSpPr>
        <p:spPr>
          <a:xfrm>
            <a:off x="5203800" y="4481640"/>
            <a:ext cx="9381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ЖК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Содержимое 9"/>
          <p:cNvSpPr/>
          <p:nvPr/>
        </p:nvSpPr>
        <p:spPr>
          <a:xfrm>
            <a:off x="7691400" y="4452840"/>
            <a:ext cx="938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Проч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Объект 1"/>
          <p:cNvSpPr/>
          <p:nvPr/>
        </p:nvSpPr>
        <p:spPr>
          <a:xfrm>
            <a:off x="4992840" y="3857760"/>
            <a:ext cx="12650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3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Объект 1"/>
          <p:cNvSpPr/>
          <p:nvPr/>
        </p:nvSpPr>
        <p:spPr>
          <a:xfrm>
            <a:off x="7602480" y="3841920"/>
            <a:ext cx="120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1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C9F-5F6C-4878-96F7-1458827D4FB6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ЫСОКИЙ УРОВЕНЬ НЕГАТИВНОГО AНТРO-</a:t>
            </a:r>
            <a:br>
              <a:rPr sz="1800"/>
            </a:b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ПОГЕННОГО ВОЗДЕЙСТВИЯ НА ВОДНЫЕ ОБЪ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4" name="Picture 15" descr="3.png"/>
          <p:cNvPicPr/>
          <p:nvPr/>
        </p:nvPicPr>
        <p:blipFill>
          <a:blip r:embed="rId1"/>
          <a:stretch/>
        </p:blipFill>
        <p:spPr>
          <a:xfrm>
            <a:off x="4543560" y="4667400"/>
            <a:ext cx="1622160" cy="1558800"/>
          </a:xfrm>
          <a:prstGeom prst="rect">
            <a:avLst/>
          </a:prstGeom>
          <a:ln w="0">
            <a:noFill/>
          </a:ln>
        </p:spPr>
      </p:pic>
      <p:pic>
        <p:nvPicPr>
          <p:cNvPr id="3525" name="Picture 17" descr="2.png"/>
          <p:cNvPicPr/>
          <p:nvPr/>
        </p:nvPicPr>
        <p:blipFill>
          <a:blip r:embed="rId2"/>
          <a:stretch/>
        </p:blipFill>
        <p:spPr>
          <a:xfrm>
            <a:off x="712800" y="4586400"/>
            <a:ext cx="1774800" cy="1670040"/>
          </a:xfrm>
          <a:prstGeom prst="rect">
            <a:avLst/>
          </a:prstGeom>
          <a:ln w="0">
            <a:noFill/>
          </a:ln>
        </p:spPr>
      </p:pic>
      <p:sp>
        <p:nvSpPr>
          <p:cNvPr id="3526" name="Содержимое 9"/>
          <p:cNvSpPr/>
          <p:nvPr/>
        </p:nvSpPr>
        <p:spPr>
          <a:xfrm>
            <a:off x="1015920" y="2124000"/>
            <a:ext cx="49453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Прямоугольник 1"/>
          <p:cNvSpPr/>
          <p:nvPr/>
        </p:nvSpPr>
        <p:spPr>
          <a:xfrm>
            <a:off x="630360" y="1874880"/>
            <a:ext cx="7872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месте со сточными водами в поверхностные водные объекты Российской Федерации ежегодно поступает около 10 - 11 млн. тонн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сновные причи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износ очистных соору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менение устаревших технологий очистки сточных в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ем объектами жилищно-коммунального хозяйства загрязненных стоков городских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Прямоугольник 4"/>
          <p:cNvSpPr/>
          <p:nvPr/>
        </p:nvSpPr>
        <p:spPr>
          <a:xfrm>
            <a:off x="6189840" y="5135400"/>
            <a:ext cx="240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очные воды, сбрасываемые промышленными предприят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9" name="Содержимое 9"/>
          <p:cNvSpPr/>
          <p:nvPr/>
        </p:nvSpPr>
        <p:spPr>
          <a:xfrm>
            <a:off x="2523960" y="5195880"/>
            <a:ext cx="27781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очные воды, сбрасываемые предприятия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ЖК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0" name="Объект 1"/>
          <p:cNvSpPr/>
          <p:nvPr/>
        </p:nvSpPr>
        <p:spPr>
          <a:xfrm>
            <a:off x="2506680" y="4584600"/>
            <a:ext cx="1211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6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Объект 1"/>
          <p:cNvSpPr/>
          <p:nvPr/>
        </p:nvSpPr>
        <p:spPr>
          <a:xfrm>
            <a:off x="6189840" y="4567320"/>
            <a:ext cx="12110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25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3F1-AC39-49E5-9DA9-718209F9631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ЫСОКИЙ УРОВЕНЬ НЕГАТИВНОГО AНТРO-</a:t>
            </a:r>
            <a:br>
              <a:rPr sz="1800"/>
            </a:b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ПОГЕННОГО ВОЗДЕЙСТВИЯ НА ВОДНЫЕ ОБЪ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Содержимое 9"/>
          <p:cNvSpPr/>
          <p:nvPr/>
        </p:nvSpPr>
        <p:spPr>
          <a:xfrm>
            <a:off x="1081080" y="5454720"/>
            <a:ext cx="21319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ftC Regular"/>
              </a:rPr>
              <a:t>Условно чисты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Содержимое 9"/>
          <p:cNvSpPr/>
          <p:nvPr/>
        </p:nvSpPr>
        <p:spPr>
          <a:xfrm>
            <a:off x="4734000" y="5486400"/>
            <a:ext cx="2208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SwiftC Regular"/>
              </a:rPr>
              <a:t>Требующие очист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Объект 1"/>
          <p:cNvSpPr/>
          <p:nvPr/>
        </p:nvSpPr>
        <p:spPr>
          <a:xfrm>
            <a:off x="1081080" y="4906800"/>
            <a:ext cx="220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32,1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wiftC Regular"/>
                <a:ea typeface="SwiftC Regula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8" name="Объект 1"/>
          <p:cNvSpPr/>
          <p:nvPr/>
        </p:nvSpPr>
        <p:spPr>
          <a:xfrm>
            <a:off x="4734000" y="4917960"/>
            <a:ext cx="2271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wiftC Regular"/>
                <a:ea typeface="SwiftC Regula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9" name="Содержимое 9"/>
          <p:cNvSpPr/>
          <p:nvPr/>
        </p:nvSpPr>
        <p:spPr>
          <a:xfrm>
            <a:off x="7383600" y="4275000"/>
            <a:ext cx="126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Загрязненные без  очист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Объект 1"/>
          <p:cNvSpPr/>
          <p:nvPr/>
        </p:nvSpPr>
        <p:spPr>
          <a:xfrm>
            <a:off x="7361280" y="3917880"/>
            <a:ext cx="1289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f7f7f"/>
                </a:solidFill>
                <a:latin typeface="SwiftC"/>
                <a:ea typeface="Arial Unicode MS"/>
              </a:rPr>
              <a:t>3,7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 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Содержимое 9"/>
          <p:cNvSpPr/>
          <p:nvPr/>
        </p:nvSpPr>
        <p:spPr>
          <a:xfrm>
            <a:off x="7383600" y="3403440"/>
            <a:ext cx="126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Недостаточно очищен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Объект 1"/>
          <p:cNvSpPr/>
          <p:nvPr/>
        </p:nvSpPr>
        <p:spPr>
          <a:xfrm>
            <a:off x="7353360" y="3021120"/>
            <a:ext cx="1625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13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,7 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Straight Connector 33"/>
          <p:cNvSpPr/>
          <p:nvPr/>
        </p:nvSpPr>
        <p:spPr>
          <a:xfrm flipH="1">
            <a:off x="4173120" y="3137040"/>
            <a:ext cx="1800" cy="23986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4" name="Picture 39" descr="water2-3.png"/>
          <p:cNvPicPr/>
          <p:nvPr/>
        </p:nvPicPr>
        <p:blipFill>
          <a:blip r:embed="rId1"/>
          <a:stretch/>
        </p:blipFill>
        <p:spPr>
          <a:xfrm>
            <a:off x="4797360" y="3137040"/>
            <a:ext cx="2392560" cy="1666800"/>
          </a:xfrm>
          <a:prstGeom prst="rect">
            <a:avLst/>
          </a:prstGeom>
          <a:ln w="0">
            <a:noFill/>
          </a:ln>
        </p:spPr>
      </p:pic>
      <p:pic>
        <p:nvPicPr>
          <p:cNvPr id="3545" name="Picture 40" descr="water1-2.png"/>
          <p:cNvPicPr/>
          <p:nvPr/>
        </p:nvPicPr>
        <p:blipFill>
          <a:blip r:embed="rId2"/>
          <a:stretch/>
        </p:blipFill>
        <p:spPr>
          <a:xfrm>
            <a:off x="1150920" y="3137040"/>
            <a:ext cx="2390760" cy="1666800"/>
          </a:xfrm>
          <a:prstGeom prst="rect">
            <a:avLst/>
          </a:prstGeom>
          <a:ln w="0">
            <a:noFill/>
          </a:ln>
        </p:spPr>
      </p:pic>
      <p:sp>
        <p:nvSpPr>
          <p:cNvPr id="3546" name="Содержимое 9"/>
          <p:cNvSpPr/>
          <p:nvPr/>
        </p:nvSpPr>
        <p:spPr>
          <a:xfrm>
            <a:off x="1015920" y="2124000"/>
            <a:ext cx="49453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Ъ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ЁМ СБРОСА СТОЧН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Ы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Д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РФ 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—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bg-BG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52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,</a:t>
            </a:r>
            <a:r>
              <a:rPr b="0" lang="ru-RU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1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КМ</a:t>
            </a:r>
            <a:r>
              <a:rPr b="1" lang="en-US" sz="1800" spc="-1" strike="noStrike" baseline="30000">
                <a:solidFill>
                  <a:srgbClr val="02a7e0"/>
                </a:solidFill>
                <a:latin typeface="SwiftC Regular"/>
                <a:ea typeface="SwiftC Regular"/>
              </a:rPr>
              <a:t>3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</a:t>
            </a:r>
            <a:r>
              <a:rPr b="0" lang="ru-RU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В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Содержимое 9"/>
          <p:cNvSpPr/>
          <p:nvPr/>
        </p:nvSpPr>
        <p:spPr>
          <a:xfrm>
            <a:off x="7381800" y="5176800"/>
            <a:ext cx="1266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Нормативно очищен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Объект 1"/>
          <p:cNvSpPr/>
          <p:nvPr/>
        </p:nvSpPr>
        <p:spPr>
          <a:xfrm>
            <a:off x="7361280" y="4789440"/>
            <a:ext cx="1388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1,9 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E094-0EB9-45E8-A504-05C38D6F03C0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588600" y="1019160"/>
            <a:ext cx="808524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4 </a:t>
            </a:r>
            <a:r>
              <a:rPr b="1" lang="en-US" sz="1800" spc="-1" strike="noStrike">
                <a:solidFill>
                  <a:srgbClr val="00b0f0"/>
                </a:solidFill>
                <a:latin typeface="SwiftC Regular"/>
              </a:rPr>
              <a:t>НАВОДНЕНИЯ И ДРУГИЕ </a:t>
            </a:r>
            <a:r>
              <a:rPr b="1" lang="ru-RU" sz="1800" spc="-1" strike="noStrike">
                <a:solidFill>
                  <a:srgbClr val="00b0f0"/>
                </a:solidFill>
                <a:latin typeface="SwiftC Regular"/>
              </a:rPr>
              <a:t>Н</a:t>
            </a:r>
            <a:r>
              <a:rPr b="1" lang="en-US" sz="1800" spc="-1" strike="noStrike">
                <a:solidFill>
                  <a:srgbClr val="00b0f0"/>
                </a:solidFill>
                <a:latin typeface="SwiftC Regular"/>
              </a:rPr>
              <a:t>ЕГАТИВНЫЕ ВОЗДЕЙСТВИЯ В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Содержимое 9"/>
          <p:cNvSpPr/>
          <p:nvPr/>
        </p:nvSpPr>
        <p:spPr>
          <a:xfrm>
            <a:off x="649440" y="2819520"/>
            <a:ext cx="419076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Примор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Хабаров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ахалин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Амур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абайкал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редний и Южный Ур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Низовья р. Вол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еверный Кавка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Краснодар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ападная и Восточная Сибирь</a:t>
            </a:r>
            <a:r>
              <a:rPr b="0" lang="en-US" sz="1600" spc="-1" strike="noStrike">
                <a:solidFill>
                  <a:srgbClr val="5f5f5f"/>
                </a:solidFill>
                <a:latin typeface="SwiftC Regular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Прямоугольник 36"/>
          <p:cNvSpPr/>
          <p:nvPr/>
        </p:nvSpPr>
        <p:spPr>
          <a:xfrm>
            <a:off x="4572000" y="2819520"/>
            <a:ext cx="3857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В зоне разрушения находи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450 населенных пун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начительный ущерб приносит подтопление селитебных территорий и массивов земель сельскохозяйственного освоения и развитие оползневой опасности на застроенных территория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собого внимания требует решение проблем в низовьях р. Волги и бассейне р. Ам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Oval 4"/>
          <p:cNvSpPr/>
          <p:nvPr/>
        </p:nvSpPr>
        <p:spPr>
          <a:xfrm>
            <a:off x="3174840" y="2038320"/>
            <a:ext cx="60516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Прямоугольник 38"/>
          <p:cNvSpPr/>
          <p:nvPr/>
        </p:nvSpPr>
        <p:spPr>
          <a:xfrm>
            <a:off x="3335040" y="2057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Oval 4"/>
          <p:cNvSpPr/>
          <p:nvPr/>
        </p:nvSpPr>
        <p:spPr>
          <a:xfrm>
            <a:off x="6951600" y="201600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Прямоугольник 40"/>
          <p:cNvSpPr/>
          <p:nvPr/>
        </p:nvSpPr>
        <p:spPr>
          <a:xfrm>
            <a:off x="7111800" y="2057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Содержимое 9"/>
          <p:cNvSpPr/>
          <p:nvPr/>
        </p:nvSpPr>
        <p:spPr>
          <a:xfrm>
            <a:off x="601560" y="2054160"/>
            <a:ext cx="3030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ПАВОДКООПАСН</a:t>
            </a:r>
            <a:r>
              <a:rPr b="1" lang="ru-RU" sz="15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Е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РЕГИОН</a:t>
            </a:r>
            <a:r>
              <a:rPr b="1" lang="ru-RU" sz="15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en-US" sz="1500" spc="-1" strike="noStrike">
                <a:solidFill>
                  <a:srgbClr val="05aee8"/>
                </a:solidFill>
                <a:latin typeface="Swift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Содержимое 9"/>
          <p:cNvSpPr/>
          <p:nvPr/>
        </p:nvSpPr>
        <p:spPr>
          <a:xfrm>
            <a:off x="4572000" y="2054160"/>
            <a:ext cx="25509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АБРАЗИЯ БЕРЕГ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ВОДОХРАНИЛИ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Рисунок 2" descr=""/>
          <p:cNvPicPr/>
          <p:nvPr/>
        </p:nvPicPr>
        <p:blipFill>
          <a:blip r:embed="rId1"/>
          <a:stretch/>
        </p:blipFill>
        <p:spPr>
          <a:xfrm>
            <a:off x="54000" y="1774800"/>
            <a:ext cx="5276880" cy="3267000"/>
          </a:xfrm>
          <a:prstGeom prst="rect">
            <a:avLst/>
          </a:prstGeom>
          <a:ln w="0">
            <a:noFill/>
          </a:ln>
        </p:spPr>
      </p:pic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ПРИОРИТЕТН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МЕРОПРИЯТИЯ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НА 2012-2014 г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Содержимое 9"/>
          <p:cNvSpPr/>
          <p:nvPr/>
        </p:nvSpPr>
        <p:spPr>
          <a:xfrm>
            <a:off x="5608800" y="2030400"/>
            <a:ext cx="3213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Системное переустройство водохозяйственного комплек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в низовьях реки Вол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Содержимое 9"/>
          <p:cNvSpPr/>
          <p:nvPr/>
        </p:nvSpPr>
        <p:spPr>
          <a:xfrm>
            <a:off x="5608800" y="2928960"/>
            <a:ext cx="3089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Обеспечение экологически устойчивого использования водных ресурсов бассейна реки Аму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Объект 1"/>
          <p:cNvSpPr/>
          <p:nvPr/>
        </p:nvSpPr>
        <p:spPr>
          <a:xfrm>
            <a:off x="5122800" y="28018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Объект 1"/>
          <p:cNvSpPr/>
          <p:nvPr/>
        </p:nvSpPr>
        <p:spPr>
          <a:xfrm>
            <a:off x="5122800" y="18939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Содержимое 9"/>
          <p:cNvSpPr/>
          <p:nvPr/>
        </p:nvSpPr>
        <p:spPr>
          <a:xfrm>
            <a:off x="5608800" y="3981600"/>
            <a:ext cx="308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Стабилизация русловых процессов пограничных участков рек (Амур, Аргунь, Уссури, Гранитная, Урал</a:t>
            </a:r>
            <a:r>
              <a:rPr b="0" lang="bg-BG" sz="1400" spc="-1" strike="noStrike">
                <a:solidFill>
                  <a:srgbClr val="000000"/>
                </a:solidFill>
                <a:latin typeface="Swift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7" name="Объект 1"/>
          <p:cNvSpPr/>
          <p:nvPr/>
        </p:nvSpPr>
        <p:spPr>
          <a:xfrm>
            <a:off x="5122800" y="387360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Содержимое 9"/>
          <p:cNvSpPr/>
          <p:nvPr/>
        </p:nvSpPr>
        <p:spPr>
          <a:xfrm>
            <a:off x="5608800" y="5054760"/>
            <a:ext cx="308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Выполнение водохозяйственных мероприятий в рамках региональных программ на территории всей стр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Объект 1"/>
          <p:cNvSpPr/>
          <p:nvPr/>
        </p:nvSpPr>
        <p:spPr>
          <a:xfrm>
            <a:off x="5122800" y="4925880"/>
            <a:ext cx="1101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0" name="Содержимое 9"/>
          <p:cNvSpPr/>
          <p:nvPr/>
        </p:nvSpPr>
        <p:spPr>
          <a:xfrm>
            <a:off x="863640" y="4449600"/>
            <a:ext cx="81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лг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Содержимое 9"/>
          <p:cNvSpPr/>
          <p:nvPr/>
        </p:nvSpPr>
        <p:spPr>
          <a:xfrm>
            <a:off x="1527120" y="4113360"/>
            <a:ext cx="811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Ура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Содержимое 9"/>
          <p:cNvSpPr/>
          <p:nvPr/>
        </p:nvSpPr>
        <p:spPr>
          <a:xfrm>
            <a:off x="4521240" y="3768840"/>
            <a:ext cx="809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Уссу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Содержимое 9"/>
          <p:cNvSpPr/>
          <p:nvPr/>
        </p:nvSpPr>
        <p:spPr>
          <a:xfrm>
            <a:off x="3344760" y="4184640"/>
            <a:ext cx="811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Аргун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Содержимое 9"/>
          <p:cNvSpPr/>
          <p:nvPr/>
        </p:nvSpPr>
        <p:spPr>
          <a:xfrm>
            <a:off x="3927600" y="3784680"/>
            <a:ext cx="81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Аму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EB6A-2034-4783-9994-10D648DCEDC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"/>
          <p:cNvSpPr txBox="1"/>
          <p:nvPr/>
        </p:nvSpPr>
        <p:spPr>
          <a:xfrm>
            <a:off x="1918800" y="1555560"/>
            <a:ext cx="6575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едоставление бюджетам субъектов РФ субсидий на софинансирование соответствующих расходных обязательств по реализации мероприятий региональных целевых программ, аналогичных ФЦП по целям и зад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Название 4"/>
          <p:cNvSpPr/>
          <p:nvPr/>
        </p:nvSpPr>
        <p:spPr>
          <a:xfrm>
            <a:off x="628560" y="1147680"/>
            <a:ext cx="8085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BDF-E036-4C4D-9505-46707F663958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Название 4"/>
          <p:cNvSpPr/>
          <p:nvPr/>
        </p:nvSpPr>
        <p:spPr>
          <a:xfrm>
            <a:off x="563400" y="47304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Название 4"/>
          <p:cNvSpPr/>
          <p:nvPr/>
        </p:nvSpPr>
        <p:spPr>
          <a:xfrm>
            <a:off x="561960" y="681120"/>
            <a:ext cx="8085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РЕГИОН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Прямоугольник 11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Прямоугольник 12"/>
          <p:cNvSpPr/>
          <p:nvPr/>
        </p:nvSpPr>
        <p:spPr>
          <a:xfrm>
            <a:off x="1036800" y="3138480"/>
            <a:ext cx="75690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 новых водохранилищ и реконструкция гидроузлов действующих водохранили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 и реконструкция магистральных каналов и трактов водопо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восстановление и экологическая реабилитация водных объектов, утративших способность к самоочищению, предотвращение истощения водных объектов, ликвидация их засорения и загряз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, реконструкция объектов инженерной защиты и берегоукрепительных соору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капитальный ремонт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14"/>
          <p:cNvSpPr/>
          <p:nvPr/>
        </p:nvSpPr>
        <p:spPr>
          <a:xfrm>
            <a:off x="0" y="2241720"/>
            <a:ext cx="7918560" cy="35114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Содержимое 9"/>
          <p:cNvSpPr/>
          <p:nvPr/>
        </p:nvSpPr>
        <p:spPr>
          <a:xfrm>
            <a:off x="-1023840" y="3454560"/>
            <a:ext cx="22590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Содержимое 9"/>
          <p:cNvSpPr/>
          <p:nvPr/>
        </p:nvSpPr>
        <p:spPr>
          <a:xfrm>
            <a:off x="-1282680" y="4232160"/>
            <a:ext cx="17305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Содержимое 9"/>
          <p:cNvSpPr/>
          <p:nvPr/>
        </p:nvSpPr>
        <p:spPr>
          <a:xfrm>
            <a:off x="-1266840" y="5157720"/>
            <a:ext cx="16653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Содержимое 9"/>
          <p:cNvSpPr/>
          <p:nvPr/>
        </p:nvSpPr>
        <p:spPr>
          <a:xfrm>
            <a:off x="9540720" y="3976560"/>
            <a:ext cx="1568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76A-FDC9-4A44-85DC-76782FBE3E3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01560" y="1108080"/>
            <a:ext cx="62438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wiftC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Название 4"/>
          <p:cNvSpPr/>
          <p:nvPr/>
        </p:nvSpPr>
        <p:spPr>
          <a:xfrm>
            <a:off x="662040" y="969840"/>
            <a:ext cx="80852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Содержимое 9"/>
          <p:cNvSpPr/>
          <p:nvPr/>
        </p:nvSpPr>
        <p:spPr>
          <a:xfrm>
            <a:off x="-861840" y="4294080"/>
            <a:ext cx="2614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Содержимое 9"/>
          <p:cNvSpPr/>
          <p:nvPr/>
        </p:nvSpPr>
        <p:spPr>
          <a:xfrm>
            <a:off x="1379520" y="2784600"/>
            <a:ext cx="3013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Субсидирование предпри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Содержимое 9"/>
          <p:cNvSpPr/>
          <p:nvPr/>
        </p:nvSpPr>
        <p:spPr>
          <a:xfrm>
            <a:off x="4944960" y="2784600"/>
            <a:ext cx="2306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Просвещение и информирование населения по вопросам использования и охраны водных объект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Содержимое 9"/>
          <p:cNvSpPr/>
          <p:nvPr/>
        </p:nvSpPr>
        <p:spPr>
          <a:xfrm>
            <a:off x="1379520" y="3981600"/>
            <a:ext cx="2220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Научно-исследовательские и опытно - конструкторские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Объект 1"/>
          <p:cNvSpPr/>
          <p:nvPr/>
        </p:nvSpPr>
        <p:spPr>
          <a:xfrm>
            <a:off x="631800" y="3898800"/>
            <a:ext cx="11001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Объект 1"/>
          <p:cNvSpPr/>
          <p:nvPr/>
        </p:nvSpPr>
        <p:spPr>
          <a:xfrm>
            <a:off x="631800" y="270972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Объект 1"/>
          <p:cNvSpPr/>
          <p:nvPr/>
        </p:nvSpPr>
        <p:spPr>
          <a:xfrm>
            <a:off x="4154400" y="2709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9" name=""/>
          <p:cNvGraphicFramePr/>
          <p:nvPr/>
        </p:nvGraphicFramePr>
        <p:xfrm>
          <a:off x="1036800" y="3138480"/>
          <a:ext cx="7451640" cy="3017880"/>
        </p:xfrm>
        <a:graphic>
          <a:graphicData uri="http://schemas.openxmlformats.org/drawingml/2006/table">
            <a:tbl>
              <a:tblPr/>
              <a:tblGrid>
                <a:gridCol w="5286240"/>
                <a:gridCol w="2165400"/>
              </a:tblGrid>
              <a:tr h="307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целевого показателя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инансирования из федерального бюджета (субсидирование процентной ставки),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9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бюджетные источники финансирования,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4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оектов по строительству (реконструкции) комплексов очистных сооружений и систем оборотного и повторно-последовательного водоснабжения, реализованных с помощью механизма субсидирования процентных ставок по креди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3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доли загрязненных сточных вод в общем объеме сброса в поверхностные водные объекты сточных вод, подлежащих очис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в 2 раз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8,6% (в 2010 г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1,0% (в 2020 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60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297-803E-42A3-85ED-646DC6A0720E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Название 4"/>
          <p:cNvSpPr/>
          <p:nvPr/>
        </p:nvSpPr>
        <p:spPr>
          <a:xfrm>
            <a:off x="563400" y="72072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Название 4"/>
          <p:cNvSpPr/>
          <p:nvPr/>
        </p:nvSpPr>
        <p:spPr>
          <a:xfrm>
            <a:off x="561960" y="851040"/>
            <a:ext cx="8085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1 </a:t>
            </a: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СУБСИДИРОВАНИЕ ПРЕДПРИЯТ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Прямоугольник 11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Объект 2"/>
          <p:cNvSpPr/>
          <p:nvPr/>
        </p:nvSpPr>
        <p:spPr>
          <a:xfrm>
            <a:off x="1919160" y="1555920"/>
            <a:ext cx="657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Механизм субсидирования процентных ставок по кредитам, привлекаемым организациями для реализации инвестиционных проектов по строительству и реконструкции очистных сооружений и внедрению систем оборотного и повторно-последовательного водоснаб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D1D-621A-4EC0-9E4A-B239EC2851F0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Объект 1"/>
          <p:cNvSpPr/>
          <p:nvPr/>
        </p:nvSpPr>
        <p:spPr>
          <a:xfrm>
            <a:off x="1882800" y="249552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Объект 1"/>
          <p:cNvSpPr/>
          <p:nvPr/>
        </p:nvSpPr>
        <p:spPr>
          <a:xfrm>
            <a:off x="1920960" y="38289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Содержимое 3"/>
          <p:cNvSpPr/>
          <p:nvPr/>
        </p:nvSpPr>
        <p:spPr>
          <a:xfrm>
            <a:off x="1893960" y="4356000"/>
            <a:ext cx="700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О ПРОГРАМ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Прямоугольник 18"/>
          <p:cNvSpPr/>
          <p:nvPr/>
        </p:nvSpPr>
        <p:spPr>
          <a:xfrm>
            <a:off x="974880" y="1854360"/>
            <a:ext cx="7569000" cy="78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Утверждена постановлением Правительства Р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ссийской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Ф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едерации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от 19.04.2012г. №35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роки реализации: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2012-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Государственные заказч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Министерство природных ресурсов и экологии Российской Федерации Министерство сельского хозяйств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ое агентство 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ая служба по гидрометеорологии и мониторингу окруж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ое агентство по рыболовств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Комплексный инструмент модернизации водохозяйственной инфраструктуры с учетом потребностей населения и отраслей эконом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Разработана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для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реализаци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Плана мероприятий Водной стратегии Российской Федерации на период до 2020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D9C-A04E-47DA-A205-C79ED8E1F1D0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Название 4"/>
          <p:cNvSpPr/>
          <p:nvPr/>
        </p:nvSpPr>
        <p:spPr>
          <a:xfrm>
            <a:off x="563400" y="736560"/>
            <a:ext cx="6167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Название 4"/>
          <p:cNvSpPr/>
          <p:nvPr/>
        </p:nvSpPr>
        <p:spPr>
          <a:xfrm>
            <a:off x="561960" y="993600"/>
            <a:ext cx="80852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400" spc="-1" strike="noStrike">
                <a:solidFill>
                  <a:srgbClr val="05aee8"/>
                </a:solidFill>
                <a:latin typeface="SwiftC"/>
              </a:rPr>
              <a:t>02 </a:t>
            </a:r>
            <a:r>
              <a:rPr b="1" lang="ru-RU" sz="1400" spc="-1" strike="noStrike">
                <a:solidFill>
                  <a:srgbClr val="05aee8"/>
                </a:solidFill>
                <a:latin typeface="SwiftC"/>
              </a:rPr>
              <a:t>ПРОСВЕЩЕНИЕ И ИНФОРМИРОВАНИЕ НАСЕЛЕНИЯ ПО ВОПРОСАМ ИСПОЛЬЗОВАНИЯ И ОХРАНЫ ВОДНЫХ ОБЪЕК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Oval 4"/>
          <p:cNvSpPr/>
          <p:nvPr/>
        </p:nvSpPr>
        <p:spPr>
          <a:xfrm>
            <a:off x="1033560" y="195912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Прямоугольник 11"/>
          <p:cNvSpPr/>
          <p:nvPr/>
        </p:nvSpPr>
        <p:spPr>
          <a:xfrm>
            <a:off x="1195200" y="200016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Объект 2"/>
          <p:cNvSpPr/>
          <p:nvPr/>
        </p:nvSpPr>
        <p:spPr>
          <a:xfrm>
            <a:off x="1919160" y="1633680"/>
            <a:ext cx="657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освещение и информирование населения по вопросам развития водохозяйственного комплекса, формирование в обществе установок, направленных на сохранение и восстановление водных объектов, бережное отношение к водным ресурс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Прямоугольник 13"/>
          <p:cNvSpPr/>
          <p:nvPr/>
        </p:nvSpPr>
        <p:spPr>
          <a:xfrm>
            <a:off x="1036800" y="2854440"/>
            <a:ext cx="75690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еализация коммуникационных проектов, направленных на изменение отношения населения к водным ресурсам России и повышение информированности о важности рационального водопользования и охраны водных объ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ормирование инструментария единой коммуникационной среды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 федеральном и региональном уровнях, направленной на просвещение и информирование населения по вопросам развития водохозяйственного комплек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еализация и информационная поддержка комплекса выставочно-презентационных, информационных, просветительских и иных мероприятий на федеральном и региональном уровн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A17-E0EA-4677-A824-04B0F70AF8C1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Название 4"/>
          <p:cNvSpPr/>
          <p:nvPr/>
        </p:nvSpPr>
        <p:spPr>
          <a:xfrm>
            <a:off x="563400" y="75096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Название 4"/>
          <p:cNvSpPr/>
          <p:nvPr/>
        </p:nvSpPr>
        <p:spPr>
          <a:xfrm>
            <a:off x="561960" y="835200"/>
            <a:ext cx="8085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НАУЧНО-ИССЛЕДОВАТЕЛЬСКИЕ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Прямоугольник 12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Объект 2"/>
          <p:cNvSpPr/>
          <p:nvPr/>
        </p:nvSpPr>
        <p:spPr>
          <a:xfrm>
            <a:off x="1919160" y="1438200"/>
            <a:ext cx="6575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ернизация и развитие водохозяйственного комплекса Российской Федерации осуществляются на базе широкого спектра научно-исследовательских и опытно-конструкторских работ, результатом которых являются новые современные знания, методы, модели и технологии, обеспечивающие эффективное комплексное управление водохозяйственной отрасл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Прямоугольник 14"/>
          <p:cNvSpPr/>
          <p:nvPr/>
        </p:nvSpPr>
        <p:spPr>
          <a:xfrm>
            <a:off x="1036800" y="3255840"/>
            <a:ext cx="76183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, направленные на изучение проблем использования и охраны водных объектов Российской Федер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в области правового обеспечения и государственного управления, экономики водопользования, международных отнош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интегрированного управления использованием и охраной водных объект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проблем качества вод и разработки нормативов допустимого воздействия на водные объект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в области предотвращения негативного воздействия в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, направленные на решение региональных водохозяйственных пробле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КОНТАКТ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НФОРМ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0A1-CCAC-47DB-BF51-247677EAF472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Прямоугольник 6"/>
          <p:cNvSpPr/>
          <p:nvPr/>
        </p:nvSpPr>
        <p:spPr>
          <a:xfrm>
            <a:off x="660240" y="2160720"/>
            <a:ext cx="802980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 вопросам предоставления субсидий водопользователям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249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 вопросам информационной поддержки мероприятий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</a:t>
            </a:r>
            <a:r>
              <a:rPr b="0" lang="en-US" sz="1600" spc="-1" strike="noStrike">
                <a:solidFill>
                  <a:srgbClr val="05aee8"/>
                </a:solidFill>
                <a:latin typeface="SwiftC"/>
              </a:rPr>
              <a:t>249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ый информационный портал о воде: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VODA.ORG</a:t>
            </a:r>
            <a:r>
              <a:rPr b="0" lang="ru-RU" sz="1600" spc="-1" strike="noStrike" u="sng">
                <a:solidFill>
                  <a:srgbClr val="05aee8"/>
                </a:solidFill>
                <a:uFillTx/>
                <a:latin typeface="SwiftC"/>
              </a:rPr>
              <a:t>.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RU</a:t>
            </a:r>
            <a:r>
              <a:rPr b="0" lang="ru-RU" sz="1600" spc="-1" strike="noStrike" u="sng">
                <a:solidFill>
                  <a:srgbClr val="05aee8"/>
                </a:solidFill>
                <a:uFillTx/>
                <a:latin typeface="Swif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ый пресс-центр программы: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624-03-01, доб. 1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Дискуссионный клуб при Минприроды России по вопросам водохозяйственной тематики: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www.wateresourseclub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тать членом клуба, предложить тему дискуссии, принять участие в дискуссии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24923,</a:t>
            </a:r>
            <a:r>
              <a:rPr b="0" lang="en-US" sz="1600" spc="-1" strike="noStrike">
                <a:solidFill>
                  <a:srgbClr val="05aee8"/>
                </a:solidFill>
                <a:latin typeface="SwiftC"/>
              </a:rPr>
              <a:t>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dk@vhkrf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Прямоугольник 5"/>
          <p:cNvSpPr/>
          <p:nvPr/>
        </p:nvSpPr>
        <p:spPr>
          <a:xfrm>
            <a:off x="0" y="1476360"/>
            <a:ext cx="9144000" cy="402588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Рисунок 8" descr=""/>
          <p:cNvPicPr/>
          <p:nvPr/>
        </p:nvPicPr>
        <p:blipFill>
          <a:blip r:embed="rId1"/>
          <a:stretch/>
        </p:blipFill>
        <p:spPr>
          <a:xfrm>
            <a:off x="7921800" y="276120"/>
            <a:ext cx="941040" cy="476280"/>
          </a:xfrm>
          <a:prstGeom prst="rect">
            <a:avLst/>
          </a:prstGeom>
          <a:ln w="0">
            <a:noFill/>
          </a:ln>
        </p:spPr>
      </p:pic>
      <p:sp>
        <p:nvSpPr>
          <p:cNvPr id="3625" name="Прямая соединительная линия 6"/>
          <p:cNvSpPr/>
          <p:nvPr/>
        </p:nvSpPr>
        <p:spPr>
          <a:xfrm flipH="1">
            <a:off x="4565520" y="1789200"/>
            <a:ext cx="6480" cy="32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6" name="Название 1"/>
          <p:cNvSpPr/>
          <p:nvPr/>
        </p:nvSpPr>
        <p:spPr>
          <a:xfrm>
            <a:off x="4500720" y="1413000"/>
            <a:ext cx="464328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БЛАГОДАРЮ ЗА ВНИМАНИЕ</a:t>
            </a:r>
            <a:r>
              <a:rPr b="0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ЖДЕМ ВАШИХ ПРЕДЛОЖЕНИЙ И ИНИЦИАТИВ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седатель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ПбРО Российской экологической академии, Председатель Центрального совета МОО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родоохранный союз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д.б.н., проф.  Тарбаева В.М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irodasouz@yandex.ru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prirodasouz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voda.org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7" name="Рисунок 9" descr=""/>
          <p:cNvPicPr/>
          <p:nvPr/>
        </p:nvPicPr>
        <p:blipFill>
          <a:blip r:embed="rId5"/>
          <a:srcRect l="34559" t="0" r="0" b="0"/>
          <a:stretch/>
        </p:blipFill>
        <p:spPr>
          <a:xfrm>
            <a:off x="0" y="1476360"/>
            <a:ext cx="2146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"/>
          <p:cNvSpPr txBox="1"/>
          <p:nvPr/>
        </p:nvSpPr>
        <p:spPr>
          <a:xfrm>
            <a:off x="2371320" y="1937880"/>
            <a:ext cx="57596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5aee8"/>
                </a:solidFill>
                <a:latin typeface="SwiftC"/>
              </a:rPr>
              <a:t>	</a:t>
            </a:r>
            <a:r>
              <a:rPr b="1" lang="en-US" sz="1400" spc="-1" strike="noStrike">
                <a:solidFill>
                  <a:srgbClr val="05aee8"/>
                </a:solidFill>
                <a:latin typeface="SwiftC"/>
              </a:rPr>
              <a:t>  </a:t>
            </a:r>
            <a:r>
              <a:rPr b="1" lang="ru-RU" sz="1400" spc="-1" strike="noStrike">
                <a:solidFill>
                  <a:srgbClr val="05aee8"/>
                </a:solidFill>
                <a:latin typeface="Swif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Гарантированное обеспечение водными ресурсами устойчивого социально-экономического развит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Сохранение и восстановление водных объектов до состояния, обеспечивающего экологически благоприятные условия жизни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Обеспечение защищенности населения и объектов экономики от наводнений и иного негативного воздействия в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Название 2"/>
          <p:cNvSpPr/>
          <p:nvPr/>
        </p:nvSpPr>
        <p:spPr>
          <a:xfrm>
            <a:off x="754200" y="1260360"/>
            <a:ext cx="8084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TextBox 4"/>
          <p:cNvSpPr/>
          <p:nvPr/>
        </p:nvSpPr>
        <p:spPr>
          <a:xfrm>
            <a:off x="2146320" y="3073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Объект 1"/>
          <p:cNvSpPr/>
          <p:nvPr/>
        </p:nvSpPr>
        <p:spPr>
          <a:xfrm>
            <a:off x="2030400" y="23097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0" name="Объект 1"/>
          <p:cNvSpPr/>
          <p:nvPr/>
        </p:nvSpPr>
        <p:spPr>
          <a:xfrm>
            <a:off x="2063880" y="34383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Объект 1"/>
          <p:cNvSpPr/>
          <p:nvPr/>
        </p:nvSpPr>
        <p:spPr>
          <a:xfrm>
            <a:off x="2063880" y="4567320"/>
            <a:ext cx="6318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B71-9A4D-4DDC-B89A-6678A01DB093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ЦЕЛИ ПРОГРАММ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Содержимое 9"/>
          <p:cNvSpPr/>
          <p:nvPr/>
        </p:nvSpPr>
        <p:spPr>
          <a:xfrm>
            <a:off x="2178000" y="2373480"/>
            <a:ext cx="2259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Ликвидация локальных дефицитов водны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вододефицитных регионах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Содержимое 9"/>
          <p:cNvSpPr/>
          <p:nvPr/>
        </p:nvSpPr>
        <p:spPr>
          <a:xfrm>
            <a:off x="5499000" y="2411280"/>
            <a:ext cx="349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сстановление и экологическая реабилитация вод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Содержимое 9"/>
          <p:cNvSpPr/>
          <p:nvPr/>
        </p:nvSpPr>
        <p:spPr>
          <a:xfrm>
            <a:off x="2178000" y="3384720"/>
            <a:ext cx="2259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вышение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ациональности использования в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Содержимое 9"/>
          <p:cNvSpPr/>
          <p:nvPr/>
        </p:nvSpPr>
        <p:spPr>
          <a:xfrm>
            <a:off x="5499000" y="3170160"/>
            <a:ext cx="3340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вышение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эксплуатационной надежности гидротехнических сооружений (в том числе бесхозяйных)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утем их приведения к безопасному техническому состоя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Объект 1"/>
          <p:cNvSpPr/>
          <p:nvPr/>
        </p:nvSpPr>
        <p:spPr>
          <a:xfrm>
            <a:off x="1336680" y="324972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Объект 1"/>
          <p:cNvSpPr/>
          <p:nvPr/>
        </p:nvSpPr>
        <p:spPr>
          <a:xfrm>
            <a:off x="1336680" y="227952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Объект 1"/>
          <p:cNvSpPr/>
          <p:nvPr/>
        </p:nvSpPr>
        <p:spPr>
          <a:xfrm>
            <a:off x="4737240" y="3225960"/>
            <a:ext cx="787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Объект 1"/>
          <p:cNvSpPr/>
          <p:nvPr/>
        </p:nvSpPr>
        <p:spPr>
          <a:xfrm>
            <a:off x="4775040" y="2235240"/>
            <a:ext cx="8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Straight Connector 12"/>
          <p:cNvSpPr/>
          <p:nvPr/>
        </p:nvSpPr>
        <p:spPr>
          <a:xfrm>
            <a:off x="4582440" y="2379600"/>
            <a:ext cx="4680" cy="3382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Содержимое 9"/>
          <p:cNvSpPr/>
          <p:nvPr/>
        </p:nvSpPr>
        <p:spPr>
          <a:xfrm>
            <a:off x="2178000" y="4243320"/>
            <a:ext cx="23274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окращение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егативного антропогенного воздействия на водные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Объект 1"/>
          <p:cNvSpPr/>
          <p:nvPr/>
        </p:nvSpPr>
        <p:spPr>
          <a:xfrm>
            <a:off x="1336680" y="4078440"/>
            <a:ext cx="825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Содержимое 9"/>
          <p:cNvSpPr/>
          <p:nvPr/>
        </p:nvSpPr>
        <p:spPr>
          <a:xfrm>
            <a:off x="5486400" y="4259160"/>
            <a:ext cx="3200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еспечение защищенности населения и объектов экономики от негативного воздействия вод сооружениями инженерной защ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Объект 1"/>
          <p:cNvSpPr/>
          <p:nvPr/>
        </p:nvSpPr>
        <p:spPr>
          <a:xfrm>
            <a:off x="4749840" y="4089240"/>
            <a:ext cx="82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Содержимое 9"/>
          <p:cNvSpPr/>
          <p:nvPr/>
        </p:nvSpPr>
        <p:spPr>
          <a:xfrm>
            <a:off x="2178000" y="5148360"/>
            <a:ext cx="24098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азвитие и модерн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истемы государственного мониторинга вод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Объект 1"/>
          <p:cNvSpPr/>
          <p:nvPr/>
        </p:nvSpPr>
        <p:spPr>
          <a:xfrm>
            <a:off x="1336680" y="501156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Название 2"/>
          <p:cNvSpPr/>
          <p:nvPr/>
        </p:nvSpPr>
        <p:spPr>
          <a:xfrm>
            <a:off x="754200" y="1260360"/>
            <a:ext cx="8084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ЗАДАЧИ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93CE-BA21-498D-A221-A4D67694CC36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C9FC-B679-45CE-8361-D2445A838CCE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ФИНАНС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Объект 1"/>
          <p:cNvSpPr/>
          <p:nvPr/>
        </p:nvSpPr>
        <p:spPr>
          <a:xfrm>
            <a:off x="641520" y="422100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5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Straight Connector 12"/>
          <p:cNvSpPr/>
          <p:nvPr/>
        </p:nvSpPr>
        <p:spPr>
          <a:xfrm>
            <a:off x="4430160" y="1581120"/>
            <a:ext cx="6120" cy="45118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5" name="Picture 28" descr="info_drop1.png"/>
          <p:cNvPicPr/>
          <p:nvPr/>
        </p:nvPicPr>
        <p:blipFill>
          <a:blip r:embed="rId1"/>
          <a:stretch/>
        </p:blipFill>
        <p:spPr>
          <a:xfrm>
            <a:off x="1949400" y="2513160"/>
            <a:ext cx="2014560" cy="2835000"/>
          </a:xfrm>
          <a:prstGeom prst="rect">
            <a:avLst/>
          </a:prstGeom>
          <a:ln w="0">
            <a:noFill/>
          </a:ln>
        </p:spPr>
      </p:pic>
      <p:sp>
        <p:nvSpPr>
          <p:cNvPr id="3376" name="Содержимое 9"/>
          <p:cNvSpPr/>
          <p:nvPr/>
        </p:nvSpPr>
        <p:spPr>
          <a:xfrm>
            <a:off x="649440" y="4667400"/>
            <a:ext cx="1511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Федеральный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Объект 1"/>
          <p:cNvSpPr/>
          <p:nvPr/>
        </p:nvSpPr>
        <p:spPr>
          <a:xfrm>
            <a:off x="641520" y="335772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2a9d9"/>
                </a:solidFill>
                <a:latin typeface="SwiftC"/>
                <a:ea typeface="Arial Unicode MS"/>
              </a:rPr>
              <a:t>2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Содержимое 9"/>
          <p:cNvSpPr/>
          <p:nvPr/>
        </p:nvSpPr>
        <p:spPr>
          <a:xfrm>
            <a:off x="649440" y="3803760"/>
            <a:ext cx="1511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Внебюджетные источ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Объект 1"/>
          <p:cNvSpPr/>
          <p:nvPr/>
        </p:nvSpPr>
        <p:spPr>
          <a:xfrm>
            <a:off x="641520" y="231948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294d9b"/>
                </a:solidFill>
                <a:latin typeface="SwiftC"/>
                <a:ea typeface="Arial Unicode MS"/>
              </a:rPr>
              <a:t>21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0" name="Содержимое 9"/>
          <p:cNvSpPr/>
          <p:nvPr/>
        </p:nvSpPr>
        <p:spPr>
          <a:xfrm>
            <a:off x="649440" y="2738520"/>
            <a:ext cx="1511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Бюджеты субъектов РФ и местные бюдже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Объект 1"/>
          <p:cNvSpPr/>
          <p:nvPr/>
        </p:nvSpPr>
        <p:spPr>
          <a:xfrm>
            <a:off x="4692600" y="4389480"/>
            <a:ext cx="1548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5</a:t>
            </a:r>
            <a:r>
              <a:rPr b="1" lang="en-US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1</a:t>
            </a: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Содержимое 9"/>
          <p:cNvSpPr/>
          <p:nvPr/>
        </p:nvSpPr>
        <p:spPr>
          <a:xfrm>
            <a:off x="4699080" y="4836960"/>
            <a:ext cx="1512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роительство сооружений инженерной защи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Объект 1"/>
          <p:cNvSpPr/>
          <p:nvPr/>
        </p:nvSpPr>
        <p:spPr>
          <a:xfrm>
            <a:off x="4692600" y="335772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2a9d9"/>
                </a:solidFill>
                <a:latin typeface="SwiftC"/>
                <a:ea typeface="Arial Unicode MS"/>
              </a:rPr>
              <a:t>19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Содержимое 9"/>
          <p:cNvSpPr/>
          <p:nvPr/>
        </p:nvSpPr>
        <p:spPr>
          <a:xfrm>
            <a:off x="4699080" y="3789360"/>
            <a:ext cx="151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роительство водохранилищ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 кана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Объект 1"/>
          <p:cNvSpPr/>
          <p:nvPr/>
        </p:nvSpPr>
        <p:spPr>
          <a:xfrm>
            <a:off x="4692600" y="234792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294d9b"/>
                </a:solidFill>
                <a:latin typeface="SwiftC"/>
                <a:ea typeface="Arial Unicode MS"/>
              </a:rPr>
              <a:t>1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Содержимое 9"/>
          <p:cNvSpPr/>
          <p:nvPr/>
        </p:nvSpPr>
        <p:spPr>
          <a:xfrm>
            <a:off x="4699080" y="2766960"/>
            <a:ext cx="1512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Восстановл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</a:t>
            </a:r>
            <a:r>
              <a:rPr b="0" lang="bg-BG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охрана водных</a:t>
            </a:r>
            <a:r>
              <a:rPr b="0" lang="bg-BG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объек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Содержимое 9"/>
          <p:cNvSpPr/>
          <p:nvPr/>
        </p:nvSpPr>
        <p:spPr>
          <a:xfrm>
            <a:off x="4699080" y="1779480"/>
            <a:ext cx="151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Развитие государственной наблюдательной се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8" name="Содержимое 9"/>
          <p:cNvSpPr/>
          <p:nvPr/>
        </p:nvSpPr>
        <p:spPr>
          <a:xfrm>
            <a:off x="6248520" y="1779480"/>
            <a:ext cx="151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НИОКР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 проч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9" name="Picture 22" descr="info_drop2.png"/>
          <p:cNvPicPr/>
          <p:nvPr/>
        </p:nvPicPr>
        <p:blipFill>
          <a:blip r:embed="rId2"/>
          <a:stretch/>
        </p:blipFill>
        <p:spPr>
          <a:xfrm>
            <a:off x="6099120" y="2513160"/>
            <a:ext cx="2014560" cy="2835000"/>
          </a:xfrm>
          <a:prstGeom prst="rect">
            <a:avLst/>
          </a:prstGeom>
          <a:ln w="0">
            <a:noFill/>
          </a:ln>
        </p:spPr>
      </p:pic>
      <p:sp>
        <p:nvSpPr>
          <p:cNvPr id="3390" name="Содержимое 9"/>
          <p:cNvSpPr/>
          <p:nvPr/>
        </p:nvSpPr>
        <p:spPr>
          <a:xfrm>
            <a:off x="636480" y="5522760"/>
            <a:ext cx="49453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БЪЕМ</a:t>
            </a:r>
            <a:r>
              <a:rPr b="1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ФИНАНСИР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РОГРАММЫ </a:t>
            </a:r>
            <a:r>
              <a:rPr b="1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— 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435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М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ЛРД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Содержимое 9"/>
          <p:cNvSpPr/>
          <p:nvPr/>
        </p:nvSpPr>
        <p:spPr>
          <a:xfrm>
            <a:off x="4692600" y="5522760"/>
            <a:ext cx="44229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"/>
                <a:ea typeface="Arial Unicode MS"/>
              </a:rPr>
              <a:t>НАПРАВЛЕНИЯ ИС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"/>
                <a:ea typeface="Arial Unicode MS"/>
              </a:rPr>
              <a:t>ФЕДЕРАЛЬНОГО БЮДЖЕТА —</a:t>
            </a:r>
            <a:r>
              <a:rPr b="1" lang="bg-BG" sz="14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241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М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ЛРД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РУБ</a:t>
            </a:r>
            <a:r>
              <a:rPr b="1" lang="ru-RU" sz="1400" spc="-1" strike="noStrike">
                <a:solidFill>
                  <a:srgbClr val="05aee8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5aee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Объект 1"/>
          <p:cNvSpPr/>
          <p:nvPr/>
        </p:nvSpPr>
        <p:spPr>
          <a:xfrm>
            <a:off x="4692600" y="136224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b7c7f"/>
                </a:solidFill>
                <a:latin typeface="SwiftC"/>
                <a:ea typeface="Arial Unicode MS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Объект 1"/>
          <p:cNvSpPr/>
          <p:nvPr/>
        </p:nvSpPr>
        <p:spPr>
          <a:xfrm>
            <a:off x="6240600" y="136224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7a9ac"/>
                </a:solidFill>
                <a:latin typeface="SwiftC"/>
                <a:ea typeface="Arial Unicode MS"/>
              </a:rPr>
              <a:t>4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ЖИДАЕМЫЕ КОНЕЧНЫЕ РЕЗУЛЬТАТЫ РЕАЛИЗАЦИИ ПРОГРАММЫ И ПОКАЗАТЕЛИ ЕЕ СОЦИАЛЬНО-ЭКОНОМИЧЕСКОЙ ЭФФЕКТИВНОС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рантированное обеспечение водными ресурсами текущих и перспективных потребностей населения и объектов экономик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обеспечения благоприятных экологических условий для жизни населения, развития сферы услуг в области водного туризма и рекре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природоохранной инвестиционной активности в промышленности и жилищно-коммунальном хозяйств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щение водоемкости производства и снижение непроизводительных потерь водных ресурсов, повышение энергоэффективности российской экономики (экономия затрат на электроэнергию, потребляемую для доставки водных ресурсов до конечного потребителя, — до 15 - 20 млрд. рублей в год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защищенности населения и объектов экономики от наводнений и другого негативного воздействия вод (вероятный предотвращенный ущерб от негативного воздействия вод — 960 млрд. рублей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Номер слайда 3"/>
          <p:cNvSpPr/>
          <p:nvPr/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C576-D438-490E-B5D6-06F930C93B4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C38-2BF4-40A4-A801-901D8DE735F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Rectangle 31"/>
          <p:cNvSpPr/>
          <p:nvPr/>
        </p:nvSpPr>
        <p:spPr>
          <a:xfrm>
            <a:off x="0" y="2241720"/>
            <a:ext cx="9144000" cy="39290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ЦЕЛЕВ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ПОКАЗАТЕЛ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 ИНДИКАТОР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Содержимое 9"/>
          <p:cNvSpPr/>
          <p:nvPr/>
        </p:nvSpPr>
        <p:spPr>
          <a:xfrm>
            <a:off x="871560" y="2411280"/>
            <a:ext cx="45892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Численность населения, проживающего в районах возникновения локальных вододефицитов, надежность обеспечения водными ресурсами которого повыше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Содержимое 9"/>
          <p:cNvSpPr/>
          <p:nvPr/>
        </p:nvSpPr>
        <p:spPr>
          <a:xfrm>
            <a:off x="871560" y="3078000"/>
            <a:ext cx="49100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загрязненных сточных вод в общем объеме сброса в поверхностные водные объекты сточных вод, подлежащих очистк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Содержимое 9"/>
          <p:cNvSpPr/>
          <p:nvPr/>
        </p:nvSpPr>
        <p:spPr>
          <a:xfrm>
            <a:off x="871560" y="3570120"/>
            <a:ext cx="49100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населения, проживающего на подверженных негативному воздействию вод территориях, защищенного в результате проведения мероприятий по повышению защищенности от негативного воздействия вод, в общем количестве населения, проживающего на таких территория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Содержимое 9"/>
          <p:cNvSpPr/>
          <p:nvPr/>
        </p:nvSpPr>
        <p:spPr>
          <a:xfrm>
            <a:off x="871560" y="456408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гидротехнических сооружений с неудовлетворительны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опасным уровнем безопасности, приведенных в безопасное техническое состоя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Содержимое 9"/>
          <p:cNvSpPr/>
          <p:nvPr/>
        </p:nvSpPr>
        <p:spPr>
          <a:xfrm>
            <a:off x="871560" y="5210280"/>
            <a:ext cx="52038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модернизированных и новых гидрологических постов и лабораторий, входящих в состав государственной наблюдательной сети Федеральной службы по гидрометеорологии и мониторингу окружающей среды, в общей потребности в гидрологических постах и лаборатория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Объект 1"/>
          <p:cNvSpPr/>
          <p:nvPr/>
        </p:nvSpPr>
        <p:spPr>
          <a:xfrm>
            <a:off x="597996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6" name="Объект 1"/>
          <p:cNvSpPr/>
          <p:nvPr/>
        </p:nvSpPr>
        <p:spPr>
          <a:xfrm>
            <a:off x="700092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Объект 1"/>
          <p:cNvSpPr/>
          <p:nvPr/>
        </p:nvSpPr>
        <p:spPr>
          <a:xfrm>
            <a:off x="790884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к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Oval 4"/>
          <p:cNvSpPr/>
          <p:nvPr/>
        </p:nvSpPr>
        <p:spPr>
          <a:xfrm>
            <a:off x="685800" y="25034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Oval 4"/>
          <p:cNvSpPr/>
          <p:nvPr/>
        </p:nvSpPr>
        <p:spPr>
          <a:xfrm>
            <a:off x="685800" y="3164040"/>
            <a:ext cx="135000" cy="13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0" name="Oval 4"/>
          <p:cNvSpPr/>
          <p:nvPr/>
        </p:nvSpPr>
        <p:spPr>
          <a:xfrm>
            <a:off x="685800" y="3639960"/>
            <a:ext cx="135000" cy="136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Oval 4"/>
          <p:cNvSpPr/>
          <p:nvPr/>
        </p:nvSpPr>
        <p:spPr>
          <a:xfrm>
            <a:off x="685800" y="464652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Oval 4"/>
          <p:cNvSpPr/>
          <p:nvPr/>
        </p:nvSpPr>
        <p:spPr>
          <a:xfrm>
            <a:off x="685800" y="5275440"/>
            <a:ext cx="135000" cy="13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Объект 1"/>
          <p:cNvSpPr/>
          <p:nvPr/>
        </p:nvSpPr>
        <p:spPr>
          <a:xfrm>
            <a:off x="5979960" y="236232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0,3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млн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Объект 1"/>
          <p:cNvSpPr/>
          <p:nvPr/>
        </p:nvSpPr>
        <p:spPr>
          <a:xfrm>
            <a:off x="7015320" y="236232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Объект 1"/>
          <p:cNvSpPr/>
          <p:nvPr/>
        </p:nvSpPr>
        <p:spPr>
          <a:xfrm>
            <a:off x="7935840" y="2362320"/>
            <a:ext cx="1101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5,2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млн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Объект 1"/>
          <p:cNvSpPr/>
          <p:nvPr/>
        </p:nvSpPr>
        <p:spPr>
          <a:xfrm>
            <a:off x="5979960" y="30765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Объект 1"/>
          <p:cNvSpPr/>
          <p:nvPr/>
        </p:nvSpPr>
        <p:spPr>
          <a:xfrm>
            <a:off x="7935840" y="30765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Объект 1"/>
          <p:cNvSpPr/>
          <p:nvPr/>
        </p:nvSpPr>
        <p:spPr>
          <a:xfrm>
            <a:off x="5979960" y="37623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8,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Объект 1"/>
          <p:cNvSpPr/>
          <p:nvPr/>
        </p:nvSpPr>
        <p:spPr>
          <a:xfrm>
            <a:off x="7935840" y="37623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4,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Объект 1"/>
          <p:cNvSpPr/>
          <p:nvPr/>
        </p:nvSpPr>
        <p:spPr>
          <a:xfrm>
            <a:off x="5979960" y="457200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7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Объект 1"/>
          <p:cNvSpPr/>
          <p:nvPr/>
        </p:nvSpPr>
        <p:spPr>
          <a:xfrm>
            <a:off x="7935840" y="457200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9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Объект 1"/>
          <p:cNvSpPr/>
          <p:nvPr/>
        </p:nvSpPr>
        <p:spPr>
          <a:xfrm>
            <a:off x="6075360" y="5367240"/>
            <a:ext cx="1101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Объект 1"/>
          <p:cNvSpPr/>
          <p:nvPr/>
        </p:nvSpPr>
        <p:spPr>
          <a:xfrm>
            <a:off x="7935840" y="5367240"/>
            <a:ext cx="1101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78,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E676-D1C7-4FD1-A9B7-EAC30519F9AD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Rectangle 31"/>
          <p:cNvSpPr/>
          <p:nvPr/>
        </p:nvSpPr>
        <p:spPr>
          <a:xfrm>
            <a:off x="0" y="2241720"/>
            <a:ext cx="9144000" cy="39290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ЦЕЛЕВ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ПОКАЗАТЕЛ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 ИНДИКАТОР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Содержимое 9"/>
          <p:cNvSpPr/>
          <p:nvPr/>
        </p:nvSpPr>
        <p:spPr>
          <a:xfrm>
            <a:off x="871560" y="2411280"/>
            <a:ext cx="5203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вновь созданных водохранилищ и реконструированных гидроузлов на действующих водохранилищах комплексного назначения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а также магистральных каналов и трактов водопода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ля повышения их водоотда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Содержимое 9"/>
          <p:cNvSpPr/>
          <p:nvPr/>
        </p:nvSpPr>
        <p:spPr>
          <a:xfrm>
            <a:off x="871560" y="304956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Восстановление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экологическая реабилитация водных объек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9" name="Содержимое 9"/>
          <p:cNvSpPr/>
          <p:nvPr/>
        </p:nvSpPr>
        <p:spPr>
          <a:xfrm>
            <a:off x="871560" y="351324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Протяженность новых и реконструированных сооружений инженерной защиты и берегоукрепления (к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Содержимое 9"/>
          <p:cNvSpPr/>
          <p:nvPr/>
        </p:nvSpPr>
        <p:spPr>
          <a:xfrm>
            <a:off x="871560" y="398628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гидротехнических сооружений с неудовлетворительны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опасным уровнем безопасности, приведенных в безопасное техническое состоя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Содержимое 9"/>
          <p:cNvSpPr/>
          <p:nvPr/>
        </p:nvSpPr>
        <p:spPr>
          <a:xfrm>
            <a:off x="871560" y="5224320"/>
            <a:ext cx="5203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проектов по строительству (реконструкции) комплексов очистных сооружений и систем оборотного и повторно-последовательного водоснабжения, реализованных с помощью механизма субсидирования процентных ставок по кредита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Объект 1"/>
          <p:cNvSpPr/>
          <p:nvPr/>
        </p:nvSpPr>
        <p:spPr>
          <a:xfrm>
            <a:off x="594360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Объект 1"/>
          <p:cNvSpPr/>
          <p:nvPr/>
        </p:nvSpPr>
        <p:spPr>
          <a:xfrm>
            <a:off x="790884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к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Oval 4"/>
          <p:cNvSpPr/>
          <p:nvPr/>
        </p:nvSpPr>
        <p:spPr>
          <a:xfrm>
            <a:off x="685800" y="25034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Oval 4"/>
          <p:cNvSpPr/>
          <p:nvPr/>
        </p:nvSpPr>
        <p:spPr>
          <a:xfrm>
            <a:off x="685800" y="327672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Oval 4"/>
          <p:cNvSpPr/>
          <p:nvPr/>
        </p:nvSpPr>
        <p:spPr>
          <a:xfrm>
            <a:off x="685800" y="359892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Oval 4"/>
          <p:cNvSpPr/>
          <p:nvPr/>
        </p:nvSpPr>
        <p:spPr>
          <a:xfrm>
            <a:off x="685800" y="406728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Oval 4"/>
          <p:cNvSpPr/>
          <p:nvPr/>
        </p:nvSpPr>
        <p:spPr>
          <a:xfrm>
            <a:off x="685800" y="528948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Объект 1"/>
          <p:cNvSpPr/>
          <p:nvPr/>
        </p:nvSpPr>
        <p:spPr>
          <a:xfrm>
            <a:off x="5979960" y="25606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Объект 1"/>
          <p:cNvSpPr/>
          <p:nvPr/>
        </p:nvSpPr>
        <p:spPr>
          <a:xfrm>
            <a:off x="7935840" y="25606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Объект 1"/>
          <p:cNvSpPr/>
          <p:nvPr/>
        </p:nvSpPr>
        <p:spPr>
          <a:xfrm>
            <a:off x="5979960" y="310356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06 </a:t>
            </a:r>
            <a:r>
              <a:rPr b="1" lang="bg-BG" sz="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Объект 1"/>
          <p:cNvSpPr/>
          <p:nvPr/>
        </p:nvSpPr>
        <p:spPr>
          <a:xfrm>
            <a:off x="7935840" y="31179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3440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Содержимое 9"/>
          <p:cNvSpPr/>
          <p:nvPr/>
        </p:nvSpPr>
        <p:spPr>
          <a:xfrm>
            <a:off x="871560" y="458640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модернизированных и вновь открытых гидрологических постов и лабораторий, входящих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в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состав государственной наблюдательной се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4" name="Oval 4"/>
          <p:cNvSpPr/>
          <p:nvPr/>
        </p:nvSpPr>
        <p:spPr>
          <a:xfrm>
            <a:off x="685800" y="466740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Объект 1"/>
          <p:cNvSpPr/>
          <p:nvPr/>
        </p:nvSpPr>
        <p:spPr>
          <a:xfrm>
            <a:off x="5989680" y="3497400"/>
            <a:ext cx="1101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90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Объект 1"/>
          <p:cNvSpPr/>
          <p:nvPr/>
        </p:nvSpPr>
        <p:spPr>
          <a:xfrm>
            <a:off x="7908840" y="3521160"/>
            <a:ext cx="1460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451,6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Объект 1"/>
          <p:cNvSpPr/>
          <p:nvPr/>
        </p:nvSpPr>
        <p:spPr>
          <a:xfrm>
            <a:off x="5979960" y="40370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Объект 1"/>
          <p:cNvSpPr/>
          <p:nvPr/>
        </p:nvSpPr>
        <p:spPr>
          <a:xfrm>
            <a:off x="7935840" y="4068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20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Объект 1"/>
          <p:cNvSpPr/>
          <p:nvPr/>
        </p:nvSpPr>
        <p:spPr>
          <a:xfrm>
            <a:off x="5979960" y="46371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Объект 1"/>
          <p:cNvSpPr/>
          <p:nvPr/>
        </p:nvSpPr>
        <p:spPr>
          <a:xfrm>
            <a:off x="7935840" y="46371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3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Объект 1"/>
          <p:cNvSpPr/>
          <p:nvPr/>
        </p:nvSpPr>
        <p:spPr>
          <a:xfrm>
            <a:off x="6048360" y="533880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Объект 1"/>
          <p:cNvSpPr/>
          <p:nvPr/>
        </p:nvSpPr>
        <p:spPr>
          <a:xfrm>
            <a:off x="7935840" y="53308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1560" y="1108080"/>
            <a:ext cx="62438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wiftC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Объект 1"/>
          <p:cNvSpPr/>
          <p:nvPr/>
        </p:nvSpPr>
        <p:spPr>
          <a:xfrm>
            <a:off x="1616040" y="2709720"/>
            <a:ext cx="827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Объект 1"/>
          <p:cNvSpPr/>
          <p:nvPr/>
        </p:nvSpPr>
        <p:spPr>
          <a:xfrm>
            <a:off x="4259160" y="270972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wiftC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CDEA-8B60-44D4-B3B1-28B618120EFC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Rectangle 14"/>
          <p:cNvSpPr/>
          <p:nvPr/>
        </p:nvSpPr>
        <p:spPr>
          <a:xfrm>
            <a:off x="0" y="2241720"/>
            <a:ext cx="7918560" cy="35114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Содержимое 9"/>
          <p:cNvSpPr/>
          <p:nvPr/>
        </p:nvSpPr>
        <p:spPr>
          <a:xfrm>
            <a:off x="1379520" y="2784600"/>
            <a:ext cx="3013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Локальные дефицит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Содержимое 9"/>
          <p:cNvSpPr/>
          <p:nvPr/>
        </p:nvSpPr>
        <p:spPr>
          <a:xfrm>
            <a:off x="4944960" y="2784600"/>
            <a:ext cx="2306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Недостаточн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рациональ</a:t>
            </a:r>
            <a:r>
              <a:rPr b="0" lang="bg-BG" sz="1600" spc="-1" strike="noStrike">
                <a:solidFill>
                  <a:srgbClr val="ffffff"/>
                </a:solidFill>
                <a:latin typeface="SwiftC Regular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ость </a:t>
            </a:r>
            <a:r>
              <a:rPr b="0" lang="bg-BG" sz="1600" spc="-1" strike="noStrike">
                <a:solidFill>
                  <a:srgbClr val="ffffff"/>
                </a:solidFill>
                <a:latin typeface="SwiftC Regular"/>
              </a:rPr>
              <a:t>и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спользования 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Содержимое 9"/>
          <p:cNvSpPr/>
          <p:nvPr/>
        </p:nvSpPr>
        <p:spPr>
          <a:xfrm>
            <a:off x="1379520" y="3981600"/>
            <a:ext cx="2220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Высокий уровень негативного aнтрo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погенного воздействия на водные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Содержимое 9"/>
          <p:cNvSpPr/>
          <p:nvPr/>
        </p:nvSpPr>
        <p:spPr>
          <a:xfrm>
            <a:off x="4944960" y="4030560"/>
            <a:ext cx="20923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Наводнения и другие </a:t>
            </a: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егативные воздействия 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Объект 1"/>
          <p:cNvSpPr/>
          <p:nvPr/>
        </p:nvSpPr>
        <p:spPr>
          <a:xfrm>
            <a:off x="631800" y="3898800"/>
            <a:ext cx="11001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Объект 1"/>
          <p:cNvSpPr/>
          <p:nvPr/>
        </p:nvSpPr>
        <p:spPr>
          <a:xfrm>
            <a:off x="631800" y="270972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Объект 1"/>
          <p:cNvSpPr/>
          <p:nvPr/>
        </p:nvSpPr>
        <p:spPr>
          <a:xfrm>
            <a:off x="4154400" y="39592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Объект 1"/>
          <p:cNvSpPr/>
          <p:nvPr/>
        </p:nvSpPr>
        <p:spPr>
          <a:xfrm>
            <a:off x="4154400" y="2709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Название 4"/>
          <p:cNvSpPr/>
          <p:nvPr/>
        </p:nvSpPr>
        <p:spPr>
          <a:xfrm>
            <a:off x="60156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8:36:29Z</dcterms:created>
  <dc:creator>Кира Галенко</dc:creator>
  <dc:description/>
  <dc:language>en-US</dc:language>
  <cp:lastModifiedBy>Альфа</cp:lastModifiedBy>
  <cp:lastPrinted>2014-09-10T08:41:25Z</cp:lastPrinted>
  <dcterms:modified xsi:type="dcterms:W3CDTF">2016-12-04T18:40:25Z</dcterms:modified>
  <cp:revision>62</cp:revision>
  <dc:subject/>
  <dc:title>Федеральная целевая программА «Вода России»  («Развитие водохозяйственного комплекса РФ в 2012 – 2020 годах»)</dc:title>
</cp:coreProperties>
</file>