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61.xml" ContentType="application/vnd.openxmlformats-officedocument.theme+xml"/>
  <Override PartName="/ppt/theme/theme19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</p:sldMasterIdLst>
  <p:notesMasterIdLst>
    <p:notesMasterId r:id="rId83"/>
  </p:notesMasterIdLst>
  <p:sldIdLst>
    <p:sldId id="256" r:id="rId84"/>
    <p:sldId id="257" r:id="rId85"/>
    <p:sldId id="258" r:id="rId86"/>
    <p:sldId id="259" r:id="rId87"/>
    <p:sldId id="260" r:id="rId88"/>
    <p:sldId id="261" r:id="rId89"/>
    <p:sldId id="262" r:id="rId90"/>
    <p:sldId id="263" r:id="rId91"/>
    <p:sldId id="264" r:id="rId92"/>
    <p:sldId id="265" r:id="rId93"/>
    <p:sldId id="266" r:id="rId94"/>
    <p:sldId id="267" r:id="rId95"/>
    <p:sldId id="268" r:id="rId96"/>
    <p:sldId id="269" r:id="rId97"/>
    <p:sldId id="270" r:id="rId98"/>
    <p:sldId id="271" r:id="rId99"/>
    <p:sldId id="272" r:id="rId100"/>
    <p:sldId id="273" r:id="rId101"/>
    <p:sldId id="274" r:id="rId102"/>
    <p:sldId id="275" r:id="rId103"/>
    <p:sldId id="276" r:id="rId104"/>
    <p:sldId id="277" r:id="rId105"/>
    <p:sldId id="278" r:id="rId10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notesMaster" Target="notesMasters/notesMaster1.xml"/><Relationship Id="rId84" Type="http://schemas.openxmlformats.org/officeDocument/2006/relationships/slide" Target="slides/slide1.xml"/><Relationship Id="rId85" Type="http://schemas.openxmlformats.org/officeDocument/2006/relationships/slide" Target="slides/slide2.xml"/><Relationship Id="rId86" Type="http://schemas.openxmlformats.org/officeDocument/2006/relationships/slide" Target="slides/slide3.xml"/><Relationship Id="rId87" Type="http://schemas.openxmlformats.org/officeDocument/2006/relationships/slide" Target="slides/slide4.xml"/><Relationship Id="rId88" Type="http://schemas.openxmlformats.org/officeDocument/2006/relationships/slide" Target="slides/slide5.xml"/><Relationship Id="rId89" Type="http://schemas.openxmlformats.org/officeDocument/2006/relationships/slide" Target="slides/slide6.xml"/><Relationship Id="rId90" Type="http://schemas.openxmlformats.org/officeDocument/2006/relationships/slide" Target="slides/slide7.xml"/><Relationship Id="rId91" Type="http://schemas.openxmlformats.org/officeDocument/2006/relationships/slide" Target="slides/slide8.xml"/><Relationship Id="rId92" Type="http://schemas.openxmlformats.org/officeDocument/2006/relationships/slide" Target="slides/slide9.xml"/><Relationship Id="rId93" Type="http://schemas.openxmlformats.org/officeDocument/2006/relationships/slide" Target="slides/slide10.xml"/><Relationship Id="rId94" Type="http://schemas.openxmlformats.org/officeDocument/2006/relationships/slide" Target="slides/slide11.xml"/><Relationship Id="rId95" Type="http://schemas.openxmlformats.org/officeDocument/2006/relationships/slide" Target="slides/slide12.xml"/><Relationship Id="rId96" Type="http://schemas.openxmlformats.org/officeDocument/2006/relationships/slide" Target="slides/slide13.xml"/><Relationship Id="rId97" Type="http://schemas.openxmlformats.org/officeDocument/2006/relationships/slide" Target="slides/slide14.xml"/><Relationship Id="rId98" Type="http://schemas.openxmlformats.org/officeDocument/2006/relationships/slide" Target="slides/slide15.xml"/><Relationship Id="rId99" Type="http://schemas.openxmlformats.org/officeDocument/2006/relationships/slide" Target="slides/slide16.xml"/><Relationship Id="rId100" Type="http://schemas.openxmlformats.org/officeDocument/2006/relationships/slide" Target="slides/slide17.xml"/><Relationship Id="rId101" Type="http://schemas.openxmlformats.org/officeDocument/2006/relationships/slide" Target="slides/slide18.xml"/><Relationship Id="rId102" Type="http://schemas.openxmlformats.org/officeDocument/2006/relationships/slide" Target="slides/slide19.xml"/><Relationship Id="rId103" Type="http://schemas.openxmlformats.org/officeDocument/2006/relationships/slide" Target="slides/slide20.xml"/><Relationship Id="rId104" Type="http://schemas.openxmlformats.org/officeDocument/2006/relationships/slide" Target="slides/slide21.xml"/><Relationship Id="rId105" Type="http://schemas.openxmlformats.org/officeDocument/2006/relationships/slide" Target="slides/slide22.xml"/><Relationship Id="rId106" Type="http://schemas.openxmlformats.org/officeDocument/2006/relationships/slide" Target="slides/slide2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dt" idx="74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 type="sldImg"/>
          </p:nvPr>
        </p:nvSpPr>
        <p:spPr>
          <a:xfrm>
            <a:off x="1143000" y="1231920"/>
            <a:ext cx="4432320" cy="33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 type="body"/>
          </p:nvPr>
        </p:nvSpPr>
        <p:spPr>
          <a:xfrm>
            <a:off x="671400" y="4743360"/>
            <a:ext cx="5375520" cy="3880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5"/>
          <p:cNvSpPr>
            <a:spLocks noGrp="1"/>
          </p:cNvSpPr>
          <p:nvPr>
            <p:ph type="ftr" idx="75"/>
          </p:nvPr>
        </p:nvSpPr>
        <p:spPr>
          <a:xfrm>
            <a:off x="-360" y="9361440"/>
            <a:ext cx="291132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6"/>
          <p:cNvSpPr>
            <a:spLocks noGrp="1"/>
          </p:cNvSpPr>
          <p:nvPr>
            <p:ph type="sldNum" idx="76"/>
          </p:nvPr>
        </p:nvSpPr>
        <p:spPr>
          <a:xfrm>
            <a:off x="3805200" y="9361440"/>
            <a:ext cx="291168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2DA-3DD1-4C6C-B03D-1989A50BCB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sldImg"/>
          </p:nvPr>
        </p:nvSpPr>
        <p:spPr>
          <a:xfrm>
            <a:off x="1143000" y="1231920"/>
            <a:ext cx="4432320" cy="3325680"/>
          </a:xfrm>
          <a:prstGeom prst="rect">
            <a:avLst/>
          </a:prstGeom>
          <a:ln w="0">
            <a:noFill/>
          </a:ln>
        </p:spPr>
      </p:sp>
      <p:sp>
        <p:nvSpPr>
          <p:cNvPr id="3629" name="PlaceHolder 2"/>
          <p:cNvSpPr>
            <a:spLocks noGrp="1"/>
          </p:cNvSpPr>
          <p:nvPr>
            <p:ph type="body"/>
          </p:nvPr>
        </p:nvSpPr>
        <p:spPr>
          <a:xfrm>
            <a:off x="671400" y="4743360"/>
            <a:ext cx="53755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0" name="Номер слайда 3"/>
          <p:cNvSpPr/>
          <p:nvPr/>
        </p:nvSpPr>
        <p:spPr>
          <a:xfrm>
            <a:off x="3805200" y="9361440"/>
            <a:ext cx="2911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3546-0817-4641-96C5-E512BF5767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sldImg"/>
          </p:nvPr>
        </p:nvSpPr>
        <p:spPr>
          <a:xfrm>
            <a:off x="1143000" y="1231920"/>
            <a:ext cx="4432320" cy="3325680"/>
          </a:xfrm>
          <a:prstGeom prst="rect">
            <a:avLst/>
          </a:prstGeom>
          <a:ln w="0">
            <a:noFill/>
          </a:ln>
        </p:spPr>
      </p:sp>
      <p:sp>
        <p:nvSpPr>
          <p:cNvPr id="3632" name="PlaceHolder 2"/>
          <p:cNvSpPr>
            <a:spLocks noGrp="1"/>
          </p:cNvSpPr>
          <p:nvPr>
            <p:ph type="body"/>
          </p:nvPr>
        </p:nvSpPr>
        <p:spPr>
          <a:xfrm>
            <a:off x="671400" y="4743360"/>
            <a:ext cx="5375520" cy="38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Номер слайда 3"/>
          <p:cNvSpPr/>
          <p:nvPr/>
        </p:nvSpPr>
        <p:spPr>
          <a:xfrm>
            <a:off x="3805200" y="9361440"/>
            <a:ext cx="2911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554E-A08F-4F8F-AEA3-88F1151220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39A-C8B0-4F6A-B0C6-52686D07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096-DFB5-472B-9EF6-C7629B81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5625A-15EB-45A7-8A21-2A70003692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0DB15-D892-4711-9A35-FEDB38F56C9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2410D-1C15-482C-849A-DF75BE0A3A5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9068C-AB27-4E31-9863-F9D4B3EA73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3E921-9CED-41BA-BA15-AF12A6F250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129A5-6E9C-4330-BEF3-CA8EBFCA52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04DC2-51DF-46BC-8FE0-75D1A8EEE3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97261-39CB-43D3-8B1B-9FC28D49E4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9070C-6B06-43D9-83F1-A0CB2739CF6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A35B-4FF4-49A8-8B2F-6DD11338C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5F6-10BB-44E9-B1D2-6BBA3E98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0C00-761F-4E7C-93E5-D877A7E1F66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11A4-226C-47E9-9CFA-6B762816D6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EA4D-3ACC-4479-9D56-8E8C62E684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A491-2FC5-4686-9D48-0F8749F251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AC75-8404-41FF-8242-D5BE1CE75B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0604-0C4C-4913-9FD4-147D51A1324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561A-F954-4403-A824-F650D463CC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3C11-B284-4987-B097-8C39AAC2B0B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9411-7244-4660-9A47-0D4EC4D8EDB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3AA0-DF76-4F60-A652-218AAB54D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533-66BD-4F00-AB0A-1E205DC3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0333-7B3F-426D-9179-051B7B3BF1D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B26633-CE5B-4249-8EA3-51CB6DFFD76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52B1A-4377-41F0-91B5-F2899A9A15A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F072A8-CCC3-40F6-88A9-4069893B18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83944-173E-441E-95B8-6FAAF27DB4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38B29B-02E8-41A2-83C9-18435BBEF8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BB94B4-BEF7-4CB8-90EF-AF6DAD72D6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73D5B-21E3-4EFC-8C69-E7CE4E95C00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2375D-759D-4D7D-A2A0-5E57B034ED4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5C8B2-E811-4730-A283-2F28937FD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80454-DDE0-408F-9816-F445357E9E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51EE1B-1223-4AF3-A645-631A8DB347A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92A2C-29AB-4888-A806-621FC737F96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4FBA01-0542-4AA5-9434-CAF13DB4EB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0AFCA-3F19-4E91-A30B-7E82D7864D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CB0A6-B04F-4FD0-BE67-D0B83C668F9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240EB-A99D-4782-AE4E-C8835B2D055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060EB-39A0-41E0-801E-FD049F79141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C7C80-8971-4C85-835C-C4E7458FC3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CE013-A5FD-43D5-945B-BE71D5BD5A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3BCB3-FC22-4DD4-AFE1-F0DFD678B6B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1B1F2-B8D5-470C-B19E-520DC9C349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9FE71-12F7-4E8A-B70E-9659FA9FFB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99728-9BD1-45F2-ABA4-A8982E6763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8D0A3-94B8-4DA2-9901-2B42173E8A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87412-DEC9-41B9-AF7F-2BAC2ED1B47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B6228-BCFB-4870-A980-D08E7387127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D6C5C-6E00-4EBD-BF2E-9ACAA1657E3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B461-79FD-4435-A07D-151E74CD84D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2784B-1567-4D88-BC88-EC197232BC3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EC2E1-3227-4FA7-AA04-929B22490A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4369A-7C8A-44E0-B779-555CCFDAF3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93F6-A3D4-4F4F-9FC1-A53BCB8025F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388E-5D9D-4F94-A2DD-7B481A3C77C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B1E6-C69B-4DD9-BA47-B025BF60FF3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AC60-1F88-4CB2-A406-BE9A61FC8D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28534-41BA-4962-BB92-B6D6EA617CC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D48E-81B1-42EE-B65B-5CA1294E0E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E27B-0166-40B0-944F-E44BB321982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F327-A1BF-43D8-A66A-5F8D85F78DF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86D09-2CAE-423E-B58C-CB46279A768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6C041-2EC8-4363-BB32-76BC9357D5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7D073-1A43-47D2-B4FF-C21B300BEC3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7588D-8D17-46B3-BA6F-FA711413A4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A85C7-D62A-4204-A20A-F9C286681F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4F6118-D45F-4A4F-92D8-D84467BB70F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3865AA-4A69-4C1F-AD1B-FFA4766C854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0BDB52-02EA-4A16-B881-80B0DAC9AFE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D57B89-F060-47C2-8CE8-0D1ED7F6EA9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21F3CA-0D83-4AB1-B3D3-10CF8295F32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B4ACCB-915A-4141-A9B9-90F35BE8F3B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C6C65-4E8F-4E6A-A92F-68747856416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A5DB5-821D-478E-85C8-481A9E3BA3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DFCB4-1847-4108-9EF9-FF41FC5CAE9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D7A537-C074-4AE4-90AD-7B8F8832D9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D6653-B42A-4EDE-847B-D04BF309BCD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5A404-F6F2-4E3D-B33C-7C699F5E6D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BECD0-8DC2-4C3E-80BD-469D5B5C8C5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AF91A-3248-45EF-BB42-F85FA5B6293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80489-EB3C-4448-B9C0-2C973D29F5B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D82E3-931B-4D17-BAB6-B9316959E19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B322B-74B6-42BA-B628-007907A54D9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52AC7-737C-419D-95DC-5C6803A9A3A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97F97-B8AB-436D-9439-676360F74B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271C4-1C1A-49C9-BB46-65143D8FF6A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79B9F-28F6-4E4B-B897-31300CD814F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46394-1EB5-4BA0-8BBD-D324D664847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26542-58CD-4786-9C34-195261AF8D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79438-AFC1-4D23-A6C4-4CE5F629AE1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BBC1E-AE2B-421E-881E-B68D042B34F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6A6C-B820-4A1B-8D43-CD17A1F2287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B0D4-3245-4D8B-845A-8FE82C0D93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6F08-425C-490C-B273-7299B02AE2C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A3EB6-5CD1-4662-A534-5B313ACE34D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1DF27-599A-428F-94D3-020F2572E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5CE-5498-4C27-AC0E-16A495C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F91F5-234A-42E9-9845-0FCDB5B19A5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4992-86F1-429C-BBAE-F55804308DE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59ADE-CD77-4B7C-91DF-6237B7CF9B6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63A3-76FF-4A73-BA49-5EB7D4CADEC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A524-423F-438F-AC1B-16F9A41B9CB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C5AB-466D-4CC5-B012-0EF84FBD982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C055C-CFEF-4750-8E1B-6FAC9D562A7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C47022-A7FE-4493-8CA0-7E902D68890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0BA47-AAF6-4158-8B2C-7FAA064D0BE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48114A-5449-4A31-9E8E-E92E79562DC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BCAAE3-369D-430D-B900-8589ED5E4F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2928C-9830-4412-9D0C-D4859D8BCF4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4E221-AEC5-47FD-A20C-F4FB27AB7DE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DE87F2-4CCB-4C8A-A6EA-A5B81FAFE61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A16E26-1F8B-4266-8029-29BC3D61EC4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C5610-48E3-4FE1-B53D-8A3DC84C97A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567F89-CE54-458A-A0DE-33C4AAC4691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37CBCE-7187-40A1-943F-B83BB44B6E0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3C83D-CE62-41D1-8932-F8A5D19ECC1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81289-966C-4BA5-856B-0F4B871BEFA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D73F0-9130-45EE-86E7-1F1219779E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FC639-44ED-4852-91E6-1CCE3CB22A1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615ED-305A-4CA4-84D4-92270CD5C60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77097-2B2A-41F8-8075-B5E580ECBCF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D3E2C-9EEC-4282-B1BE-4B07C1D6DB6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BED1D-8090-4B1E-ABB0-75DF57F58BC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352D0-65D3-495C-9E5F-F6E1D63B748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24E7C-0067-405E-8694-F9ABDBD1E9C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A8EFF-A0C0-46AF-B311-9536FB57049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A9AE5-C30E-464A-94F5-3EC604EDC89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87AED-23AB-4DD6-BFBE-52CA432E2D1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A1B83-C551-4A0C-80CA-253F115E0A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E7114-02EB-45B8-929C-CC62840DD29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A1E12-9F84-4807-B357-BE7F4A639DF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1CDAA-72DB-448C-A724-6E8261FA9FE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93B91-0164-48A5-A523-F4B1A6AB231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FF39B-2222-4975-82C4-C05D6BE9EA9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53119-1BBD-4A65-A803-02CCF288F2F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92B5F-ED9F-4AC5-B615-63AD188A17E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9CD7-89F1-4007-A1C9-DF6896029A2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65E3-C144-480B-B37E-827EA1A1999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01B4-FBF0-48FB-B02D-472518D45A9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DCBA6-FE60-4E1C-A52C-5FF0C60BB7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4D129-477B-4974-8D69-F4F6049AAE8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4F149-A117-4ED2-B70E-BE3C5FD2C82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A2A4-0410-4248-A657-076F9CA98A0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CF3F-29DB-4A09-B7D5-A16C25A927B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8F60E-DFCF-40B4-B7A0-900CA18CCBA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55053E-D774-4235-BDA2-7AD05D6A513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42634D-4CE9-4DFA-BA14-CAD8D3CCFE8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D41558-1872-4DD8-94AD-86AF3E97D97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4E90E-D19D-498F-93D3-7881E799A69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917989-24E7-436F-B9D6-C99E54A5EDD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06E0CD-0586-46CB-89AE-2EAC8D205E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EDF8C-69ED-45D4-89F7-3352F3E2521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99E1A-8CB0-4B8B-AD40-7398C2D2F41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593B15-F201-418F-8B82-E82B26D39D9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C8A720-83FD-44C2-A89B-DC5D338A63B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506517-0EE5-43FB-AB0C-99237DED81D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966E6-CFD0-4354-A757-98104D4C83A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14168D-6AA6-42DF-A17B-052737EAE00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28BE01-A78F-433C-B2B7-743C1D38A8B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8F19B-844B-4965-869B-F4AD0DBADBE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23132-FC67-4C4F-90DF-3E005A01ADE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8E4C5-215B-47CE-9533-E85B414B5E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85AE0-38BB-4E6D-917A-BA0314E9606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9687A-286A-4B32-AD88-73A5588A62E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176B5D-0B53-4B6E-8267-13739DB9876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421BC-702A-4A98-93D6-12E5F93D9C3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B78E1-6EB5-41E2-9BD7-203AD6247A8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FAEEC3-EE27-49ED-984B-909FC46A3D3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76A350-CE02-42FD-9359-CBCE99A0C12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312FC3-AD9B-4B88-8657-5BA4A8549B8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7A35-6728-4A85-97A9-D47081D71CD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84DFD-48AD-46C4-8DE1-05C6E8C4248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9857-D1E0-40BE-B808-255B7A0E20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2EF00-B835-4565-A704-63EEDC78CE5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ECDD6-79FE-497C-9210-C8289079F9A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F316-E8F3-4AA6-9C9B-735DD8434BC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21EE-0D3D-4704-9503-B3769D4D5E1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E1F62-0B0D-4AC5-8229-9935A275C83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6220-59BF-49E5-9B84-22CF04BD902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3539-BFA4-4EDB-9DE4-F18459747FA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5B78B-EE9F-429A-BCF1-CFA374F7946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6E9C3-3BBB-4F79-8D8D-C39B1BF8549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D5E8B-7318-4DFD-92D7-658E7E33E9A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AF6C0-3DE5-4965-9DDD-FB2E3B5FAB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5E433-4DB7-4B90-AC47-452EF01B2A5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D2008-886E-4623-8821-FDD722FF435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FC3B8-6831-4443-9C29-6701BFDBD4B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3DC9D-945D-40EE-BA72-BB95DC0C414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4FDD8-1ED5-444E-8B7C-70ED5BFB944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98199-8DC8-4D3A-B54E-9D51AC82F09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E9BA8-FC33-4131-AE5D-CDD929BE017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8FA86-ABFE-4DC7-B014-14AEF299763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ABB24-7F7B-4E35-AD89-9B0FE023AB1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3DF1E-C336-4798-AD77-C0C3276C08C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7115E-28A8-4B6F-A693-AA63A469E1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08D-0060-405A-B37F-7DE5570C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55FD0-C70C-4AD2-9CA9-5875D550522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99981-4A5D-4F44-9200-0D92662FE3A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576E3-5F11-47E7-ADD3-5BB1900E6D3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95C47-BD3C-418B-BF57-17F793EF7CA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8EF0A2-D29E-4978-9530-E7E4F50092D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E1F3E3-7B80-4B6A-B71F-A3807303A7E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B9456-14E2-4E90-9B78-374D3DC7BAD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2D8798-C482-4A22-8F2A-C381AC26244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1501C-DC3C-41DA-8A56-5AC12309702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749CC1-6809-478B-9700-5897A88C09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3F647-2C0C-4D5C-BE0C-ACEC1BCC863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20BE8-6424-46B0-BB2D-D9F5E34F4B7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D73C0F-00B2-4C0F-B820-B76E4B30CDA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E0B1C0-D7AB-4E18-A9B4-D88E61B6A27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D1723-335B-4361-B0F9-BFCC2205A65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4EFCD9-C2CD-4998-969E-F711747B9AC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292ED-4FCC-4509-898D-75F05BD19CE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94BA9-8658-4BA8-8433-7DAEBD551EC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F644A-AB48-43FE-88FB-4528613F7E9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28E53-C178-4E30-A9FD-FAB8DD39774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AB48-DBF2-4D34-A80B-490DF74CCD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A947B-57AD-4F7E-B54F-C0B7B1D2D04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7BD89-CBC9-4E88-881A-250B0FDFF6C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45B15-A2C1-4A82-B1B0-3A1F5C269D7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3AB3A-2C2A-452F-BD96-C7A944145EB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3A27E-3E0D-4E57-937D-703FBC87B5F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848D2-71CD-425E-8C84-2C0E6BD25EF3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C71E4-E9E2-4196-A865-7CC1E3FF2E0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5AF2C-BD7E-4D18-ABC4-AC9B8362DA5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8700C-3BC7-4E06-8200-5E8B491C161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7AFF7-7EBF-4888-9192-A1E4E0F28DD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FC461-9BCD-4897-BD44-649353C181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2954-BA1A-4EF5-8F51-DA64B15EA05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F7BF8-DC72-4D3E-B12A-C030F1D77F7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BCB97-8B00-4D8C-9B1F-AB856C99B65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90C2F-9E21-444F-B9CB-DFFD6A55CB6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16960-2EAD-45FC-9DC9-96F14AA5722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10591-EEC3-479F-922A-8AC50A0F4D8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08450-3CE6-4D0B-9A43-81B4DE90265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3862D-9E71-4AD0-A531-46F3B4DA583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402018-F926-42D5-9F8B-2455250FFBC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0F0F6-16D4-4714-BA4C-63A97EB64BA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F3AEAA-EE7F-4A42-A821-F9F69E6A5F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D475-EF9E-4FE4-87F8-0F23AE192F7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870124-4DFE-4BC6-A74C-A241D4EF0A3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8E724-A8F0-4AD6-BAC3-6DB1C164AE0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444B67-28E5-4A71-AA75-3FAAA284583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D7FBFA-1354-4FEA-9404-0A4357C6555D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C4690C-14F8-4C13-9B2A-8CFF145E2A12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25250-2577-4EBE-93F8-73BBA89F191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8139BF-45AF-484A-B4F8-C23E557DDC2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947505-EC0D-40FA-BCC6-6B29693EB71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036F7E-094D-4FDE-AABB-3B7F36C4A32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CD2A74-9825-4067-B878-7A92F5C098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A56C2-45C4-4CB9-AE26-18CA2CD5CBB2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9EED21-0AF6-4157-AC83-312CFBA59A8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29503-13D8-413A-9B8D-4A8C9F1EABF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57D1-B02F-450F-8026-61DB3A6D8FA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8A09B-FD95-4D54-9257-1B3017A8A28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1FFA7-2743-43D1-8B97-2137F1A75F3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9896A-D058-45A8-9FF7-20ECB657793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4282C-E6D0-402F-8E2D-F0A71575B1D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B0455-FCAF-4E63-8F70-39F4DE19932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BBDE0-540F-4A01-82D9-6F5DE814AC8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FD0E4-00C9-49A5-8625-8837156814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CF6E-0D94-4859-8846-083408FB46AB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6AB1C-F1CA-4262-9001-A4C118AD353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A119E-2D15-4BCE-9EDE-16C4F69CB36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291E1-2772-49DB-85BE-103C786DFD3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4E0A18-30F6-4FCC-B9D5-1689DA48AB7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7CFB73-447B-4C54-9DBE-C446A463F56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1FEA15-E274-4C89-BBD5-FF4D2805C2B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1470AE-0600-4C4B-81ED-63B57DE5254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CCEE0A-D51F-4829-B214-FB18C3931E0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DCDAF7-3B8B-449A-A01E-E17F94037A3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22F70B-5123-42BC-8130-1F799B830A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F23D-3117-4AE7-8358-A0751EF5C27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C08289-DFF1-4997-8CDA-487CA9C81DB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AAEEC4-E71D-4D3C-A2DA-8A58C9F745F2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C51326-4DE8-4730-BB37-2A26EF57D54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34CDC0-2078-4B66-92F7-53CE7D756D8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1168D0-3A51-4924-B375-1745283A50B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8829-18AC-45E2-96B8-65D4584F3C3E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790CF6-E693-46F7-A80E-BA60995420EF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E42393-FD1B-4F7D-8825-7E3C5A35B3E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EAD540-F951-4CA8-A291-7C66DEBA2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E2A-22D5-4E96-AAAB-E38F3D6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DBA5-9692-4BA2-8C49-3B9C8AA91242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2D98E-88A1-452E-9075-4D0830A34C20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4BF096-8127-4A05-BED6-50D84B47D62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23143C-F7F5-47EE-80A9-61AA39485E71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CA9ABC-5EE1-4DD5-9CBF-A69B15C4CE2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E10869-CD8E-4AB3-8BB3-4AD749FA999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325096-C65E-4BA4-A7E4-6A0F29F1B0A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60B0C-9E0E-4212-BFC7-7638854D20F2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95B763-712D-439D-9205-7AC7BD8435F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F65954-C09B-4C7B-BE25-0098D74BB882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CF235-D728-4BB3-A846-E62D18126B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1C50-B8D6-4C8C-8013-5DDD676495F8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6F20-D986-4EAD-B067-973E92059483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08BB3-5C76-4FDB-8EAE-5DAD9B885F8E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4BBE5-C8EA-42EB-A149-9E725665D79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EE774-11B3-4A9B-9978-C7DBDA212AE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1E896-C2A3-4F87-846C-33A3A6D80C3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C2609-3973-456C-B74A-71A8097040D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38C7D-A7E7-4881-82BF-C8DC278C598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68F28-B478-43BD-8D47-45EF0C3BF80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8F568-FDFE-419D-8054-187917FE034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6E780-0910-4311-9C3E-45235746BA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7CB7-1407-403F-9E44-B39A5EF2951F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F8B18-2BF3-4B30-8471-9FF16ADBD30D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3EDBF-7D55-47D2-B94E-1B36AF89D65F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19421-163C-40DF-831B-901C8483E25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EA6D4-48D3-4C82-8B32-86DB14E4535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B5DCC-505A-44E8-9F35-B29F12A72438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19EEE-D16C-4BD5-8722-B32B3DD03C69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A2790-8721-4221-9D83-84F7A7C03801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47E8A-C457-4D3B-BF31-6C730A11F56C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0B2EA-3559-4C88-BEF3-A79F1B4771E5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08422-FD44-46C2-B75E-DD714010F5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C668-CE32-4B48-B9FB-C794E25FAF8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5543E-A23D-4AF8-A5A2-1BBA4F93D60E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BDC6E-DBE5-41EC-810A-5949A12A3CBB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ED96A-DBB8-46CF-BB42-CEFF3AA984B1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20D81A-5961-4C03-B1EC-7BE25BA08D61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0E4ED-95E6-4330-A232-377A7FCA51B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4E2E9C-47C9-443F-84F6-07A156E4ACE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CFC06F-3C3F-42B7-950F-5142D33CEFB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AABED1-C470-4F55-A97B-0304915DD24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00A634-A083-4B4F-9887-AF624BAC55E2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BA1F0D-5B7A-4D1A-9C0D-6547CEC269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9BF2-DC1C-4330-8BD1-EBA38F7A1A71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1E03FA-E21F-4053-B1F5-E6FD461AE30C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ED3917-FC50-494D-AD5E-3B941A827BA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9AF4DC-341A-4AFE-B1DA-3AA2095B216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25783-0824-45D7-A518-DAA05F4FACA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8743D8-E847-4611-AEE6-DB90B64A5EE5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5B7A0-4300-4CD5-8998-CBA11CED2DA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FDD08-8B09-48A0-8949-C678EA95E05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F08AB-3C6B-49E4-94A5-A86C1BEF791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1849C-A08A-4560-BFFA-D8E919A8E1D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3DD0C-14AC-486E-A479-C9E98B08E0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9BA1-5F23-4628-A6EC-399361EFBAF2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1B716-652F-46D2-AC44-44678B7BE15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EFD71-D6DA-4483-B993-11E1CA43722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A23B4-BB51-4298-9221-AFFA0FB596D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378E2-C581-4AAC-AB3E-088255913917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E65AC-5C04-4205-B5DE-CB9BA066D3D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4E145-D2E3-4D1E-9764-CD2CF4C8D15D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5D0DE-806F-4268-A3E9-F82EEB95215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BE0D77-645F-4FE3-99C5-04154C19F09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FA09B2-1C5E-4BDB-A6FF-5D67B3D4402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F7B0A9-66EC-4863-AF69-09E84F72BC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624-CF11-46A4-8CCF-D7F303066EC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335676-C296-4461-8302-F22E0B3C1D1A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0758BD-BA06-48C2-AE9D-DD1C42F57A9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1DA446-60B4-479E-8168-6251848737CC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43DCA2-3B23-4603-A729-EB86D320B13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B76EEC-D60B-4B62-86DA-09AD6608321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725B94-F7FB-471D-A82F-79124B309240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1C4F9F-134C-464D-ACB1-0DB53FD88B53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F3839F-1AD7-4D82-AFFB-09A4D9074BEA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FB4493-7387-4FFE-81F8-F682817F2AA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F15-8057-4DF1-A286-0C54BF86D749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A7DA-8732-4792-9D4F-A2E31745BBDF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797A92-4B24-4245-AE9D-5452AB25EDEE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1E25C3-BAB8-4889-8D75-20AF31720127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EB917F-09C7-4897-9AEA-D4622E84F07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315DC2-69DE-46B4-B226-F55ECD532EA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D0ED9A-4066-4101-B946-BBC517B1A8F4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27FC87-D227-4197-B7F8-79EAA6449E2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A61B71-4217-4EAF-A86E-9871B22E19D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537508-6AA2-4D1E-87D3-4660B5A059EF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C3EEE1-5F4D-48D5-9D08-F1B9EF370CF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338DF-B25F-4C73-98FE-46047085E5E4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076380-BD97-453C-B0A9-9526B697A942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0E93D1-1EB1-41E9-B22C-EB8FE1CC84E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ED729C-F1BC-46B4-A59C-2CC5CA32F8FE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DAF3B-E439-4508-AF27-F40ADE5AF75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85A36-FB53-4A0E-B893-86DA3E5D97D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8F3A2-E1F0-462F-AD14-569EA934676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164C5-9943-445D-B2D9-B065C439E56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61C84-5D82-45FB-B6B9-071985F8E699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2A4F1-A1AD-4AC3-99DA-F619795A982A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48796-A4FD-467E-ACE6-1AFDDB58A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489-5D86-41B7-9C60-2863809E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34A16-6D1D-459D-9D06-86F4616495FE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F29BA-25DA-48F6-9237-43D516EDE52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D375D-32EE-4355-A7EA-A007A8F95BFE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BAD99-8F19-4CCD-A088-8D787046C48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6BB0D-11A9-46DD-B869-A22701D670B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3BA08-36C4-47E0-9D85-9529199D470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51EA80-12D5-49FE-9066-0165EB49B81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AC6EB5-D695-4E9B-9EEC-2A320F992B4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DBB81F-AF24-4CAB-A9DA-A4C1738B3462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31D834-9015-45F1-977C-194D8462B1A2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068C2B-2027-47D4-A2CE-A6B9632C20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C4A14-CDEC-49E9-B406-BC4195387CA1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3BFB13-CAD8-45C9-B3C9-C7E687C510A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F340E7-CA0A-47CB-ACBC-EC817A3077EF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240EF7-F592-4541-8AF1-7DED6A38BD99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63FE13-4638-4779-8394-50E05F4FEA3E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3CCA81-AE8B-4C66-AB8A-DC0190E1A35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7563F2-CBA4-4FDE-AA30-1EA51937564E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AD9CA2-50CD-4BDE-979A-3D4F368B96E0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F78016-953E-4A38-8265-2BF7010DAA52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D32CBF-06E3-4F82-9AD3-918A86AC5D57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2F2CE0-8851-4C55-A6AA-25881EC33D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854F9-D3D5-49A1-A30F-1242B6081E47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78E7AE-7F85-48EA-9FF6-07A4A7CFF98D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EE0B1F-9CF7-4226-9132-35A8C74CACD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62AEB3-C8BB-427B-9BEE-33DC917C729D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51DDF2-BAFE-4A9A-871A-8AE241D24814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ED1599-6085-48ED-B35B-7DC584A435E2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6F72A9-E904-41DF-8449-7ABF42983D38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1BFBB1-D001-4EFD-AAE6-414F0803723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712763-2548-4B7E-9254-A1D6894F110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720255-D93B-49E7-960E-BD6483B19059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093CE-EF33-4208-B185-145E9205CFD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87CB7-7531-457D-B893-1B83CBBAEC7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D31BF-F78A-4C61-BEF2-B275A567AAD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4D3B6-482C-492C-8B99-72669CF35EE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0C775-3B47-4461-BBA9-64EDDAB85B4F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62E80-0EB4-4C92-A840-858E48A0560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0BF8D-E0A2-40DA-9F7F-2917D57E9DF4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AEC5E-EC93-4274-A59D-CD20414B1FD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899EE-7FB1-46A6-8CD2-3F237E2C044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3D0C4-AC7C-47AB-8126-FE0A3431209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66BDB-39E6-4E5F-A87D-968193DB429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295C4-B883-479D-B65F-7F553CE78E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84C78-9C64-417D-B9C3-6DCE8572C35F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7AF7B-B7CC-4297-ADB0-C54FA7071C6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A5BCD1-6B3C-4C9B-AD9B-B5A732DD9A3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94D7C4-7141-4BFD-8AC6-BFD1F504250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B8C77C-EEAB-4AE6-8623-F2A746F0812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E99FFC-124F-490D-B7FC-06DE349E608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919CDB-F789-4292-9CA0-31C825C8009F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A8AFC6-F7C6-44CD-9BAD-B415968A5EA5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F3EF8B-AB0A-4676-8AB3-4DDFA2A55F1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CCB404-41DE-437A-AFF4-BDA82E66A57F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37BAAC-2263-4053-BDB1-E1DF5440130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DE74C-31E0-4143-BFB5-71A4544CB54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9EA637-20E0-41AE-9AB9-28E70E47CC46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9880FF-2024-4ED6-992E-B46C82FED8F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8232F9-A502-4D4A-AF49-27B22EDC362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8B7E6-BA66-40CA-9B04-198A8BD280AD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98B8B2-A9F0-4A2F-A021-2C5D8BB2189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5688C7-9554-42A0-8F78-29FFEBAF5642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CCB163-7CAB-4D6D-A9F6-58A77E4D532A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B575DA-588E-4960-94C2-6BA2DD5EBC0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5F2464-F242-4369-B694-26B7832CE7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CA9B7-BA1B-4C35-B697-BCA860ABC66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BD8E28-B66D-40AB-88FE-3A1356296918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553218-1FB3-47E9-A08B-1768979FA1B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33C19C-96EC-4934-B74A-0C1C04DBF48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49A6CA-D2B3-4DE8-8732-BCA793E9426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E67A54-BEDB-4D5C-A0BB-052DE34E3C1D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C70CA1-E47E-4692-8C62-9ADBF2516B5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4D3B4D-3572-4B6F-9945-0F60277F6379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CE1B4-E918-4E01-9B1F-5AAC13E9B835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A74D8C-7312-4F9B-A1BE-BA96A967356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C6E14-9D85-4859-AF96-0C8A3DD811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5192A-EFC9-495C-BD4F-08FD59DD6824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82553-88D9-43D0-8FC9-C0F84CD3AC89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B90A0-A5E9-4864-965E-D83525AC5B9D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98B66-9F90-4370-83FC-832E021BE8C2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AC026-807D-4453-BE28-6B420CDC3874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AC2FC-3D08-4965-86E0-0213F0DA8DD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09C12-3F10-495C-BF6A-0230C6C07F7B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C20BB-98AE-4824-9D8C-97538138BEE1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2B23F-A17A-4085-A57A-6D901169DD3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0989E-4384-43F9-920D-774AE2CA2E9F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38D0B9-9C10-4495-B16C-FCC8277A40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BE2E9-36BD-46D3-970E-D5C30015AD11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1342EA-16FD-4A73-BCB7-E0DFDE370A5C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45A1F7-EAD0-4C87-8521-916FDE256AF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42B0CF-7352-4DF7-8798-9BB0112EAE61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5B0D89-7F75-4FAF-8F00-8F276F1DCFA3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63BDD5-2D40-4E42-85CA-45E26F068EC3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D593F1-DE27-4496-8140-FEF6A80445AC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5DB3EB-E270-4DFE-AA78-E155BE8581DA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FA0D8F-3CF0-4E6F-B722-0CBECFBAD67F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FA6AB2-33A3-426F-B69F-DB34E1AE4BE7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DEAA1C-9F1B-498B-AD2F-0041B1402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DCF-54DB-429E-B327-44878C7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FD7F1-E193-4E1C-8F3C-67CB8105F4FC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325F59-D55B-4558-9B02-A38329F6E97F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AC70E7-9A5D-4DF2-9B47-00DCE2E1AAF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8D595A-CB76-4882-8137-5973FBF26C40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FBC904-2A5F-4229-AB82-0876E6E3058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4F9287-0FC3-4C43-997F-BA9EE833A366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F694F0-9639-41D3-BCAE-D4402513B59D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01D36B-08D7-46A1-B42B-F32AD32B030B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968A95-050E-4717-98AF-BFE3847E65F1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511CF2-DB62-49FA-9F03-1F85F8A5D95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9E45B9-E808-480A-8C9D-5A7B46BE0B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E3665-AF61-46F3-8C5A-44467D017E69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6D45BD-FA74-47F8-A095-1E7A2652002C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9D19A3-6128-4A5E-84A5-FA5E27FF889B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78667D-47AC-421A-895F-72DAB0F2B4F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ED79F-3476-4048-8350-64AC16FBFB74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8B343-0CB6-4C7B-87E1-CE2EB74AE8A9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9DE31-FB45-4274-9AA7-F25C4DF259F8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83938-DF9B-41B4-8BAE-64C0AC71AF20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F55AA7-1216-473F-AA21-A0FA6E1A3A26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345A5-DDB7-4072-B2AF-FA4EC0FF04A8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9357C-9DD1-48D0-996B-C4B0D3B60DA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E1CE2-44DC-4574-A09C-3F0D73C3FEF1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8F22F-910B-4E02-9300-FA64A6F2A072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EEA01-1CCF-4112-8BBC-79C0765B5227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9B3493-3455-4AC1-931F-FBF6B3F98EC3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C7B77-BD0F-4506-B43C-D4942EE0BC5E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C6821-ABB3-422D-9D7A-61ED64453713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B2B874-3A0F-4D12-9C29-E52CD06DCBBC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2C564D-599B-476E-ABCF-5F816AF717D6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F511F2-F13A-4C1D-8125-4D0ABA6C5DED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F198FE-CC8F-4314-AB51-923E8BC9238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E899A7-8062-4ABC-BCA0-3CFD82F1F3E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BE5C1-89BC-44C6-94B4-604DFC5AAD33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BB77CBC-00DC-41BA-8F10-CFFDA11A237C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427A59-7CC0-44EB-B345-116E23D723CA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F94C93-B2C5-4F2A-8037-6EFCE006504A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297E32C-E6EB-44BB-8E63-69EC7BE9F841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A7B919-A0EF-457B-9B69-A96D96ACA776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04D5FFF-B572-4032-B5AF-D7875F38C3D8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0B1E7C-9ADA-4BD4-8BFF-274B7960E705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F5D5F-F54A-4666-8ECA-8BC7E4DF8204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183E20-CC61-496A-B7D5-09989E65DC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86CF3-7A18-4528-95DA-345875463216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6BD55C-6B8A-4831-A6F9-F0D4B7BD8387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591C99-3955-4346-B61E-AC805EA835EB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D2FB2A-E5BE-42BC-8723-613473CA606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7F7591-0F8D-483A-9609-9C861EAADD11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81F981-4683-4D2F-8F35-6AF902C5179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BFDD95-74CA-4000-AD2A-8B9BA501867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FE7C30-10AA-4D5D-85E3-8BD4A0ED7606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6FC0C5-C729-484A-BE94-C0DBA115BD1D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34242D-497B-4108-B2D2-FC361260A528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CD5A22-B01B-4154-B463-44AF92E102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631F8-FCFA-4582-A602-A02CB57BB2CC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94FA92-4C94-40C1-84F9-3472902B461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BD607-12BD-425D-8540-E7C4735E3E72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B4C37-798E-4D30-A8C3-51E2F7F9649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B0F2D-312C-40A1-9CC0-7B1B5D30FBE6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F9A12-7F84-4518-B226-56026443224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CFEE8-44DF-45B3-9007-3E1ADBF72C5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618F2-FFAC-4D41-B34D-1489833D254A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0F6DD-9EF1-4A47-918B-68F1F1F363FC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DCE64-5196-4292-93B0-F12B9E946DB2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A1F26-1EE5-4B50-96CC-20AD1CC911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1166D-849D-406C-BACB-AF798927894C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6C0EB-77B0-4CDE-BF27-3A377D1A9967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7372D-C596-48FA-9E9A-39E3C21C4FFD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745F3-0237-48BC-98B7-E239B875D83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BD161E-C90F-434B-881B-7CA60DC69200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A9B92D-DD80-48D5-A446-508805C881B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1D92DB-32B3-498B-909D-330A5099755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F9AB71-89D3-4CD8-B236-0CEFE75D525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0916AD1-F233-4426-A2D0-CCFFA18BBA3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74C152-DCC9-45A0-90A0-B646F0D7BE0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5FC5C7-0E8B-4943-8F45-A4927B4A03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077A1-ECCE-4DB5-8008-8E9D2124799D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71DF34-2FF3-4B9F-9775-CC0345AFB160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630F97-885A-4631-9BED-1974E2DBF882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9626B6-BA1B-429A-9DC2-3C30019FAC9F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8FB32A-22AA-4C16-8A27-9BA2AFA115D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C15C93-873F-48BF-A1B6-7968D5A3485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418B5B-B7BA-47E0-A4F4-FB3CF6C6071D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4157DF-A7E3-46ED-98BB-E52DC926ABE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8D3434-4814-4842-B117-0A595B8F5CC9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A26958-BCD2-41AB-9555-38C4589F5EDC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C44A57-E56E-419D-AA74-2BEFDE6270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8566C-950C-4D1C-B308-C89285105284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08DE15-6685-4315-81B6-6E4E3C7F821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45B7A5-2960-412E-9E26-6292505B3566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1CA9DB-4B46-4793-BD7D-28ADE03D66BF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638DB6-56D4-4B8E-A070-21BF55D5B82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693853-CBAE-4BCC-BD25-53296A241E7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BA9381-5683-47FC-8088-8066AE3939C5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E72291-EEA9-4B0D-9962-4C4440C4298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CB13D-A67B-43B4-B911-ED8EAD5AC074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84DD5-4B06-45A3-A82C-7C0C17D1901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E4656-3D68-4A16-ADF7-5D7C8E1B3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E17-A1F4-434C-80CA-8E3720C6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C35BC-7496-4F32-A05F-3830DF4C38E4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EA297-75A6-4AB8-B051-1A0387B8430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34AC1-AA84-47B2-A2A5-19E96361F66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9495E-97CD-47BB-B169-25659F5A3A8B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51DD7-95DA-4623-8C27-B9156F5CA94C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73060E-8E8C-4F03-8884-A7DA01A17751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9DE9F-321E-4ED2-8368-C51F78D133B5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A4E22-E5A7-47FF-B592-7559C5C6463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F6E999-B5CC-40A6-88EA-ACC99FCA6B1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C1F8A-2105-4544-9B2B-DB53F9145107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D069C3-7CD2-4150-A6B6-74A81EDB4A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89315-8751-4EF8-AC56-5E6C4E06A508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89825A-2044-4552-8762-9EF2A2147DC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604C41-59C0-4F2C-B8DB-2441DB9A200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5E2FE3-25EA-4DAA-A402-738B9A6F432F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B703FD-F227-4DCE-93A2-1678A5AFB437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B73D15-70E9-4107-8803-8F9F9DD34D18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A6D6AC1-178C-4885-AA6D-43F79362EC83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5FC3D8-B232-45EA-9116-352DA65F61FE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C7F37B-26FB-4EB1-9697-237C94E7B412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DF588B-D288-4186-AADD-2AD91C735423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FF5CE6-A057-487E-AEC6-A8989357AA1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A4A3C-2240-440C-8ADB-6004FB84217A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5E939C-8D36-4F9C-9284-E4801D3F01E9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8C07-CBB6-4739-9BDA-27ADF2109418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BC8E6E-1E1E-4092-B882-77A47413F3DE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03B441-F633-481D-901C-91D426EC42F8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D5539D-0326-46C6-88D3-A5B536A36885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0682FD-6E8C-43E5-BB93-D864E23F46E4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CD55BB-C273-4F7F-9501-982DD1AD1136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1727BD-2917-44CC-B99E-4DC51A890655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952131-C224-4C19-BE89-2B3BE60A22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4FD6-AE85-4A04-ACE6-775ED021DF81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565152-8843-4E42-B4A1-A64CE24EBFDE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C7ED40-C56D-4BA6-BE52-AEA81CF3309D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50C720-6C3C-4E3C-9BFE-054380FBD9B2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6AA6F4-BFA5-454E-971E-30F9EC52DEBF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B835AA-D455-457F-AB09-56A107C729A3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AEE4B-B0BB-41CE-95E2-932FA5DBE444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9E0B3-DB1F-4D87-9E63-8F6814315DB7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F1367-906D-41FD-9EA0-C1159072099D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19782-DAF6-4854-B178-A903CB4B3D85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7E4B0-389A-4FFE-8294-635FCC45EF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7C5B-90C0-4AD7-B4F2-E654562124D1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0E3DC-1A6D-4090-82B2-70EFBAAB2253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8A72F-C874-4332-8F2B-5A1CBAC32243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5CE323-854E-4A3E-874A-42F7D77AF7DC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CA85FF-04DA-48EA-BB2C-445071929472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4B1FF-B2B8-47B3-9C91-EBE964D4E26F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6E037-A085-49A4-8D0B-369BC8D572A9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570B1D-B283-4647-9D1D-CE6892E66D30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DE304D-8B7C-49D9-B9E9-C499949661DB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82029AB-E011-4D0C-95D3-D12D6C877926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8ACB6FA-E122-4E98-AD36-8DF483468E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03EC-7D25-4E31-9575-D961270FA78B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FEC778-FFDC-4A8B-9994-7FA53D4AAF34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5B8B9F-674F-433A-AF92-E4BDC6DB651C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2F233E-6807-42D7-B196-8648FF4BE6FC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410014-6D05-4188-9228-8BD3ED379B22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52F327-3933-4EA8-A13E-57B6BBD885BA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4C375B-D6E2-4F57-BECB-6F33DB3818F2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58D290-D572-4E8D-A16E-FC4636F5FEF6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6241DE-DF41-489C-9B8E-685D1E91F588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65BCAC-8166-4DCA-A2C0-963068A13CD1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AB0368-B7D8-47B5-B0B6-3C08BAAC2F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578F-4802-49A3-83CB-D6349FACC611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A8DFCF-3D9A-416F-9521-7E7B91EB8D59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BFEE09-0BEF-4FCA-AC17-D9C51E4C5AF4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5BD492-1094-4D29-9644-C04B4FDF7462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F61B299-AECD-4CF6-9413-BD3E430306E6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0BADE7-9738-486B-98F9-9B2D6B265E9E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FE964D-E01C-42DA-9DA7-667FB78CE353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383E78-E438-40A5-9808-AD6E1383F20C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ED4711-375D-4E70-AA01-0C7E39BC4F77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0747B0-836B-44EA-9717-4C7DB63AF9DB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4AD6549-3BF1-49B2-9882-CDF0F85B1B4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0631-8D11-47E6-B15A-5787C0A186A5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74EAE6-0285-43FB-A66A-3AE9940C2E9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61F1C0-B437-4105-8279-E9C81C28C388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CEAEA-C4E0-42B7-98A0-559AB75DBC1E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DD516-A1FB-4496-A9F2-697D992A3B31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DBC557-0C9B-4BFC-8FBD-3F1A3A7A3F5E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9344B-899A-4FC5-9C91-DC963F6E51D3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978C48-D33F-4162-B0EF-5A19914279F4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13490-0F23-41B0-A49B-0ACA38CF5D53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AFBC7-B4AF-4D7C-953C-DFE9667E9965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E5ADD-5B3F-4F45-8AA3-1B78F5161F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582D-8E62-4870-8F6F-56DE56062517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282D5-7CC8-41B7-8503-6E3447FD55D1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F40A5-66ED-4CFF-A9BC-F874E135A498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2EC99-2517-423D-B9A5-24B15AC42821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1FED6DC-A12E-46AA-8994-114402C56272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29E920-0460-4297-B0E4-DF369525DBB0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43C98C1-9DE9-4A2F-BEA2-2FF7B988F764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6A15A1D-ABE1-4B14-BAEA-312598A06F6C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8131F2-16D2-4B64-A754-A92B20FDDB07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A88AFEA-39F0-4875-936A-16D09BF71BD0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67AC0C1-68E4-4834-A4F8-7B6705C4E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0E6-4084-4446-90EB-B866E28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3B4BD-BEB9-4FD1-A371-E9667C222ED6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99FB83-2547-401A-9414-B381B9E3CB87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6A57689-4DAB-4F8E-A92F-F68ED6BB5F9F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F38FF4-676C-4A74-B543-79BE45F2D4F1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57F9D0-5023-469D-8E7D-1AF1768C542D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2F3289-9C5F-4A36-84C0-8D499290FC9E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207B-6055-4024-8B71-2C4690BAC062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11C5DC-7390-443F-BFCC-1173843F682F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1B237E-0F64-4F0E-83ED-51A41BE5E321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C0B4AF-C37C-492D-A08B-406FE35047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BF04-FFBB-4740-8DCE-7F3BE3C82C16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B038F5-2A21-4278-8DC4-D568F3A98E34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20816A5-E7D9-43F1-B25D-326947049417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12705C9-5DBF-4879-ABD3-9BB31A00E95F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91F006-8AC5-48BB-960D-B2666DC34786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D90E9A-8591-48E3-A502-D5EF422271A6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72302F-EDE0-4712-9AC1-7C095D1A60B3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4D539E-BBCA-496F-8829-4557CB82018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93EE3E-1644-4D29-8645-C6AD5737806D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410261-D44A-46CC-A488-BBE5717B96CD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ECB23-47FF-4E3B-A6BC-1631B90B1D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6EC4-C0EA-4140-BA7C-929C0ED6A066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B49EC-6963-4DFF-8404-211231308A81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49092-316A-4662-A617-1A602F3DC2B9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F1A404-91DA-4171-8C38-02415BAD43BA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0E0D9-C2A7-4C88-ACB3-7B6B04EBEAF9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9AC90-2640-447F-BE86-4F4D97EC76C0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FBC39-6F7D-41A9-BFFC-B16BA9B7AEF7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4BD9F-AA17-4279-8CF4-E9E33422AE15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71EC71-07A9-4607-B75B-E0EC789C9880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EB41C-B869-439C-A3DB-320D48C513D0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633BA-62AD-4DAB-B8A9-7DCB800A23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4B43-BB9C-4BA3-BEA1-8968729BCA77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070D2-0FC0-4651-A711-DCCB515B30FB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1678B71-A8BB-423A-83A2-AA1C29F25DC7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8079A4F-F090-4D78-80A6-19433713947B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5E1793-B8F1-416A-9BA5-B651922DC924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ECBDA17-195A-494D-BBDF-69287616501A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800BBA-8DB7-486B-82EB-38012ECF4DD9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97F9D4F-0EB8-487F-9BC4-D895BBF9D254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CEB760-B2E8-424B-87B0-BD509AD0E3C2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CFC77B-0D63-42A3-81A3-5D22ADA8AFD9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B2288B-72BB-4EC5-87C1-A0BDE1FFD4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3B0F6-DD38-4E82-A5F5-B50135275300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4CE20D-934E-44C4-BDC0-C632E5BD856B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AE61525-4082-4E88-9344-89F5CF0F9BD8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2363AB7-5DA2-4AED-A89F-225ECF6CD0ED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741613-A6D0-42D2-81C8-55F5E2D54D34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313807B-AD77-4A4A-A923-D0C3E80C1E91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45655A-0F91-4FD7-B384-CB1F05E88F1B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7E4B6A-01A8-4DE6-BCC3-843A3C272F4E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A0ECF87-4B6F-4DAB-ADB8-14CFC7816C65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76AD73-BEBD-44EB-AF2B-A8055F064D50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F5BBC1-0154-43D0-8758-0C6342BD37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87371-1313-4AE3-AEA9-1C90CE4ACDD5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53B6F5-F0F8-43D2-918D-173A30C16568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1EA5B5E-E6D5-4C10-B6B1-869AF17281E4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FB057E-AEBF-4B8B-9BF7-94DB4735E6D1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D6F553-4213-45DD-8408-DB05F422B546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B10F80-F811-48C3-A97F-346477A81D49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514664-1172-4525-AC81-9DD865BF2D4B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CCF20D-E73B-4BED-9719-EC4D5D2C0CC0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5C451-5648-4569-9853-C2B797469B1E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350AA2-71C0-4E3C-9AB1-E357A8FDBC2A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A38B45-EEAC-497E-89C5-F414EEE56D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8E830-3A94-4A14-9747-F78B6706E017}" type="slidenum">
              <a:t>&lt;#&gt;</a:t>
            </a:fld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B54CEF-B91E-4649-A7A8-975937DEC13A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2CFA7-A06C-478C-A5BE-1B9AE8EE86FF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F7BD44-74CB-4C43-B2C4-1EDF2686FDAC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E901D-1A83-41F4-BC06-D56E26723E69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9509F3-CFDC-4EB6-85AB-CBD842258649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F1910C-A2B0-4A96-9512-B3887A7674B4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FB3C84-3EB7-414E-9CB3-298538AE6A6A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DCADEF3-9666-45D6-84EA-B8B12249864D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189A965-1B9B-4AA9-A2A3-A09C5B5369A7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503E458-B714-4005-8112-3EEE970AE4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FD759-0707-4B8E-AD8D-65F616B6F93F}" type="slidenum">
              <a:t>&lt;#&gt;</a:t>
            </a:fld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942CECF-59AD-4A77-A5D4-ACAC93B51E4C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99BA449-E14E-4D55-8440-96F490198A66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8C19FA-5AB1-483F-81C0-DEBA79424EAD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C8DD649-88C0-4848-8E53-2FFF42D4F89F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D04D77A-B5C1-474C-93EC-C78EBA49449A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105FDAF-3297-4D93-A346-8EA2FAA3C350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CBA802C-CE0B-47D2-AB1F-B11257A4DA0C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AA492B-2350-4357-901F-8F5EC4D441FB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DC1666-D00B-4678-8F6C-398286823C7C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BAAF3-87B6-485A-ABA0-C1E11648A6A0}" type="slidenum">
              <a:t>&lt;#&gt;</a:t>
            </a:fld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8AA-89E6-447E-BD5D-02F4397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F11F7-D66B-4B23-BB1D-8335E0CC1859}" type="slidenum">
              <a:t>&lt;#&gt;</a:t>
            </a:fld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C502CB-576C-4DFF-89E5-943A0259E9BC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EA5F5B-CAE5-45C4-A2A0-E69E4C199973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911C908-FAD3-4F2B-A458-1820F50CA41D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F6CE130-6705-4481-BC6D-0CA92348CE39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F9E8D5-BC97-4F48-8D0C-56692FCC5B73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23443A-4BF0-4E6C-9EB7-34E8A0D9FE93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D2CD65B-0505-49FB-A0AD-D0B9666B7BA7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239E91-A168-44C0-9790-D64A4A164939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CAC8E3-DE54-4D01-A6C6-988009300D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8C04A-C331-4EC8-BFC1-170552E409AF}" type="slidenum">
              <a:t>&lt;#&gt;</a:t>
            </a:fld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021DE0-80C0-48B4-B1E3-F7BF332FE8B1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49E2D9-7A74-4495-A856-69510BEAA452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C96AA47-FC36-4696-BAB7-6D3BD25AA674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E92230-8DA8-49C1-ADA8-F9B36A531D1E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6C8B2E-AF14-4C51-9590-E3BE491E5467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92EA87-E0C4-491F-88DD-B029C110FC3D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4F2844-6585-4726-BB50-28181BD7CE37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A100CF-C406-4E2E-97C9-C47DEC7876AE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740D22-58DB-462E-A116-566FA6D8FE26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CDA54A-BBBF-41B1-A23B-12896633D4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479C6-82FF-4697-A6C5-B2DDA654D92E}" type="slidenum">
              <a:t>&lt;#&gt;</a:t>
            </a:fld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DA2C2-31F8-4F75-87F9-476F6B5044FF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CCEF82-76B3-443A-BD4A-D872E8C96BC7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848063-B59A-4173-8494-A1480AE80D5E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7FF9D8-AD9F-47D0-9675-BBF1B22CF63D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826B2-1060-4259-9821-5DFEF304BEC1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35ED45-A497-48B1-AC4A-12AF851DF0E7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040329-EDC9-486A-BB77-1067EA1E70FA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08E8DB3-3AED-4894-A42B-E6D16AFD99B5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EE3A20-8629-4333-A07B-572298E45696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568960-5120-4AB9-898D-C1ACF3A146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037E6-CFE2-4D09-BB88-8CB3BD7514AA}" type="slidenum">
              <a:t>&lt;#&gt;</a:t>
            </a:fld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179FC4-7901-411C-A392-816BBE678646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0473A9-E0A8-489F-96BA-898CE90F473F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5BAFB3-03B2-409D-AB5F-2A360C2CB2DB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3D92781-5D10-4E34-8C39-4C1FA4E215C9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B9856F-B73E-4B7E-ADEC-B2534A6A0DC1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5B9170E-8901-410B-8951-48FBF89F3BF6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E07DDC0-36E9-45CB-BC5F-395DEB5C3843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5E92AEF-D413-4901-AAD0-0B15AD148E35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43036F-C6FA-4BB2-BB72-BE731D6817CC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AF91B5-E591-43B8-9000-B43A358922B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22C16-D122-4EA8-B8B5-7E82BC204259}" type="slidenum">
              <a:t>&lt;#&gt;</a:t>
            </a:fld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2AFA60-04EA-4EFD-8CAF-73EBE7BB90FB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51AC616-3B72-4B2A-91DF-4550F9B67AD9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1A6CF0-7C80-4867-9694-EA3A7A7DA755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A4477FC-7227-4017-A73B-F6F49CD60A8E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87E1868-0856-442F-9CF6-367329FAEE66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7609E24-2334-4652-A630-8EE2FAA261D2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964B2A-D0FE-42E0-B00B-67A236F8880B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198854-D8BC-411E-8638-B867529C857E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24A29A7-5EDE-43F6-B9AC-721D2AA65C52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5EC4A5-3499-4F8F-91EC-417AD58C563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C8F61-E745-4586-82E8-71E6BBD58C77}" type="slidenum">
              <a:t>&lt;#&gt;</a:t>
            </a:fld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3D838-20A3-4D64-89F0-CB367FE60376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2212F5-A93E-4AB0-BB58-A3278A485C0B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81A7EE-4F5E-4036-AC94-83F9B7DE9DEB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8C6225-2733-419F-A330-7D71EDCD0615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FB7092-EB44-4B11-8E74-0AE7451DC129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4A2AC9-F189-4603-B3C0-84E51055C4C5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1AA72B-57D1-45B3-B561-EB93B32D5621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B4EF92-1E67-4C57-9F1D-1E02B482D4BB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965EE0-BEBF-4EF2-84A3-93ED564C13E8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43B2E1-BA5D-4CF5-BD3A-2518A2EAB12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AE108-9E18-403A-BAC0-36FA3C2C8714}" type="slidenum">
              <a:t>&lt;#&gt;</a:t>
            </a:fld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C9AACE-84A0-4EA3-A05D-3A7E34DB9F7A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C65221-D157-4924-9A0E-8EC954482066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12D708E-1BE4-44EA-95A7-2F5354158A29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A548EB-FB20-411B-879E-E5498F551897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1FCE48-E938-4CDF-AB70-3F8C684823C8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3C1E67-2586-469F-8AC3-CD2594AC9289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subTitle"/>
          </p:nvPr>
        </p:nvSpPr>
        <p:spPr>
          <a:xfrm>
            <a:off x="601200" y="1108080"/>
            <a:ext cx="808524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6DFB24D-99C6-4A68-8045-B59F58422CB5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09C45D7-98F8-46F4-8028-BB23EC9FE41E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D1F5AA-33BE-42DC-BD37-29D2C47DED78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220F915-1A9D-4E6C-9177-85F3DD177B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AB14C-7486-4BC5-A4DB-FCFEB212F6A4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601200" y="4266360"/>
            <a:ext cx="808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912B30-1070-4E34-9730-E9A28DA096BE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4744080" y="223308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60120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/>
          </p:nvPr>
        </p:nvSpPr>
        <p:spPr>
          <a:xfrm>
            <a:off x="4744080" y="4266360"/>
            <a:ext cx="394524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FC5E9E-BE5C-412D-8B70-64EE471A5229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333504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6068520" y="223308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5"/>
          <p:cNvSpPr>
            <a:spLocks noGrp="1"/>
          </p:cNvSpPr>
          <p:nvPr>
            <p:ph/>
          </p:nvPr>
        </p:nvSpPr>
        <p:spPr>
          <a:xfrm>
            <a:off x="60120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6"/>
          <p:cNvSpPr>
            <a:spLocks noGrp="1"/>
          </p:cNvSpPr>
          <p:nvPr>
            <p:ph/>
          </p:nvPr>
        </p:nvSpPr>
        <p:spPr>
          <a:xfrm>
            <a:off x="333504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7"/>
          <p:cNvSpPr>
            <a:spLocks noGrp="1"/>
          </p:cNvSpPr>
          <p:nvPr>
            <p:ph/>
          </p:nvPr>
        </p:nvSpPr>
        <p:spPr>
          <a:xfrm>
            <a:off x="6068520" y="4266360"/>
            <a:ext cx="2603160" cy="18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4476B71-60EC-4964-97F9-97DE1E0D30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B506E-C702-42C0-898B-F8BDAC97D0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9AF65-7A23-4AF3-AB74-25033E37F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D8F7-625F-41C6-9416-C8B0A203E4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1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952-B40E-473A-A4C0-34017A0FB6D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7BBB-5B4A-4395-9321-F89F5E3DF81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1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BE7A-2AB0-4794-A353-C00C8C3E5D4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1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9EC6-C3BC-4784-BFDD-53B5B2EC952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57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16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8BD8-97CE-490B-965A-6A584301E23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Num" idx="1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B88-9F42-4FD9-8676-2CF59134160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65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1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1B3-3031-4935-A9D0-F72EFDFC1768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659F-A324-481B-8F0F-91209F1A1FB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85E6-02B8-42CB-8BB4-347ADF3491B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78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Num" idx="2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4B2E-2B3B-4972-B0EB-DE75F17B492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82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sldNum" idx="2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D37-7EAA-4888-B833-0F68D2A2076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86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sldNum" idx="22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1F37-96D7-42DC-9E34-E72304F78B6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90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2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119-B3EC-4A3F-9DBC-B86A4F83358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94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Num" idx="2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C1F-4F22-4558-AE80-F73B41A8234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98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sldNum" idx="2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7C9-67A0-47F9-8377-A95D7800DEA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02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06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Num" idx="2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2E6-0B8A-4BF0-A7E6-B647ED74239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11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2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A764-DFBF-434B-A5AC-55BE49AEAA1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15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sldNum" idx="28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04BF-1AA0-45F7-BBF1-2EF65AD2D50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A0A2-1548-4624-908C-4CA522C3A5A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19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2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0AFF-60A7-4DC4-B93E-907C177BEFB5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23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3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861A-6597-4306-93FC-331D4779C7A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27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sldNum" idx="3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5CD-B199-4A50-94F7-FAA0E7B37AD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31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35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 type="sldNum" idx="3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FE2-1F54-47F7-8FA8-E03A1EBE9798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39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 type="sldNum" idx="3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7DFA-FAC6-42AF-A0FB-29D6CC15E5D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44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 type="sldNum" idx="34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8245-5206-4232-8D55-FF577281A0A8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3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0017-572F-464E-B35C-8221AB1A522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52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sldNum" idx="3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9D5-C285-49F5-A04C-5333078B1DB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56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Num" idx="3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F7A5-EBF0-46F8-9EC3-661F520FED94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F2B-AE41-4028-BDB0-FF3BB80406B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0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4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sldNum" idx="3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B902-85B7-4EAC-81DD-B22C24D60B2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8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 type="sldNum" idx="3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4718-6E39-41BC-8C19-A7D1009CB455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72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0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7842-8874-47A8-8FA2-A67C63B7956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76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sldNum" idx="4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9D9-4C29-4733-A5EF-AF1220BDABB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81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 type="sldNum" idx="4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C32F-B48D-48FA-A903-6DF9A12C5BA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85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sldNum" idx="4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4A7E-ECE2-4676-AC46-4FA0F1A19DD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89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93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 type="sldNum" idx="4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D61F-05F5-44CF-8142-E02161459EC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97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Num" idx="4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6610-BE37-44EE-96B2-A02705A8502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3942-2FE6-4DED-B3A9-0AE440AF181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1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sldNum" idx="46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518A-1645-45C5-B366-C22E653C6C2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5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sldNum" idx="4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4FDD-A49E-4420-A2FE-8DDC01F0604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9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 type="sldNum" idx="4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E54B-7894-4865-99F8-7F94BE7883D6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13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4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D76F-338B-4F27-90B1-4F7FE99F6F6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18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22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 type="sldNum" idx="5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8490-6F80-45DD-B8B6-DADFD219322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26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 type="sldNum" idx="5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D5D0-7661-4CB2-B7A2-D6F7383F965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30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 type="sldNum" idx="52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D1F-1685-44A3-AE49-2B0E4B6FA5F6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34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 type="sldNum" idx="5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A3DD-27B5-463A-9F2B-CA97584C64A5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38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 type="sldNum" idx="54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974-CB00-4980-A04C-62203EF7063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B13-424A-486A-AA15-8F1D5BF64DCF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42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 type="sldNum" idx="5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DB6-23DA-4006-8BB4-5F4878A9AA4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46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0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 type="sldNum" idx="5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AA8-2E2F-4086-8C6C-37AD0702BC26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5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 type="sldNum" idx="5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FFF2-2941-4995-963D-3B7B9D8C3B3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9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 type="sldNum" idx="58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6BE9-0FBD-4A25-9B90-A2F9B887612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63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 type="sldNum" idx="5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C0C5-86CD-4D17-8D1E-DD865BB7F47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67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 type="sldNum" idx="6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CF56-7DD3-48D5-AF64-DFC207A627D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71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 type="sldNum" idx="6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A3DE-AB74-4B50-9E84-DF8FF5ACC247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5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756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79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 type="sldNum" idx="6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3B7A-8CC0-4BF1-B2E9-20BC1664D8B3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A1C-44C1-41AC-9FF7-DE294B5CBE5D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83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 type="sldNum" idx="6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4B0-C30E-4839-8BFA-A381BF1656F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88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 type="sldNum" idx="64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916F-09A7-490D-AF22-80234AEB96B0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92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 type="sldNum" idx="65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D6E-1AB5-4C58-9D21-C9713DBD1BCE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96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 type="sldNum" idx="66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4AD4-4DF7-4515-9413-DE03EB26A74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2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003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 type="sldNum" idx="67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143-777F-45A6-AE45-74AAC954AD3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3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044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Прямоугольник 6"/>
          <p:cNvSpPr/>
          <p:nvPr/>
        </p:nvSpPr>
        <p:spPr>
          <a:xfrm>
            <a:off x="0" y="2235240"/>
            <a:ext cx="914400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4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085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Прямоугольник 6"/>
          <p:cNvSpPr/>
          <p:nvPr/>
        </p:nvSpPr>
        <p:spPr>
          <a:xfrm>
            <a:off x="0" y="2235240"/>
            <a:ext cx="7264440" cy="3487680"/>
          </a:xfrm>
          <a:prstGeom prst="rect">
            <a:avLst/>
          </a:prstGeom>
          <a:solidFill>
            <a:srgbClr val="009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 type="sldNum" idx="68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A93B-C037-4A6E-A6DC-ECBBCE5BBBA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6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127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 type="sldNum" idx="69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E7D3-7521-4345-9441-F4328A17059A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168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 type="sldNum" idx="70"/>
          </p:nvPr>
        </p:nvSpPr>
        <p:spPr>
          <a:xfrm>
            <a:off x="5850000" y="6362640"/>
            <a:ext cx="6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EC69-2827-4011-BF3C-407C89127109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8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209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 type="sldNum" idx="7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75AA-F795-448D-9DD9-38947ED10236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5FB5-5CA5-4E5F-8482-F6BD57DCD7A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9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250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 type="sldNum" idx="72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DED4-BCE4-43E3-9709-14B2E29DFAFB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0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291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 type="sldNum" idx="73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4741-17D5-43DE-9420-B4DDB4983731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11"/>
          </p:nvPr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9b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89F7-7E3F-470F-9C3B-722D7D5DBAE2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Изображение 9" descr="logo_fcp_VR.pdf"/>
          <p:cNvPicPr/>
          <p:nvPr/>
        </p:nvPicPr>
        <p:blipFill>
          <a:blip r:embed="rId2"/>
          <a:stretch/>
        </p:blipFill>
        <p:spPr>
          <a:xfrm>
            <a:off x="6907320" y="552600"/>
            <a:ext cx="1333440" cy="50796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11"/>
          <p:cNvSpPr/>
          <p:nvPr/>
        </p:nvSpPr>
        <p:spPr>
          <a:xfrm flipV="1">
            <a:off x="5907240" y="6489360"/>
            <a:ext cx="0" cy="368280"/>
          </a:xfrm>
          <a:prstGeom prst="line">
            <a:avLst/>
          </a:prstGeom>
          <a:ln w="12600">
            <a:solidFill>
              <a:srgbClr val="009b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mailto:prirodasouz@yandex.ru" TargetMode="External"/><Relationship Id="rId3" Type="http://schemas.openxmlformats.org/officeDocument/2006/relationships/hyperlink" Target="http://www.prirodasouz.com/" TargetMode="External"/><Relationship Id="rId4" Type="http://schemas.openxmlformats.org/officeDocument/2006/relationships/hyperlink" Target="http://voda.org.ru/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080720" y="3242880"/>
            <a:ext cx="7389720" cy="17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SwiftC"/>
                <a:ea typeface="Arial Unicode MS"/>
              </a:rPr>
              <a:t>ФЕДЕРАЛЬНАЯ ЦЕЛЕВАЯ ПРОГРАММА «РАЗВИТИЕ ВОДОХОЗЯЙСТВЕННОГО КОМПЛЕКСА РОССИЙСКОЙ ФЕДЕРАЦИИ В 2012 – 2020 ГОДАХ»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SwiftC"/>
                <a:ea typeface="Arial Unicode MS"/>
              </a:rPr>
              <a:t>(ФЦП «ВОДА РОССИИ»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Прямоугольник 2"/>
          <p:cNvSpPr/>
          <p:nvPr/>
        </p:nvSpPr>
        <p:spPr>
          <a:xfrm>
            <a:off x="4691160" y="6240600"/>
            <a:ext cx="1819080" cy="61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A11-A27A-4C8E-8854-5ADB7F6B265C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9" name="Рисунок 1" descr=""/>
          <p:cNvPicPr/>
          <p:nvPr/>
        </p:nvPicPr>
        <p:blipFill>
          <a:blip r:embed="rId1"/>
          <a:stretch/>
        </p:blipFill>
        <p:spPr>
          <a:xfrm>
            <a:off x="114480" y="1244520"/>
            <a:ext cx="8288280" cy="4486320"/>
          </a:xfrm>
          <a:prstGeom prst="rect">
            <a:avLst/>
          </a:prstGeom>
          <a:ln w="0">
            <a:noFill/>
          </a:ln>
        </p:spPr>
      </p:pic>
      <p:sp>
        <p:nvSpPr>
          <p:cNvPr id="3470" name="Rectangle 38"/>
          <p:cNvSpPr/>
          <p:nvPr/>
        </p:nvSpPr>
        <p:spPr>
          <a:xfrm>
            <a:off x="6138720" y="4365720"/>
            <a:ext cx="2608560" cy="2201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Объект 1"/>
          <p:cNvSpPr/>
          <p:nvPr/>
        </p:nvSpPr>
        <p:spPr>
          <a:xfrm>
            <a:off x="473040" y="3467160"/>
            <a:ext cx="121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3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Объект 1"/>
          <p:cNvSpPr/>
          <p:nvPr/>
        </p:nvSpPr>
        <p:spPr>
          <a:xfrm>
            <a:off x="422280" y="4573440"/>
            <a:ext cx="16095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13,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3" name="Объект 1"/>
          <p:cNvSpPr/>
          <p:nvPr/>
        </p:nvSpPr>
        <p:spPr>
          <a:xfrm>
            <a:off x="1712880" y="3932280"/>
            <a:ext cx="1101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8,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Объект 1"/>
          <p:cNvSpPr/>
          <p:nvPr/>
        </p:nvSpPr>
        <p:spPr>
          <a:xfrm>
            <a:off x="1030320" y="2595600"/>
            <a:ext cx="1216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44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Объект 1"/>
          <p:cNvSpPr/>
          <p:nvPr/>
        </p:nvSpPr>
        <p:spPr>
          <a:xfrm>
            <a:off x="2889360" y="3693960"/>
            <a:ext cx="121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48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Объект 1"/>
          <p:cNvSpPr/>
          <p:nvPr/>
        </p:nvSpPr>
        <p:spPr>
          <a:xfrm>
            <a:off x="4195800" y="4290840"/>
            <a:ext cx="121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67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Объект 1"/>
          <p:cNvSpPr/>
          <p:nvPr/>
        </p:nvSpPr>
        <p:spPr>
          <a:xfrm>
            <a:off x="5524560" y="2924280"/>
            <a:ext cx="1557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SwiftC"/>
                <a:ea typeface="Arial Unicode MS"/>
              </a:rPr>
              <a:t>283,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Содержимое 9"/>
          <p:cNvSpPr/>
          <p:nvPr/>
        </p:nvSpPr>
        <p:spPr>
          <a:xfrm>
            <a:off x="5524560" y="3246480"/>
            <a:ext cx="182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Дальневосточный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Содержимое 9"/>
          <p:cNvSpPr/>
          <p:nvPr/>
        </p:nvSpPr>
        <p:spPr>
          <a:xfrm>
            <a:off x="4224240" y="4611600"/>
            <a:ext cx="182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Сибир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Содержимое 9"/>
          <p:cNvSpPr/>
          <p:nvPr/>
        </p:nvSpPr>
        <p:spPr>
          <a:xfrm>
            <a:off x="2889360" y="4156200"/>
            <a:ext cx="1825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Содержимое 9"/>
          <p:cNvSpPr/>
          <p:nvPr/>
        </p:nvSpPr>
        <p:spPr>
          <a:xfrm>
            <a:off x="1503360" y="3106800"/>
            <a:ext cx="1825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Севе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Западн</a:t>
            </a: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й 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Содержимое 9"/>
          <p:cNvSpPr/>
          <p:nvPr/>
        </p:nvSpPr>
        <p:spPr>
          <a:xfrm>
            <a:off x="1731960" y="4398840"/>
            <a:ext cx="123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Приволж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Содержимое 9"/>
          <p:cNvSpPr/>
          <p:nvPr/>
        </p:nvSpPr>
        <p:spPr>
          <a:xfrm>
            <a:off x="422280" y="5075280"/>
            <a:ext cx="1825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Южн</a:t>
            </a: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й и Севе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Кавказский 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Содержимое 9"/>
          <p:cNvSpPr/>
          <p:nvPr/>
        </p:nvSpPr>
        <p:spPr>
          <a:xfrm>
            <a:off x="466560" y="3960720"/>
            <a:ext cx="1827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Центральн</a:t>
            </a:r>
            <a:r>
              <a:rPr b="0" lang="en-US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SwiftC Bold"/>
                <a:ea typeface="SwiftC Bold"/>
              </a:rPr>
              <a:t>Ф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5" name="Содержимое 9"/>
          <p:cNvSpPr/>
          <p:nvPr/>
        </p:nvSpPr>
        <p:spPr>
          <a:xfrm>
            <a:off x="620640" y="1841400"/>
            <a:ext cx="18846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т</a:t>
            </a:r>
            <a:r>
              <a:rPr b="0" lang="en-US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ы</a:t>
            </a:r>
            <a:r>
              <a:rPr b="0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с. м</a:t>
            </a:r>
            <a:r>
              <a:rPr b="0" lang="bg-BG" sz="1600" spc="-1" strike="noStrike" baseline="30000">
                <a:solidFill>
                  <a:srgbClr val="000000"/>
                </a:solidFill>
                <a:latin typeface="SwiftC Bold"/>
                <a:ea typeface="SwiftC Bold"/>
              </a:rPr>
              <a:t>3</a:t>
            </a:r>
            <a:r>
              <a:rPr b="0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/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SwiftC Bold"/>
                <a:ea typeface="SwiftC Bold"/>
              </a:rPr>
              <a:t>н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Содержимое 9"/>
          <p:cNvSpPr/>
          <p:nvPr/>
        </p:nvSpPr>
        <p:spPr>
          <a:xfrm>
            <a:off x="6138720" y="4579920"/>
            <a:ext cx="260856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Белгород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Челябинская</a:t>
            </a:r>
            <a:r>
              <a:rPr b="0" lang="bg-BG" sz="1400" spc="-1" strike="noStrike">
                <a:solidFill>
                  <a:srgbClr val="000000"/>
                </a:solidFill>
                <a:latin typeface="SwiftC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Ставропольский кра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Кур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Курган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Тамбовская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wiftC Regular"/>
              </a:rPr>
              <a:t>Республика Кр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Республика</a:t>
            </a:r>
            <a:r>
              <a:rPr b="0" lang="bg-BG" sz="1400" spc="-1" strike="noStrike">
                <a:solidFill>
                  <a:srgbClr val="000000"/>
                </a:solidFill>
                <a:latin typeface="SwiftC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wiftC Regular"/>
              </a:rPr>
              <a:t>Калмык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Rectangle 39"/>
          <p:cNvSpPr/>
          <p:nvPr/>
        </p:nvSpPr>
        <p:spPr>
          <a:xfrm>
            <a:off x="6138720" y="3919680"/>
            <a:ext cx="2592360" cy="539640"/>
          </a:xfrm>
          <a:prstGeom prst="rect">
            <a:avLst/>
          </a:prstGeom>
          <a:solidFill>
            <a:srgbClr val="009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8" name="Название 4"/>
          <p:cNvSpPr/>
          <p:nvPr/>
        </p:nvSpPr>
        <p:spPr>
          <a:xfrm>
            <a:off x="6183360" y="3871800"/>
            <a:ext cx="2676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SwiftC"/>
              </a:rPr>
              <a:t>РЕГИОН</a:t>
            </a:r>
            <a:r>
              <a:rPr b="1" lang="en-US" sz="1300" spc="-1" strike="noStrike">
                <a:solidFill>
                  <a:srgbClr val="ffffff"/>
                </a:solidFill>
                <a:latin typeface="SwiftC"/>
              </a:rPr>
              <a:t>Ы</a:t>
            </a:r>
            <a:r>
              <a:rPr b="1" lang="bg-BG" sz="1300" spc="-1" strike="noStrike">
                <a:solidFill>
                  <a:srgbClr val="ffffff"/>
                </a:solidFill>
                <a:latin typeface="SwiftC"/>
              </a:rPr>
              <a:t> С НИЗК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SwiftC"/>
              </a:rPr>
              <a:t>ВОДООБЕСПЕЧЕННОСТЬ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9" name="Название 4"/>
          <p:cNvSpPr/>
          <p:nvPr/>
        </p:nvSpPr>
        <p:spPr>
          <a:xfrm>
            <a:off x="622440" y="5834160"/>
            <a:ext cx="5081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В России на территории с 10% ресурсов речного стока</a:t>
            </a:r>
            <a:r>
              <a:rPr b="0" lang="bg-BG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проживает </a:t>
            </a:r>
            <a:r>
              <a:rPr b="1" lang="en-US" sz="1400" spc="-1" strike="noStrike">
                <a:solidFill>
                  <a:srgbClr val="7f7f7f"/>
                </a:solidFill>
                <a:latin typeface="SwiftC Regular"/>
                <a:ea typeface="SwiftC Bold"/>
              </a:rPr>
              <a:t>более 70% насе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588600" y="101916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1 ЛОКАЛЬН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Е ДЕФИЦИТ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ВОДН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Х РЕСУРС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7D0A-7178-4076-BD82-49C06D23A7C4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2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2 НЕДОСТАТОЧНАЯ РАЦИОНАЛЬНОСТЬ ИСПОЛЬЗОВАНИЯ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ОДНЫХ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4" name=""/>
          <p:cNvSpPr txBox="1"/>
          <p:nvPr/>
        </p:nvSpPr>
        <p:spPr>
          <a:xfrm>
            <a:off x="1015920" y="2124000"/>
            <a:ext cx="4091040" cy="40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БЪЁМ ВОДОЗАБОР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 ЕДИНИЦУ ВВП (М3/ТЫС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. РУБ.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Содержимое 9"/>
          <p:cNvSpPr/>
          <p:nvPr/>
        </p:nvSpPr>
        <p:spPr>
          <a:xfrm>
            <a:off x="1082520" y="5268960"/>
            <a:ext cx="962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Росс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Содержимое 9"/>
          <p:cNvSpPr/>
          <p:nvPr/>
        </p:nvSpPr>
        <p:spPr>
          <a:xfrm>
            <a:off x="2522520" y="5268960"/>
            <a:ext cx="96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Канад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7" name="Содержимое 9"/>
          <p:cNvSpPr/>
          <p:nvPr/>
        </p:nvSpPr>
        <p:spPr>
          <a:xfrm>
            <a:off x="4038480" y="5268960"/>
            <a:ext cx="962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СШ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8" name="Содержимое 9"/>
          <p:cNvSpPr/>
          <p:nvPr/>
        </p:nvSpPr>
        <p:spPr>
          <a:xfrm>
            <a:off x="5535720" y="5268960"/>
            <a:ext cx="1301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SwiftC"/>
              </a:rPr>
              <a:t>Франц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Содержимое 9"/>
          <p:cNvSpPr/>
          <p:nvPr/>
        </p:nvSpPr>
        <p:spPr>
          <a:xfrm>
            <a:off x="6975360" y="5268960"/>
            <a:ext cx="13017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wiftC"/>
              </a:rPr>
              <a:t>Германи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Объект 1"/>
          <p:cNvSpPr/>
          <p:nvPr/>
        </p:nvSpPr>
        <p:spPr>
          <a:xfrm>
            <a:off x="1035000" y="4533840"/>
            <a:ext cx="11016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1,9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Объект 1"/>
          <p:cNvSpPr/>
          <p:nvPr/>
        </p:nvSpPr>
        <p:spPr>
          <a:xfrm>
            <a:off x="247500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1,4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Объект 1"/>
          <p:cNvSpPr/>
          <p:nvPr/>
        </p:nvSpPr>
        <p:spPr>
          <a:xfrm>
            <a:off x="400680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1,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3" name="Объект 1"/>
          <p:cNvSpPr/>
          <p:nvPr/>
        </p:nvSpPr>
        <p:spPr>
          <a:xfrm>
            <a:off x="549288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0,7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Объект 1"/>
          <p:cNvSpPr/>
          <p:nvPr/>
        </p:nvSpPr>
        <p:spPr>
          <a:xfrm>
            <a:off x="6948360" y="45338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500" spc="-1" strike="noStrike">
                <a:solidFill>
                  <a:srgbClr val="000000"/>
                </a:solidFill>
                <a:latin typeface="SwiftC"/>
                <a:ea typeface="Arial Unicode MS"/>
              </a:rPr>
              <a:t>0,6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5" name="Picture 23" descr="drops-3.png"/>
          <p:cNvPicPr/>
          <p:nvPr/>
        </p:nvPicPr>
        <p:blipFill>
          <a:blip r:embed="rId1"/>
          <a:stretch/>
        </p:blipFill>
        <p:spPr>
          <a:xfrm>
            <a:off x="1082520" y="3133800"/>
            <a:ext cx="67312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D06-9980-475E-B23D-5361EE8DFD35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7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2 НЕДОСТАТОЧНАЯ РАЦИОНАЛЬНОСТЬ ИСПОЛЬЗОВАНИЯ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ОДНЫХ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Прямоугольник 1"/>
          <p:cNvSpPr/>
          <p:nvPr/>
        </p:nvSpPr>
        <p:spPr>
          <a:xfrm>
            <a:off x="593640" y="1542960"/>
            <a:ext cx="7878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Прямоугольник 17"/>
          <p:cNvSpPr/>
          <p:nvPr/>
        </p:nvSpPr>
        <p:spPr>
          <a:xfrm>
            <a:off x="974880" y="1806480"/>
            <a:ext cx="756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сновные фактор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именение устаревших водоемких производственных технологи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едостаточная степень оснащенности водозаборных сооружений системами приборного уче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ысокий уровень потерь воды при транспортиров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"/>
          <p:cNvSpPr txBox="1"/>
          <p:nvPr/>
        </p:nvSpPr>
        <p:spPr>
          <a:xfrm>
            <a:off x="813960" y="5592600"/>
            <a:ext cx="49467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ТЕРИ ВОДЫ ПРИ ТРАНСПОРТИРОВКЕ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 РФ – 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7,5 КМ</a:t>
            </a:r>
            <a:r>
              <a:rPr b="0" lang="en-US" sz="1800" spc="-1" strike="noStrike" baseline="30000">
                <a:solidFill>
                  <a:srgbClr val="02a7e0"/>
                </a:solidFill>
                <a:latin typeface="SwiftC Regular"/>
                <a:ea typeface="SwiftC Regular"/>
              </a:rPr>
              <a:t>3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 В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2" name="Picture 19" descr="5.png"/>
          <p:cNvPicPr/>
          <p:nvPr/>
        </p:nvPicPr>
        <p:blipFill>
          <a:blip r:embed="rId1"/>
          <a:stretch/>
        </p:blipFill>
        <p:spPr>
          <a:xfrm>
            <a:off x="800280" y="3416400"/>
            <a:ext cx="1244520" cy="1641240"/>
          </a:xfrm>
          <a:prstGeom prst="rect">
            <a:avLst/>
          </a:prstGeom>
          <a:ln w="0">
            <a:noFill/>
          </a:ln>
        </p:spPr>
      </p:pic>
      <p:pic>
        <p:nvPicPr>
          <p:cNvPr id="3513" name="Picture 20" descr="2.png"/>
          <p:cNvPicPr/>
          <p:nvPr/>
        </p:nvPicPr>
        <p:blipFill>
          <a:blip r:embed="rId2"/>
          <a:stretch/>
        </p:blipFill>
        <p:spPr>
          <a:xfrm>
            <a:off x="3314880" y="3454560"/>
            <a:ext cx="1712880" cy="1611000"/>
          </a:xfrm>
          <a:prstGeom prst="rect">
            <a:avLst/>
          </a:prstGeom>
          <a:ln w="0">
            <a:noFill/>
          </a:ln>
        </p:spPr>
      </p:pic>
      <p:pic>
        <p:nvPicPr>
          <p:cNvPr id="3514" name="Picture 22" descr="1.png"/>
          <p:cNvPicPr/>
          <p:nvPr/>
        </p:nvPicPr>
        <p:blipFill>
          <a:blip r:embed="rId3"/>
          <a:stretch/>
        </p:blipFill>
        <p:spPr>
          <a:xfrm>
            <a:off x="6226200" y="3422520"/>
            <a:ext cx="1306440" cy="1697040"/>
          </a:xfrm>
          <a:prstGeom prst="rect">
            <a:avLst/>
          </a:prstGeom>
          <a:ln w="0">
            <a:noFill/>
          </a:ln>
        </p:spPr>
      </p:pic>
      <p:sp>
        <p:nvSpPr>
          <p:cNvPr id="3515" name="Содержимое 9"/>
          <p:cNvSpPr/>
          <p:nvPr/>
        </p:nvSpPr>
        <p:spPr>
          <a:xfrm>
            <a:off x="2021040" y="4467240"/>
            <a:ext cx="1323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ельское хозяй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Объект 1"/>
          <p:cNvSpPr/>
          <p:nvPr/>
        </p:nvSpPr>
        <p:spPr>
          <a:xfrm>
            <a:off x="2071800" y="3851280"/>
            <a:ext cx="1334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Содержимое 9"/>
          <p:cNvSpPr/>
          <p:nvPr/>
        </p:nvSpPr>
        <p:spPr>
          <a:xfrm>
            <a:off x="5203800" y="4481640"/>
            <a:ext cx="9381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ЖК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Содержимое 9"/>
          <p:cNvSpPr/>
          <p:nvPr/>
        </p:nvSpPr>
        <p:spPr>
          <a:xfrm>
            <a:off x="7691400" y="4452840"/>
            <a:ext cx="938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Проч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9" name="Объект 1"/>
          <p:cNvSpPr/>
          <p:nvPr/>
        </p:nvSpPr>
        <p:spPr>
          <a:xfrm>
            <a:off x="4992840" y="3857760"/>
            <a:ext cx="12650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3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Объект 1"/>
          <p:cNvSpPr/>
          <p:nvPr/>
        </p:nvSpPr>
        <p:spPr>
          <a:xfrm>
            <a:off x="7602480" y="3841920"/>
            <a:ext cx="120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1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EF3-802A-4565-8EFD-8A928001E6AB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3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ЫСОКИЙ УРОВЕНЬ НЕГАТИВНОГО AНТРO-</a:t>
            </a:r>
            <a:br>
              <a:rPr sz="1800"/>
            </a:b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ПОГЕННОГО ВОЗДЕЙСТВИЯ НА ВОДНЫЕ ОБЪ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4" name="Picture 15" descr="3.png"/>
          <p:cNvPicPr/>
          <p:nvPr/>
        </p:nvPicPr>
        <p:blipFill>
          <a:blip r:embed="rId1"/>
          <a:stretch/>
        </p:blipFill>
        <p:spPr>
          <a:xfrm>
            <a:off x="4543560" y="4667400"/>
            <a:ext cx="1622160" cy="1558800"/>
          </a:xfrm>
          <a:prstGeom prst="rect">
            <a:avLst/>
          </a:prstGeom>
          <a:ln w="0">
            <a:noFill/>
          </a:ln>
        </p:spPr>
      </p:pic>
      <p:pic>
        <p:nvPicPr>
          <p:cNvPr id="3525" name="Picture 17" descr="2.png"/>
          <p:cNvPicPr/>
          <p:nvPr/>
        </p:nvPicPr>
        <p:blipFill>
          <a:blip r:embed="rId2"/>
          <a:stretch/>
        </p:blipFill>
        <p:spPr>
          <a:xfrm>
            <a:off x="712800" y="4586400"/>
            <a:ext cx="1774800" cy="1670040"/>
          </a:xfrm>
          <a:prstGeom prst="rect">
            <a:avLst/>
          </a:prstGeom>
          <a:ln w="0">
            <a:noFill/>
          </a:ln>
        </p:spPr>
      </p:pic>
      <p:sp>
        <p:nvSpPr>
          <p:cNvPr id="3526" name="Содержимое 9"/>
          <p:cNvSpPr/>
          <p:nvPr/>
        </p:nvSpPr>
        <p:spPr>
          <a:xfrm>
            <a:off x="1015920" y="2124000"/>
            <a:ext cx="49453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Прямоугольник 1"/>
          <p:cNvSpPr/>
          <p:nvPr/>
        </p:nvSpPr>
        <p:spPr>
          <a:xfrm>
            <a:off x="630360" y="1874880"/>
            <a:ext cx="7872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месте со сточными водами в поверхностные водные объекты Российской Федерации ежегодно поступает около 10 - 11 млн. тонн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сновные причи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износ очистных сооруж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именение устаревших технологий очистки сточных во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ием объектами жилищно-коммунального хозяйства загрязненных стоков городских промышленных предпри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Прямоугольник 4"/>
          <p:cNvSpPr/>
          <p:nvPr/>
        </p:nvSpPr>
        <p:spPr>
          <a:xfrm>
            <a:off x="6189840" y="5135400"/>
            <a:ext cx="240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очные воды, сбрасываемые промышленными предприяти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9" name="Содержимое 9"/>
          <p:cNvSpPr/>
          <p:nvPr/>
        </p:nvSpPr>
        <p:spPr>
          <a:xfrm>
            <a:off x="2523960" y="5195880"/>
            <a:ext cx="27781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очные воды, сбрасываемые предприятия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ЖК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0" name="Объект 1"/>
          <p:cNvSpPr/>
          <p:nvPr/>
        </p:nvSpPr>
        <p:spPr>
          <a:xfrm>
            <a:off x="2506680" y="4584600"/>
            <a:ext cx="1211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60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Объект 1"/>
          <p:cNvSpPr/>
          <p:nvPr/>
        </p:nvSpPr>
        <p:spPr>
          <a:xfrm>
            <a:off x="6189840" y="4567320"/>
            <a:ext cx="12110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25</a:t>
            </a:r>
            <a:r>
              <a:rPr b="1" lang="bg-BG" sz="40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F6AB-8231-4D29-898A-DD19C3B857AE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3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Название 4"/>
          <p:cNvSpPr/>
          <p:nvPr/>
        </p:nvSpPr>
        <p:spPr>
          <a:xfrm>
            <a:off x="588960" y="1019160"/>
            <a:ext cx="63453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3 </a:t>
            </a: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ВЫСОКИЙ УРОВЕНЬ НЕГАТИВНОГО AНТРO-</a:t>
            </a:r>
            <a:br>
              <a:rPr sz="1800"/>
            </a:br>
            <a:r>
              <a:rPr b="1" lang="en-US" sz="1800" spc="-1" strike="noStrike">
                <a:solidFill>
                  <a:srgbClr val="05aee8"/>
                </a:solidFill>
                <a:latin typeface="SwiftC"/>
              </a:rPr>
              <a:t>ПОГЕННОГО ВОЗДЕЙСТВИЯ НА ВОДНЫЕ ОБЪ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Содержимое 9"/>
          <p:cNvSpPr/>
          <p:nvPr/>
        </p:nvSpPr>
        <p:spPr>
          <a:xfrm>
            <a:off x="1081080" y="5454720"/>
            <a:ext cx="21319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wiftC Regular"/>
              </a:rPr>
              <a:t>Условно чисты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Содержимое 9"/>
          <p:cNvSpPr/>
          <p:nvPr/>
        </p:nvSpPr>
        <p:spPr>
          <a:xfrm>
            <a:off x="4734000" y="5486400"/>
            <a:ext cx="2208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SwiftC Regular"/>
              </a:rPr>
              <a:t>Требующие очист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Объект 1"/>
          <p:cNvSpPr/>
          <p:nvPr/>
        </p:nvSpPr>
        <p:spPr>
          <a:xfrm>
            <a:off x="1081080" y="4906800"/>
            <a:ext cx="220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32,1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wiftC Regular"/>
                <a:ea typeface="SwiftC Regular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8" name="Объект 1"/>
          <p:cNvSpPr/>
          <p:nvPr/>
        </p:nvSpPr>
        <p:spPr>
          <a:xfrm>
            <a:off x="4734000" y="4917960"/>
            <a:ext cx="22716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20</a:t>
            </a:r>
            <a:r>
              <a:rPr b="1" lang="ru-RU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0 </a:t>
            </a:r>
            <a:r>
              <a:rPr b="1" lang="ru-RU" sz="3200" spc="-1" strike="noStrike">
                <a:solidFill>
                  <a:srgbClr val="000000"/>
                </a:solidFill>
                <a:latin typeface="SwiftC"/>
                <a:ea typeface="Arial Unicode MS"/>
              </a:rPr>
              <a:t>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wiftC Regular"/>
                <a:ea typeface="SwiftC Regular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9" name="Содержимое 9"/>
          <p:cNvSpPr/>
          <p:nvPr/>
        </p:nvSpPr>
        <p:spPr>
          <a:xfrm>
            <a:off x="7383600" y="4275000"/>
            <a:ext cx="1266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wiftC Regular"/>
              </a:rPr>
              <a:t>Загрязненные без  очист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0" name="Объект 1"/>
          <p:cNvSpPr/>
          <p:nvPr/>
        </p:nvSpPr>
        <p:spPr>
          <a:xfrm>
            <a:off x="7361280" y="3917880"/>
            <a:ext cx="1289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f7f7f"/>
                </a:solidFill>
                <a:latin typeface="SwiftC"/>
                <a:ea typeface="Arial Unicode MS"/>
              </a:rPr>
              <a:t>3,7</a:t>
            </a:r>
            <a:r>
              <a:rPr b="1" lang="ru-RU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 км</a:t>
            </a:r>
            <a:r>
              <a:rPr b="1" lang="en-US" sz="2400" spc="-1" strike="noStrike" baseline="30000">
                <a:solidFill>
                  <a:srgbClr val="7b7c7f"/>
                </a:solidFill>
                <a:latin typeface="SwiftC Regular"/>
                <a:ea typeface="SwiftC Regula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Содержимое 9"/>
          <p:cNvSpPr/>
          <p:nvPr/>
        </p:nvSpPr>
        <p:spPr>
          <a:xfrm>
            <a:off x="7383600" y="3403440"/>
            <a:ext cx="1266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wiftC Regular"/>
              </a:rPr>
              <a:t>Недостаточно очищен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Объект 1"/>
          <p:cNvSpPr/>
          <p:nvPr/>
        </p:nvSpPr>
        <p:spPr>
          <a:xfrm>
            <a:off x="7353360" y="3021120"/>
            <a:ext cx="1625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13</a:t>
            </a:r>
            <a:r>
              <a:rPr b="1" lang="ru-RU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,7 км</a:t>
            </a:r>
            <a:r>
              <a:rPr b="1" lang="en-US" sz="2400" spc="-1" strike="noStrike" baseline="30000">
                <a:solidFill>
                  <a:srgbClr val="7b7c7f"/>
                </a:solidFill>
                <a:latin typeface="SwiftC Regular"/>
                <a:ea typeface="SwiftC Regula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Straight Connector 33"/>
          <p:cNvSpPr/>
          <p:nvPr/>
        </p:nvSpPr>
        <p:spPr>
          <a:xfrm flipH="1">
            <a:off x="4173120" y="3137040"/>
            <a:ext cx="1800" cy="23986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4" name="Picture 39" descr="water2-3.png"/>
          <p:cNvPicPr/>
          <p:nvPr/>
        </p:nvPicPr>
        <p:blipFill>
          <a:blip r:embed="rId1"/>
          <a:stretch/>
        </p:blipFill>
        <p:spPr>
          <a:xfrm>
            <a:off x="4797360" y="3137040"/>
            <a:ext cx="2392560" cy="1666800"/>
          </a:xfrm>
          <a:prstGeom prst="rect">
            <a:avLst/>
          </a:prstGeom>
          <a:ln w="0">
            <a:noFill/>
          </a:ln>
        </p:spPr>
      </p:pic>
      <p:pic>
        <p:nvPicPr>
          <p:cNvPr id="3545" name="Picture 40" descr="water1-2.png"/>
          <p:cNvPicPr/>
          <p:nvPr/>
        </p:nvPicPr>
        <p:blipFill>
          <a:blip r:embed="rId2"/>
          <a:stretch/>
        </p:blipFill>
        <p:spPr>
          <a:xfrm>
            <a:off x="1150920" y="3137040"/>
            <a:ext cx="2390760" cy="1666800"/>
          </a:xfrm>
          <a:prstGeom prst="rect">
            <a:avLst/>
          </a:prstGeom>
          <a:ln w="0">
            <a:noFill/>
          </a:ln>
        </p:spPr>
      </p:pic>
      <p:sp>
        <p:nvSpPr>
          <p:cNvPr id="3546" name="Содержимое 9"/>
          <p:cNvSpPr/>
          <p:nvPr/>
        </p:nvSpPr>
        <p:spPr>
          <a:xfrm>
            <a:off x="1015920" y="2124000"/>
            <a:ext cx="49453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Б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Ъ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ЁМ СБРОСА СТОЧН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Ы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ОД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 РФ </a:t>
            </a: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—</a:t>
            </a:r>
            <a:r>
              <a:rPr b="0" lang="bg-BG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bg-BG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52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,</a:t>
            </a:r>
            <a:r>
              <a:rPr b="0" lang="ru-RU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1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 КМ</a:t>
            </a:r>
            <a:r>
              <a:rPr b="1" lang="en-US" sz="1800" spc="-1" strike="noStrike" baseline="30000">
                <a:solidFill>
                  <a:srgbClr val="02a7e0"/>
                </a:solidFill>
                <a:latin typeface="SwiftC Regular"/>
                <a:ea typeface="SwiftC Regular"/>
              </a:rPr>
              <a:t>3</a:t>
            </a:r>
            <a:r>
              <a:rPr b="0" lang="en-US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 </a:t>
            </a:r>
            <a:r>
              <a:rPr b="0" lang="ru-RU" sz="1800" spc="-1" strike="noStrike">
                <a:solidFill>
                  <a:srgbClr val="02a7e0"/>
                </a:solidFill>
                <a:latin typeface="SwiftC Regular"/>
                <a:ea typeface="SwiftC Regular"/>
              </a:rPr>
              <a:t>В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Содержимое 9"/>
          <p:cNvSpPr/>
          <p:nvPr/>
        </p:nvSpPr>
        <p:spPr>
          <a:xfrm>
            <a:off x="7381800" y="5176800"/>
            <a:ext cx="1266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SwiftC Regular"/>
              </a:rPr>
              <a:t>Нормативно очищен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8" name="Объект 1"/>
          <p:cNvSpPr/>
          <p:nvPr/>
        </p:nvSpPr>
        <p:spPr>
          <a:xfrm>
            <a:off x="7361280" y="4789440"/>
            <a:ext cx="13888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1,9 </a:t>
            </a:r>
            <a:r>
              <a:rPr b="1" lang="ru-RU" sz="2400" spc="-1" strike="noStrike">
                <a:solidFill>
                  <a:srgbClr val="7b7c7f"/>
                </a:solidFill>
                <a:latin typeface="SwiftC"/>
                <a:ea typeface="Arial Unicode MS"/>
              </a:rPr>
              <a:t>км</a:t>
            </a:r>
            <a:r>
              <a:rPr b="1" lang="en-US" sz="2400" spc="-1" strike="noStrike" baseline="30000">
                <a:solidFill>
                  <a:srgbClr val="7b7c7f"/>
                </a:solidFill>
                <a:latin typeface="SwiftC Regular"/>
                <a:ea typeface="SwiftC Regula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41E2-3485-4389-B81C-1D81F78ECA88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Название 4"/>
          <p:cNvSpPr/>
          <p:nvPr/>
        </p:nvSpPr>
        <p:spPr>
          <a:xfrm>
            <a:off x="563400" y="345960"/>
            <a:ext cx="61675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588600" y="1019160"/>
            <a:ext cx="808524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4 </a:t>
            </a:r>
            <a:r>
              <a:rPr b="1" lang="en-US" sz="1800" spc="-1" strike="noStrike">
                <a:solidFill>
                  <a:srgbClr val="00b0f0"/>
                </a:solidFill>
                <a:latin typeface="SwiftC Regular"/>
              </a:rPr>
              <a:t>НАВОДНЕНИЯ И ДРУГИЕ </a:t>
            </a:r>
            <a:r>
              <a:rPr b="1" lang="ru-RU" sz="1800" spc="-1" strike="noStrike">
                <a:solidFill>
                  <a:srgbClr val="00b0f0"/>
                </a:solidFill>
                <a:latin typeface="SwiftC Regular"/>
              </a:rPr>
              <a:t>Н</a:t>
            </a:r>
            <a:r>
              <a:rPr b="1" lang="en-US" sz="1800" spc="-1" strike="noStrike">
                <a:solidFill>
                  <a:srgbClr val="00b0f0"/>
                </a:solidFill>
                <a:latin typeface="SwiftC Regular"/>
              </a:rPr>
              <a:t>ЕГАТИВНЫЕ ВОЗДЕЙСТВИЯ В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Содержимое 9"/>
          <p:cNvSpPr/>
          <p:nvPr/>
        </p:nvSpPr>
        <p:spPr>
          <a:xfrm>
            <a:off x="649440" y="2819520"/>
            <a:ext cx="419076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Приморский кр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Хабаровский кр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ахалинская обл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Амурская обл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Забайкаль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редний и Южный Ур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Низовья р. Волг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еверный Кавка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Краснодарский кра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30000"/>
              </a:lnSpc>
              <a:buClr>
                <a:srgbClr val="00aeef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Западная и Восточная Сибирь</a:t>
            </a:r>
            <a:r>
              <a:rPr b="0" lang="en-US" sz="1600" spc="-1" strike="noStrike">
                <a:solidFill>
                  <a:srgbClr val="5f5f5f"/>
                </a:solidFill>
                <a:latin typeface="SwiftC Regular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Прямоугольник 36"/>
          <p:cNvSpPr/>
          <p:nvPr/>
        </p:nvSpPr>
        <p:spPr>
          <a:xfrm>
            <a:off x="4572000" y="2819520"/>
            <a:ext cx="38577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В зоне разрушения находи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450 населенных пун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Значительный ущерб приносит подтопление селитебных территорий и массивов земель сельскохозяйственного освоения и развитие оползневой опасности на застроенных территория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Особого внимания требует решение проблем в низовьях р. Волги и бассейне р. Аму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Oval 4"/>
          <p:cNvSpPr/>
          <p:nvPr/>
        </p:nvSpPr>
        <p:spPr>
          <a:xfrm>
            <a:off x="3174840" y="2038320"/>
            <a:ext cx="60516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5" name="Прямоугольник 38"/>
          <p:cNvSpPr/>
          <p:nvPr/>
        </p:nvSpPr>
        <p:spPr>
          <a:xfrm>
            <a:off x="3335040" y="2057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Oval 4"/>
          <p:cNvSpPr/>
          <p:nvPr/>
        </p:nvSpPr>
        <p:spPr>
          <a:xfrm>
            <a:off x="6951600" y="201600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Прямоугольник 40"/>
          <p:cNvSpPr/>
          <p:nvPr/>
        </p:nvSpPr>
        <p:spPr>
          <a:xfrm>
            <a:off x="7111800" y="2057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Содержимое 9"/>
          <p:cNvSpPr/>
          <p:nvPr/>
        </p:nvSpPr>
        <p:spPr>
          <a:xfrm>
            <a:off x="601560" y="2054160"/>
            <a:ext cx="3030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ПАВОДКООПАСН</a:t>
            </a:r>
            <a:r>
              <a:rPr b="1" lang="ru-RU" sz="15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Е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РЕГИОН</a:t>
            </a:r>
            <a:r>
              <a:rPr b="1" lang="ru-RU" sz="1500" spc="-1" strike="noStrike">
                <a:solidFill>
                  <a:srgbClr val="05aee8"/>
                </a:solidFill>
                <a:latin typeface="SwiftC"/>
              </a:rPr>
              <a:t>Ы</a:t>
            </a:r>
            <a:r>
              <a:rPr b="1" lang="en-US" sz="1500" spc="-1" strike="noStrike">
                <a:solidFill>
                  <a:srgbClr val="05aee8"/>
                </a:solidFill>
                <a:latin typeface="Swift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Содержимое 9"/>
          <p:cNvSpPr/>
          <p:nvPr/>
        </p:nvSpPr>
        <p:spPr>
          <a:xfrm>
            <a:off x="4572000" y="2054160"/>
            <a:ext cx="25509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АБРАЗИЯ БЕРЕГ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5aee8"/>
                </a:solidFill>
                <a:latin typeface="SwiftC"/>
              </a:rPr>
              <a:t>ВОДОХРАНИЛИ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Рисунок 2" descr=""/>
          <p:cNvPicPr/>
          <p:nvPr/>
        </p:nvPicPr>
        <p:blipFill>
          <a:blip r:embed="rId1"/>
          <a:stretch/>
        </p:blipFill>
        <p:spPr>
          <a:xfrm>
            <a:off x="54000" y="1774800"/>
            <a:ext cx="5276880" cy="3267000"/>
          </a:xfrm>
          <a:prstGeom prst="rect">
            <a:avLst/>
          </a:prstGeom>
          <a:ln w="0">
            <a:noFill/>
          </a:ln>
        </p:spPr>
      </p:pic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ПРИОРИТЕТН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Е МЕРОПРИЯТИЯ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НА 2012-2014 гг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Содержимое 9"/>
          <p:cNvSpPr/>
          <p:nvPr/>
        </p:nvSpPr>
        <p:spPr>
          <a:xfrm>
            <a:off x="5608800" y="2030400"/>
            <a:ext cx="3213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Системное переустройство водохозяйственного комплекс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в низовьях реки Вол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Содержимое 9"/>
          <p:cNvSpPr/>
          <p:nvPr/>
        </p:nvSpPr>
        <p:spPr>
          <a:xfrm>
            <a:off x="5608800" y="2928960"/>
            <a:ext cx="3089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Обеспечение экологически устойчивого использования водных ресурсов бассейна реки Аму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Объект 1"/>
          <p:cNvSpPr/>
          <p:nvPr/>
        </p:nvSpPr>
        <p:spPr>
          <a:xfrm>
            <a:off x="5122800" y="28018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Объект 1"/>
          <p:cNvSpPr/>
          <p:nvPr/>
        </p:nvSpPr>
        <p:spPr>
          <a:xfrm>
            <a:off x="5122800" y="18939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Содержимое 9"/>
          <p:cNvSpPr/>
          <p:nvPr/>
        </p:nvSpPr>
        <p:spPr>
          <a:xfrm>
            <a:off x="5608800" y="3981600"/>
            <a:ext cx="3089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Стабилизация русловых процессов пограничных участков рек (Амур, Аргунь, Уссури, Гранитная, Урал</a:t>
            </a:r>
            <a:r>
              <a:rPr b="0" lang="bg-BG" sz="1400" spc="-1" strike="noStrike">
                <a:solidFill>
                  <a:srgbClr val="000000"/>
                </a:solidFill>
                <a:latin typeface="Swift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7" name="Объект 1"/>
          <p:cNvSpPr/>
          <p:nvPr/>
        </p:nvSpPr>
        <p:spPr>
          <a:xfrm>
            <a:off x="5122800" y="387360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Содержимое 9"/>
          <p:cNvSpPr/>
          <p:nvPr/>
        </p:nvSpPr>
        <p:spPr>
          <a:xfrm>
            <a:off x="5608800" y="5054760"/>
            <a:ext cx="3089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wiftC"/>
              </a:rPr>
              <a:t>Выполнение водохозяйственных мероприятий в рамках региональных программ на территории всей стр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Объект 1"/>
          <p:cNvSpPr/>
          <p:nvPr/>
        </p:nvSpPr>
        <p:spPr>
          <a:xfrm>
            <a:off x="5122800" y="4925880"/>
            <a:ext cx="11019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2a7e0"/>
                </a:solidFill>
                <a:latin typeface="SwiftC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0" name="Содержимое 9"/>
          <p:cNvSpPr/>
          <p:nvPr/>
        </p:nvSpPr>
        <p:spPr>
          <a:xfrm>
            <a:off x="863640" y="4449600"/>
            <a:ext cx="81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олг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Содержимое 9"/>
          <p:cNvSpPr/>
          <p:nvPr/>
        </p:nvSpPr>
        <p:spPr>
          <a:xfrm>
            <a:off x="1527120" y="4113360"/>
            <a:ext cx="811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Ура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Содержимое 9"/>
          <p:cNvSpPr/>
          <p:nvPr/>
        </p:nvSpPr>
        <p:spPr>
          <a:xfrm>
            <a:off x="4521240" y="3768840"/>
            <a:ext cx="809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Уссу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Содержимое 9"/>
          <p:cNvSpPr/>
          <p:nvPr/>
        </p:nvSpPr>
        <p:spPr>
          <a:xfrm>
            <a:off x="3344760" y="4184640"/>
            <a:ext cx="811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Аргун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4" name="Содержимое 9"/>
          <p:cNvSpPr/>
          <p:nvPr/>
        </p:nvSpPr>
        <p:spPr>
          <a:xfrm>
            <a:off x="3927600" y="3784680"/>
            <a:ext cx="81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Аму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16FC-CCC5-4DAC-B816-668CF9E7751B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"/>
          <p:cNvSpPr txBox="1"/>
          <p:nvPr/>
        </p:nvSpPr>
        <p:spPr>
          <a:xfrm>
            <a:off x="1918800" y="1555560"/>
            <a:ext cx="6575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едоставление бюджетам субъектов РФ субсидий на софинансирование соответствующих расходных обязательств по реализации мероприятий региональных целевых программ, аналогичных ФЦП по целям и зад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Название 4"/>
          <p:cNvSpPr/>
          <p:nvPr/>
        </p:nvSpPr>
        <p:spPr>
          <a:xfrm>
            <a:off x="628560" y="1147680"/>
            <a:ext cx="8085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6F19-7770-41CB-8732-0F6CFF40A46F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9" name="Название 4"/>
          <p:cNvSpPr/>
          <p:nvPr/>
        </p:nvSpPr>
        <p:spPr>
          <a:xfrm>
            <a:off x="563400" y="473040"/>
            <a:ext cx="616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Название 4"/>
          <p:cNvSpPr/>
          <p:nvPr/>
        </p:nvSpPr>
        <p:spPr>
          <a:xfrm>
            <a:off x="561960" y="681120"/>
            <a:ext cx="8085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5aee8"/>
                </a:solidFill>
                <a:latin typeface="SwiftC"/>
              </a:rPr>
              <a:t>РЕГИОН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Oval 4"/>
          <p:cNvSpPr/>
          <p:nvPr/>
        </p:nvSpPr>
        <p:spPr>
          <a:xfrm>
            <a:off x="1033560" y="188136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Прямоугольник 11"/>
          <p:cNvSpPr/>
          <p:nvPr/>
        </p:nvSpPr>
        <p:spPr>
          <a:xfrm>
            <a:off x="1195200" y="1922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Прямоугольник 12"/>
          <p:cNvSpPr/>
          <p:nvPr/>
        </p:nvSpPr>
        <p:spPr>
          <a:xfrm>
            <a:off x="1036800" y="3138480"/>
            <a:ext cx="75690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троительство новых водохранилищ и реконструкция гидроузлов действующих водохранили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троительство и реконструкция магистральных каналов и трактов водопо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восстановление и экологическая реабилитация водных объектов, утративших способность к самоочищению, предотвращение истощения водных объектов, ликвидация их засорения и загряз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строительство, реконструкция объектов инженерной защиты и берегоукрепительных соору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капитальный ремонт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14"/>
          <p:cNvSpPr/>
          <p:nvPr/>
        </p:nvSpPr>
        <p:spPr>
          <a:xfrm>
            <a:off x="0" y="2241720"/>
            <a:ext cx="7918560" cy="3511440"/>
          </a:xfrm>
          <a:prstGeom prst="rect">
            <a:avLst/>
          </a:prstGeom>
          <a:solidFill>
            <a:srgbClr val="009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Содержимое 9"/>
          <p:cNvSpPr/>
          <p:nvPr/>
        </p:nvSpPr>
        <p:spPr>
          <a:xfrm>
            <a:off x="-1023840" y="3454560"/>
            <a:ext cx="22590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Содержимое 9"/>
          <p:cNvSpPr/>
          <p:nvPr/>
        </p:nvSpPr>
        <p:spPr>
          <a:xfrm>
            <a:off x="-1282680" y="4232160"/>
            <a:ext cx="173052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Содержимое 9"/>
          <p:cNvSpPr/>
          <p:nvPr/>
        </p:nvSpPr>
        <p:spPr>
          <a:xfrm>
            <a:off x="-1266840" y="5157720"/>
            <a:ext cx="16653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Содержимое 9"/>
          <p:cNvSpPr/>
          <p:nvPr/>
        </p:nvSpPr>
        <p:spPr>
          <a:xfrm>
            <a:off x="9540720" y="3976560"/>
            <a:ext cx="15685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C704-19E7-47DE-8E3D-A50CBD337432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601560" y="1108080"/>
            <a:ext cx="62438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wiftC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Название 4"/>
          <p:cNvSpPr/>
          <p:nvPr/>
        </p:nvSpPr>
        <p:spPr>
          <a:xfrm>
            <a:off x="662040" y="969840"/>
            <a:ext cx="80852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Содержимое 9"/>
          <p:cNvSpPr/>
          <p:nvPr/>
        </p:nvSpPr>
        <p:spPr>
          <a:xfrm>
            <a:off x="-861840" y="4294080"/>
            <a:ext cx="26143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Содержимое 9"/>
          <p:cNvSpPr/>
          <p:nvPr/>
        </p:nvSpPr>
        <p:spPr>
          <a:xfrm>
            <a:off x="1379520" y="2784600"/>
            <a:ext cx="3013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Субсидирование предприя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Содержимое 9"/>
          <p:cNvSpPr/>
          <p:nvPr/>
        </p:nvSpPr>
        <p:spPr>
          <a:xfrm>
            <a:off x="4944960" y="2784600"/>
            <a:ext cx="2306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Просвещение и информирование населения по вопросам использования и охраны водных объект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Содержимое 9"/>
          <p:cNvSpPr/>
          <p:nvPr/>
        </p:nvSpPr>
        <p:spPr>
          <a:xfrm>
            <a:off x="1379520" y="3981600"/>
            <a:ext cx="2220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Научно-исследовательские и опытно - конструкторские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6" name="Объект 1"/>
          <p:cNvSpPr/>
          <p:nvPr/>
        </p:nvSpPr>
        <p:spPr>
          <a:xfrm>
            <a:off x="631800" y="3898800"/>
            <a:ext cx="11001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Объект 1"/>
          <p:cNvSpPr/>
          <p:nvPr/>
        </p:nvSpPr>
        <p:spPr>
          <a:xfrm>
            <a:off x="631800" y="270972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1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Объект 1"/>
          <p:cNvSpPr/>
          <p:nvPr/>
        </p:nvSpPr>
        <p:spPr>
          <a:xfrm>
            <a:off x="4154400" y="270972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9" name=""/>
          <p:cNvGraphicFramePr/>
          <p:nvPr/>
        </p:nvGraphicFramePr>
        <p:xfrm>
          <a:off x="1036800" y="3138480"/>
          <a:ext cx="7451640" cy="3017880"/>
        </p:xfrm>
        <a:graphic>
          <a:graphicData uri="http://schemas.openxmlformats.org/drawingml/2006/table">
            <a:tbl>
              <a:tblPr/>
              <a:tblGrid>
                <a:gridCol w="5286240"/>
                <a:gridCol w="2165400"/>
              </a:tblGrid>
              <a:tr h="3070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целевого показателя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2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финансирования из федерального бюджета (субсидирование процентной ставки),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9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бюджетные источники финансирования,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 4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оектов по строительству (реконструкции) комплексов очистных сооружений и систем оборотного и повторно-последовательного водоснабжения, реализованных с помощью механизма субсидирования процентных ставок по креди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33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доли загрязненных сточных вод в общем объеме сброса в поверхностные водные объекты сточных вод, подлежащих очис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в 2 раз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8,6% (в 2010 г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1,0% (в 2020 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4320">
                      <a:solidFill>
                        <a:srgbClr val="7f7f7f"/>
                      </a:solidFill>
                    </a:lnL>
                    <a:lnR w="4320">
                      <a:solidFill>
                        <a:srgbClr val="7f7f7f"/>
                      </a:solidFill>
                    </a:lnR>
                    <a:lnT w="4320">
                      <a:solidFill>
                        <a:srgbClr val="7f7f7f"/>
                      </a:solidFill>
                    </a:lnT>
                    <a:lnB w="432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600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159-C8A5-4DC9-B9A5-5D4376256F1C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Название 4"/>
          <p:cNvSpPr/>
          <p:nvPr/>
        </p:nvSpPr>
        <p:spPr>
          <a:xfrm>
            <a:off x="563400" y="720720"/>
            <a:ext cx="616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Название 4"/>
          <p:cNvSpPr/>
          <p:nvPr/>
        </p:nvSpPr>
        <p:spPr>
          <a:xfrm>
            <a:off x="561960" y="851040"/>
            <a:ext cx="8085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1 </a:t>
            </a:r>
            <a:r>
              <a:rPr b="1" lang="ru-RU" sz="1800" spc="-1" strike="noStrike">
                <a:solidFill>
                  <a:srgbClr val="05aee8"/>
                </a:solidFill>
                <a:latin typeface="SwiftC"/>
              </a:rPr>
              <a:t>СУБСИДИРОВАНИЕ ПРЕДПРИЯТ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Oval 4"/>
          <p:cNvSpPr/>
          <p:nvPr/>
        </p:nvSpPr>
        <p:spPr>
          <a:xfrm>
            <a:off x="1033560" y="188136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Прямоугольник 11"/>
          <p:cNvSpPr/>
          <p:nvPr/>
        </p:nvSpPr>
        <p:spPr>
          <a:xfrm>
            <a:off x="1195200" y="1922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Объект 2"/>
          <p:cNvSpPr/>
          <p:nvPr/>
        </p:nvSpPr>
        <p:spPr>
          <a:xfrm>
            <a:off x="1919160" y="1555920"/>
            <a:ext cx="657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Механизм субсидирования процентных ставок по кредитам, привлекаемым организациями для реализации инвестиционных проектов по строительству и реконструкции очистных сооружений и внедрению систем оборотного и повторно-последовательного водоснаб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CA64-44D9-46DC-A18F-3E9E1EB9F5BF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Объект 1"/>
          <p:cNvSpPr/>
          <p:nvPr/>
        </p:nvSpPr>
        <p:spPr>
          <a:xfrm>
            <a:off x="1882800" y="249552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Объект 1"/>
          <p:cNvSpPr/>
          <p:nvPr/>
        </p:nvSpPr>
        <p:spPr>
          <a:xfrm>
            <a:off x="1920960" y="382896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3" name="Содержимое 3"/>
          <p:cNvSpPr/>
          <p:nvPr/>
        </p:nvSpPr>
        <p:spPr>
          <a:xfrm>
            <a:off x="1893960" y="4356000"/>
            <a:ext cx="7008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</a:rPr>
              <a:t>О ПРОГРАМ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Прямоугольник 18"/>
          <p:cNvSpPr/>
          <p:nvPr/>
        </p:nvSpPr>
        <p:spPr>
          <a:xfrm>
            <a:off x="974880" y="1854360"/>
            <a:ext cx="7569000" cy="78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Утверждена постановлением Правительства Р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оссийской 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Ф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едерации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от 19.04.2012г. №35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роки реализации: 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2012-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Государственные заказч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Министерство природных ресурсов и экологии Российской Федерации Министерство сельского хозяйства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ое агентство в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ая служба по гидрометеорологии и мониторингу окружающей ср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ое агентство по рыболовств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3f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Комплексный инструмент модернизации водохозяйственной инфраструктуры с учетом потребностей населения и отраслей эконом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Разработана 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для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реализаци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Плана мероприятий Водной стратегии Российской Федерации на период до 2020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67C-9B83-49B0-ACF1-7960372EAFED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Название 4"/>
          <p:cNvSpPr/>
          <p:nvPr/>
        </p:nvSpPr>
        <p:spPr>
          <a:xfrm>
            <a:off x="563400" y="736560"/>
            <a:ext cx="6167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8" name="Название 4"/>
          <p:cNvSpPr/>
          <p:nvPr/>
        </p:nvSpPr>
        <p:spPr>
          <a:xfrm>
            <a:off x="561960" y="993600"/>
            <a:ext cx="80852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400" spc="-1" strike="noStrike">
                <a:solidFill>
                  <a:srgbClr val="05aee8"/>
                </a:solidFill>
                <a:latin typeface="SwiftC"/>
              </a:rPr>
              <a:t>02 </a:t>
            </a:r>
            <a:r>
              <a:rPr b="1" lang="ru-RU" sz="1400" spc="-1" strike="noStrike">
                <a:solidFill>
                  <a:srgbClr val="05aee8"/>
                </a:solidFill>
                <a:latin typeface="SwiftC"/>
              </a:rPr>
              <a:t>ПРОСВЕЩЕНИЕ И ИНФОРМИРОВАНИЕ НАСЕЛЕНИЯ ПО ВОПРОСАМ ИСПОЛЬЗОВАНИЯ И ОХРАНЫ ВОДНЫХ ОБЪЕКТ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Oval 4"/>
          <p:cNvSpPr/>
          <p:nvPr/>
        </p:nvSpPr>
        <p:spPr>
          <a:xfrm>
            <a:off x="1033560" y="195912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Прямоугольник 11"/>
          <p:cNvSpPr/>
          <p:nvPr/>
        </p:nvSpPr>
        <p:spPr>
          <a:xfrm>
            <a:off x="1195200" y="200016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Объект 2"/>
          <p:cNvSpPr/>
          <p:nvPr/>
        </p:nvSpPr>
        <p:spPr>
          <a:xfrm>
            <a:off x="1919160" y="1633680"/>
            <a:ext cx="657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росвещение и информирование населения по вопросам развития водохозяйственного комплекса, формирование в обществе установок, направленных на сохранение и восстановление водных объектов, бережное отношение к водным ресурс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2" name="Прямоугольник 13"/>
          <p:cNvSpPr/>
          <p:nvPr/>
        </p:nvSpPr>
        <p:spPr>
          <a:xfrm>
            <a:off x="1036800" y="2854440"/>
            <a:ext cx="75690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еализация коммуникационных проектов, направленных на изменение отношения населения к водным ресурсам России и повышение информированности о важности рационального водопользования и охраны водных объ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ормирование инструментария единой коммуникационной среды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 федеральном и региональном уровнях, направленной на просвещение и информирование населения по вопросам развития водохозяйственного комплек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еализация и информационная поддержка комплекса выставочно-презентационных, информационных, просветительских и иных мероприятий на федеральном и региональном уровн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3101-1564-47A5-BC41-093AD5EE8741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Название 4"/>
          <p:cNvSpPr/>
          <p:nvPr/>
        </p:nvSpPr>
        <p:spPr>
          <a:xfrm>
            <a:off x="563400" y="750960"/>
            <a:ext cx="616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ОСНОВНЫЕ МЕРОПРИЯТИЯ РЕАЛИЗУЕМЫЕ МИНПРИРОДЫ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5" name="Название 4"/>
          <p:cNvSpPr/>
          <p:nvPr/>
        </p:nvSpPr>
        <p:spPr>
          <a:xfrm>
            <a:off x="561960" y="835200"/>
            <a:ext cx="8085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5aee8"/>
                </a:solidFill>
                <a:latin typeface="SwiftC"/>
              </a:rPr>
              <a:t>03 </a:t>
            </a:r>
            <a:r>
              <a:rPr b="1" lang="ru-RU" sz="1800" spc="-1" strike="noStrike">
                <a:solidFill>
                  <a:srgbClr val="05aee8"/>
                </a:solidFill>
                <a:latin typeface="SwiftC"/>
              </a:rPr>
              <a:t>НАУЧНО-ИССЛЕДОВАТЕЛЬСКИЕ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Oval 4"/>
          <p:cNvSpPr/>
          <p:nvPr/>
        </p:nvSpPr>
        <p:spPr>
          <a:xfrm>
            <a:off x="1033560" y="1881360"/>
            <a:ext cx="604800" cy="604800"/>
          </a:xfrm>
          <a:prstGeom prst="ellipse">
            <a:avLst/>
          </a:prstGeom>
          <a:noFill/>
          <a:ln w="25560">
            <a:solidFill>
              <a:srgbClr val="02a7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7" name="Прямоугольник 12"/>
          <p:cNvSpPr/>
          <p:nvPr/>
        </p:nvSpPr>
        <p:spPr>
          <a:xfrm>
            <a:off x="1195200" y="1922400"/>
            <a:ext cx="2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a7e0"/>
                </a:solidFill>
                <a:latin typeface="SwiftC"/>
                <a:ea typeface="Arial Unicode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Объект 2"/>
          <p:cNvSpPr/>
          <p:nvPr/>
        </p:nvSpPr>
        <p:spPr>
          <a:xfrm>
            <a:off x="1919160" y="1438200"/>
            <a:ext cx="6575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ернизация и развитие водохозяйственного комплекса Российской Федерации осуществляются на базе широкого спектра научно-исследовательских и опытно-конструкторских работ, результатом которых являются новые современные знания, методы, модели и технологии, обеспечивающие эффективное комплексное управление водохозяйственной отрасл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Прямоугольник 14"/>
          <p:cNvSpPr/>
          <p:nvPr/>
        </p:nvSpPr>
        <p:spPr>
          <a:xfrm>
            <a:off x="1036800" y="3255840"/>
            <a:ext cx="76183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, направленные на изучение проблем использования и охраны водных объектов Российской Федер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в области правового обеспечения и государственного управления, экономики водопользования, международных отноше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интегрированного управления использованием и охраной водных объект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проблем качества вод и разработки нормативов допустимого воздействия на водные объекты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 в области предотвращения негативного воздействия во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аучные исследования, направленные на решение региональных водохозяйственных пробле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КОНТАКТ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ИНФОРМ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6EC-7603-493D-A340-95DE8C45E97B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Прямоугольник 6"/>
          <p:cNvSpPr/>
          <p:nvPr/>
        </p:nvSpPr>
        <p:spPr>
          <a:xfrm>
            <a:off x="660240" y="2160720"/>
            <a:ext cx="802980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 вопросам предоставления субсидий водопользователям: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780-61-89, доб. 249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 вопросам информационной поддержки мероприятий: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780-61-89, доб. </a:t>
            </a:r>
            <a:r>
              <a:rPr b="0" lang="en-US" sz="1600" spc="-1" strike="noStrike">
                <a:solidFill>
                  <a:srgbClr val="05aee8"/>
                </a:solidFill>
                <a:latin typeface="SwiftC"/>
              </a:rPr>
              <a:t>249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ый информационный портал о воде: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 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VODA.ORG</a:t>
            </a:r>
            <a:r>
              <a:rPr b="0" lang="ru-RU" sz="1600" spc="-1" strike="noStrike" u="sng">
                <a:solidFill>
                  <a:srgbClr val="05aee8"/>
                </a:solidFill>
                <a:uFillTx/>
                <a:latin typeface="SwiftC"/>
              </a:rPr>
              <a:t>.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RU</a:t>
            </a:r>
            <a:r>
              <a:rPr b="0" lang="ru-RU" sz="1600" spc="-1" strike="noStrike" u="sng">
                <a:solidFill>
                  <a:srgbClr val="05aee8"/>
                </a:solidFill>
                <a:uFillTx/>
                <a:latin typeface="Swift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Федеральный пресс-центр программы:</a:t>
            </a:r>
            <a:r>
              <a:rPr b="0" lang="en-US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624-03-01, доб. 1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Дискуссионный клуб при Минприроды России по вопросам водохозяйственной тематики: 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www.wateresourseclub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4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тать членом клуба, предложить тему дискуссии, принять участие в дискуссии: </a:t>
            </a:r>
            <a:r>
              <a:rPr b="0" lang="ru-RU" sz="1600" spc="-1" strike="noStrike">
                <a:solidFill>
                  <a:srgbClr val="05aee8"/>
                </a:solidFill>
                <a:latin typeface="SwiftC"/>
              </a:rPr>
              <a:t>8-495-780-61-89, доб. 24923,</a:t>
            </a:r>
            <a:r>
              <a:rPr b="0" lang="en-US" sz="1600" spc="-1" strike="noStrike">
                <a:solidFill>
                  <a:srgbClr val="05aee8"/>
                </a:solidFill>
                <a:latin typeface="SwiftC"/>
              </a:rPr>
              <a:t> </a:t>
            </a:r>
            <a:r>
              <a:rPr b="0" lang="en-US" sz="1600" spc="-1" strike="noStrike" u="sng">
                <a:solidFill>
                  <a:srgbClr val="05aee8"/>
                </a:solidFill>
                <a:uFillTx/>
                <a:latin typeface="SwiftC"/>
              </a:rPr>
              <a:t>dk@vhkrf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3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Прямоугольник 5"/>
          <p:cNvSpPr/>
          <p:nvPr/>
        </p:nvSpPr>
        <p:spPr>
          <a:xfrm>
            <a:off x="0" y="1476360"/>
            <a:ext cx="9144000" cy="402588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Рисунок 8" descr=""/>
          <p:cNvPicPr/>
          <p:nvPr/>
        </p:nvPicPr>
        <p:blipFill>
          <a:blip r:embed="rId1"/>
          <a:stretch/>
        </p:blipFill>
        <p:spPr>
          <a:xfrm>
            <a:off x="7921800" y="276120"/>
            <a:ext cx="941040" cy="476280"/>
          </a:xfrm>
          <a:prstGeom prst="rect">
            <a:avLst/>
          </a:prstGeom>
          <a:ln w="0">
            <a:noFill/>
          </a:ln>
        </p:spPr>
      </p:pic>
      <p:sp>
        <p:nvSpPr>
          <p:cNvPr id="3625" name="Прямая соединительная линия 6"/>
          <p:cNvSpPr/>
          <p:nvPr/>
        </p:nvSpPr>
        <p:spPr>
          <a:xfrm flipH="1">
            <a:off x="4565520" y="1789200"/>
            <a:ext cx="6480" cy="32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6" name="Название 1"/>
          <p:cNvSpPr/>
          <p:nvPr/>
        </p:nvSpPr>
        <p:spPr>
          <a:xfrm>
            <a:off x="4500720" y="1413000"/>
            <a:ext cx="4643280" cy="40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wift ExtraBoldC"/>
                <a:ea typeface="SwiftC Regular"/>
              </a:rPr>
              <a:t>БЛАГОДАРЮ ЗА ВНИМАНИЕ</a:t>
            </a:r>
            <a:r>
              <a:rPr b="0" lang="ru-RU" sz="2400" spc="-1" strike="noStrike">
                <a:solidFill>
                  <a:srgbClr val="ffffff"/>
                </a:solidFill>
                <a:latin typeface="Swift ExtraBoldC"/>
                <a:ea typeface="SwiftC Regular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Swift ExtraBoldC"/>
                <a:ea typeface="SwiftC Regular"/>
              </a:rPr>
              <a:t>ЖДЕМ ВАШИХ ПРЕДЛОЖЕНИЙ И ИНИЦИАТИВ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седатель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ПбРО Российской экологической академии, Председатель Центрального совета МОО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иродоохранный союз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, д.б.н., проф.  Тарбаева В.М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rirodasouz@yandex.ru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prirodasouz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voda.org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7" name="Рисунок 9" descr=""/>
          <p:cNvPicPr/>
          <p:nvPr/>
        </p:nvPicPr>
        <p:blipFill>
          <a:blip r:embed="rId5"/>
          <a:srcRect l="34559" t="0" r="0" b="0"/>
          <a:stretch/>
        </p:blipFill>
        <p:spPr>
          <a:xfrm>
            <a:off x="0" y="1476360"/>
            <a:ext cx="2146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"/>
          <p:cNvSpPr txBox="1"/>
          <p:nvPr/>
        </p:nvSpPr>
        <p:spPr>
          <a:xfrm>
            <a:off x="2371320" y="1937880"/>
            <a:ext cx="57596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5aee8"/>
                </a:solidFill>
                <a:latin typeface="SwiftC"/>
              </a:rPr>
              <a:t>	</a:t>
            </a:r>
            <a:r>
              <a:rPr b="1" lang="en-US" sz="1400" spc="-1" strike="noStrike">
                <a:solidFill>
                  <a:srgbClr val="05aee8"/>
                </a:solidFill>
                <a:latin typeface="SwiftC"/>
              </a:rPr>
              <a:t>  </a:t>
            </a:r>
            <a:r>
              <a:rPr b="1" lang="ru-RU" sz="1400" spc="-1" strike="noStrike">
                <a:solidFill>
                  <a:srgbClr val="05aee8"/>
                </a:solidFill>
                <a:latin typeface="Swift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Гарантированное обеспечение водными ресурсами устойчивого социально-экономического развит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Сохранение и восстановление водных объектов до состояния, обеспечивающего экологически благоприятные условия жизни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wiftC"/>
                <a:ea typeface="Arial Unicode MS"/>
              </a:rPr>
              <a:t>Обеспечение защищенности населения и объектов экономики от наводнений и иного негативного воздействия в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Название 2"/>
          <p:cNvSpPr/>
          <p:nvPr/>
        </p:nvSpPr>
        <p:spPr>
          <a:xfrm>
            <a:off x="754200" y="1260360"/>
            <a:ext cx="8084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TextBox 4"/>
          <p:cNvSpPr/>
          <p:nvPr/>
        </p:nvSpPr>
        <p:spPr>
          <a:xfrm>
            <a:off x="2146320" y="3073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Объект 1"/>
          <p:cNvSpPr/>
          <p:nvPr/>
        </p:nvSpPr>
        <p:spPr>
          <a:xfrm>
            <a:off x="2030400" y="230976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0" name="Объект 1"/>
          <p:cNvSpPr/>
          <p:nvPr/>
        </p:nvSpPr>
        <p:spPr>
          <a:xfrm>
            <a:off x="2063880" y="343836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Объект 1"/>
          <p:cNvSpPr/>
          <p:nvPr/>
        </p:nvSpPr>
        <p:spPr>
          <a:xfrm>
            <a:off x="2063880" y="4567320"/>
            <a:ext cx="6318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3A3C-26CF-49E0-A80D-BF04D9FE1ACA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</a:rPr>
              <a:t>ЦЕЛИ ПРОГРАММ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Содержимое 9"/>
          <p:cNvSpPr/>
          <p:nvPr/>
        </p:nvSpPr>
        <p:spPr>
          <a:xfrm>
            <a:off x="2178000" y="2373480"/>
            <a:ext cx="2259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Ликвидация локальных дефицитов водны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 вододефицитных регионах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5" name="Содержимое 9"/>
          <p:cNvSpPr/>
          <p:nvPr/>
        </p:nvSpPr>
        <p:spPr>
          <a:xfrm>
            <a:off x="5499000" y="2411280"/>
            <a:ext cx="349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Восстановление и экологическая реабилитация вод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Содержимое 9"/>
          <p:cNvSpPr/>
          <p:nvPr/>
        </p:nvSpPr>
        <p:spPr>
          <a:xfrm>
            <a:off x="2178000" y="3384720"/>
            <a:ext cx="2259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вышение</a:t>
            </a:r>
            <a:r>
              <a:rPr b="0" lang="en-US" sz="14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ациональности использования в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Содержимое 9"/>
          <p:cNvSpPr/>
          <p:nvPr/>
        </p:nvSpPr>
        <p:spPr>
          <a:xfrm>
            <a:off x="5499000" y="3170160"/>
            <a:ext cx="3340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овышение</a:t>
            </a:r>
            <a:r>
              <a:rPr b="0" lang="bg-BG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эксплуатационной надежности гидротехнических сооружений (в том числе бесхозяйных)</a:t>
            </a:r>
            <a:r>
              <a:rPr b="0" lang="bg-BG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путем их приведения к безопасному техническому состоя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Объект 1"/>
          <p:cNvSpPr/>
          <p:nvPr/>
        </p:nvSpPr>
        <p:spPr>
          <a:xfrm>
            <a:off x="1336680" y="3249720"/>
            <a:ext cx="825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Объект 1"/>
          <p:cNvSpPr/>
          <p:nvPr/>
        </p:nvSpPr>
        <p:spPr>
          <a:xfrm>
            <a:off x="1336680" y="2279520"/>
            <a:ext cx="631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Объект 1"/>
          <p:cNvSpPr/>
          <p:nvPr/>
        </p:nvSpPr>
        <p:spPr>
          <a:xfrm>
            <a:off x="4737240" y="3225960"/>
            <a:ext cx="787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Объект 1"/>
          <p:cNvSpPr/>
          <p:nvPr/>
        </p:nvSpPr>
        <p:spPr>
          <a:xfrm>
            <a:off x="4775040" y="2235240"/>
            <a:ext cx="82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Straight Connector 12"/>
          <p:cNvSpPr/>
          <p:nvPr/>
        </p:nvSpPr>
        <p:spPr>
          <a:xfrm>
            <a:off x="4582440" y="2379600"/>
            <a:ext cx="4680" cy="3382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Содержимое 9"/>
          <p:cNvSpPr/>
          <p:nvPr/>
        </p:nvSpPr>
        <p:spPr>
          <a:xfrm>
            <a:off x="2178000" y="4243320"/>
            <a:ext cx="23274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окращение</a:t>
            </a:r>
            <a:r>
              <a:rPr b="0" lang="bg-BG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негативного антропогенного воздействия на водные о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Объект 1"/>
          <p:cNvSpPr/>
          <p:nvPr/>
        </p:nvSpPr>
        <p:spPr>
          <a:xfrm>
            <a:off x="1336680" y="4078440"/>
            <a:ext cx="825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5" name="Содержимое 9"/>
          <p:cNvSpPr/>
          <p:nvPr/>
        </p:nvSpPr>
        <p:spPr>
          <a:xfrm>
            <a:off x="5486400" y="4259160"/>
            <a:ext cx="3200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беспечение защищенности населения и объектов экономики от негативного воздействия вод сооружениями инженерной защ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6" name="Объект 1"/>
          <p:cNvSpPr/>
          <p:nvPr/>
        </p:nvSpPr>
        <p:spPr>
          <a:xfrm>
            <a:off x="4749840" y="4089240"/>
            <a:ext cx="826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Содержимое 9"/>
          <p:cNvSpPr/>
          <p:nvPr/>
        </p:nvSpPr>
        <p:spPr>
          <a:xfrm>
            <a:off x="2178000" y="5148360"/>
            <a:ext cx="24098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Развитие и модерн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системы государственного мониторинга вод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Объект 1"/>
          <p:cNvSpPr/>
          <p:nvPr/>
        </p:nvSpPr>
        <p:spPr>
          <a:xfrm>
            <a:off x="1336680" y="5011560"/>
            <a:ext cx="825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5400" spc="-1" strike="noStrike">
                <a:solidFill>
                  <a:srgbClr val="02a7e0"/>
                </a:solidFill>
                <a:latin typeface="SwiftC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Название 2"/>
          <p:cNvSpPr/>
          <p:nvPr/>
        </p:nvSpPr>
        <p:spPr>
          <a:xfrm>
            <a:off x="754200" y="1260360"/>
            <a:ext cx="8084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wiftC"/>
              </a:rPr>
              <a:t>ЗАДАЧИ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B9CF-EF48-47A2-8373-91956CEC9EF5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B3D9-56BC-4D96-A420-099A14C85662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ФИНАНС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Объект 1"/>
          <p:cNvSpPr/>
          <p:nvPr/>
        </p:nvSpPr>
        <p:spPr>
          <a:xfrm>
            <a:off x="641520" y="422100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5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Straight Connector 12"/>
          <p:cNvSpPr/>
          <p:nvPr/>
        </p:nvSpPr>
        <p:spPr>
          <a:xfrm>
            <a:off x="4430160" y="1581120"/>
            <a:ext cx="6120" cy="45118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5" name="Picture 28" descr="info_drop1.png"/>
          <p:cNvPicPr/>
          <p:nvPr/>
        </p:nvPicPr>
        <p:blipFill>
          <a:blip r:embed="rId1"/>
          <a:stretch/>
        </p:blipFill>
        <p:spPr>
          <a:xfrm>
            <a:off x="1949400" y="2513160"/>
            <a:ext cx="2014560" cy="2835000"/>
          </a:xfrm>
          <a:prstGeom prst="rect">
            <a:avLst/>
          </a:prstGeom>
          <a:ln w="0">
            <a:noFill/>
          </a:ln>
        </p:spPr>
      </p:pic>
      <p:sp>
        <p:nvSpPr>
          <p:cNvPr id="3376" name="Содержимое 9"/>
          <p:cNvSpPr/>
          <p:nvPr/>
        </p:nvSpPr>
        <p:spPr>
          <a:xfrm>
            <a:off x="649440" y="4667400"/>
            <a:ext cx="1511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Федеральный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Объект 1"/>
          <p:cNvSpPr/>
          <p:nvPr/>
        </p:nvSpPr>
        <p:spPr>
          <a:xfrm>
            <a:off x="641520" y="335772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12a9d9"/>
                </a:solidFill>
                <a:latin typeface="SwiftC"/>
                <a:ea typeface="Arial Unicode MS"/>
              </a:rPr>
              <a:t>2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Содержимое 9"/>
          <p:cNvSpPr/>
          <p:nvPr/>
        </p:nvSpPr>
        <p:spPr>
          <a:xfrm>
            <a:off x="649440" y="3803760"/>
            <a:ext cx="1511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Внебюджетные источ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Объект 1"/>
          <p:cNvSpPr/>
          <p:nvPr/>
        </p:nvSpPr>
        <p:spPr>
          <a:xfrm>
            <a:off x="641520" y="231948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294d9b"/>
                </a:solidFill>
                <a:latin typeface="SwiftC"/>
                <a:ea typeface="Arial Unicode MS"/>
              </a:rPr>
              <a:t>21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0" name="Содержимое 9"/>
          <p:cNvSpPr/>
          <p:nvPr/>
        </p:nvSpPr>
        <p:spPr>
          <a:xfrm>
            <a:off x="649440" y="2738520"/>
            <a:ext cx="15112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Бюджеты субъектов РФ и местные бюджет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Объект 1"/>
          <p:cNvSpPr/>
          <p:nvPr/>
        </p:nvSpPr>
        <p:spPr>
          <a:xfrm>
            <a:off x="4692600" y="4389480"/>
            <a:ext cx="1548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5</a:t>
            </a:r>
            <a:r>
              <a:rPr b="1" lang="en-US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1</a:t>
            </a:r>
            <a:r>
              <a:rPr b="1" lang="bg-BG" sz="3000" spc="-1" strike="noStrike">
                <a:solidFill>
                  <a:srgbClr val="74d1f2"/>
                </a:solidFill>
                <a:latin typeface="SwiftC"/>
                <a:ea typeface="Arial Unicode MS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Содержимое 9"/>
          <p:cNvSpPr/>
          <p:nvPr/>
        </p:nvSpPr>
        <p:spPr>
          <a:xfrm>
            <a:off x="4699080" y="4836960"/>
            <a:ext cx="1512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роительство сооружений инженерной защит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Объект 1"/>
          <p:cNvSpPr/>
          <p:nvPr/>
        </p:nvSpPr>
        <p:spPr>
          <a:xfrm>
            <a:off x="4692600" y="3357720"/>
            <a:ext cx="1548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12a9d9"/>
                </a:solidFill>
                <a:latin typeface="SwiftC"/>
                <a:ea typeface="Arial Unicode MS"/>
              </a:rPr>
              <a:t>19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4" name="Содержимое 9"/>
          <p:cNvSpPr/>
          <p:nvPr/>
        </p:nvSpPr>
        <p:spPr>
          <a:xfrm>
            <a:off x="4699080" y="3789360"/>
            <a:ext cx="151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Строительство водохранилищ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и кана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Объект 1"/>
          <p:cNvSpPr/>
          <p:nvPr/>
        </p:nvSpPr>
        <p:spPr>
          <a:xfrm>
            <a:off x="4692600" y="2347920"/>
            <a:ext cx="1548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294d9b"/>
                </a:solidFill>
                <a:latin typeface="SwiftC"/>
                <a:ea typeface="Arial Unicode MS"/>
              </a:rPr>
              <a:t>1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Содержимое 9"/>
          <p:cNvSpPr/>
          <p:nvPr/>
        </p:nvSpPr>
        <p:spPr>
          <a:xfrm>
            <a:off x="4699080" y="2766960"/>
            <a:ext cx="1512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Восстановление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и</a:t>
            </a:r>
            <a:r>
              <a:rPr b="0" lang="bg-BG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охрана водных</a:t>
            </a:r>
            <a:r>
              <a:rPr b="0" lang="bg-BG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 </a:t>
            </a: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объект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Содержимое 9"/>
          <p:cNvSpPr/>
          <p:nvPr/>
        </p:nvSpPr>
        <p:spPr>
          <a:xfrm>
            <a:off x="4699080" y="1779480"/>
            <a:ext cx="151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Развитие государственной наблюдательной се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8" name="Содержимое 9"/>
          <p:cNvSpPr/>
          <p:nvPr/>
        </p:nvSpPr>
        <p:spPr>
          <a:xfrm>
            <a:off x="6248520" y="1779480"/>
            <a:ext cx="1511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НИОКР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SwiftC Regular"/>
                <a:ea typeface="SwiftC Regular"/>
              </a:rPr>
              <a:t>и проч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9" name="Picture 22" descr="info_drop2.png"/>
          <p:cNvPicPr/>
          <p:nvPr/>
        </p:nvPicPr>
        <p:blipFill>
          <a:blip r:embed="rId2"/>
          <a:stretch/>
        </p:blipFill>
        <p:spPr>
          <a:xfrm>
            <a:off x="6099120" y="2513160"/>
            <a:ext cx="2014560" cy="2835000"/>
          </a:xfrm>
          <a:prstGeom prst="rect">
            <a:avLst/>
          </a:prstGeom>
          <a:ln w="0">
            <a:noFill/>
          </a:ln>
        </p:spPr>
      </p:pic>
      <p:sp>
        <p:nvSpPr>
          <p:cNvPr id="3390" name="Содержимое 9"/>
          <p:cNvSpPr/>
          <p:nvPr/>
        </p:nvSpPr>
        <p:spPr>
          <a:xfrm>
            <a:off x="636480" y="5522760"/>
            <a:ext cx="49453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ОБЪЕМ</a:t>
            </a:r>
            <a:r>
              <a:rPr b="1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 ФИНАНСИРОВА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SwiftC Regular"/>
                <a:ea typeface="Arial Unicode MS"/>
              </a:rPr>
              <a:t>РОГРАММЫ </a:t>
            </a:r>
            <a:r>
              <a:rPr b="1" lang="bg-BG" sz="10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— </a:t>
            </a:r>
            <a:r>
              <a:rPr b="1" lang="ru-RU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435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</a:t>
            </a:r>
            <a:r>
              <a:rPr b="1" lang="bg-BG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М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ЛРД</a:t>
            </a:r>
            <a:r>
              <a:rPr b="1" lang="ru-RU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1" name="Содержимое 9"/>
          <p:cNvSpPr/>
          <p:nvPr/>
        </p:nvSpPr>
        <p:spPr>
          <a:xfrm>
            <a:off x="4692600" y="5522760"/>
            <a:ext cx="44229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SwiftC"/>
                <a:ea typeface="Arial Unicode MS"/>
              </a:rPr>
              <a:t>НАПРАВЛЕНИЯ ИСПОЛЬ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SwiftC"/>
                <a:ea typeface="Arial Unicode MS"/>
              </a:rPr>
              <a:t>ФЕДЕРАЛЬНОГО БЮДЖЕТА —</a:t>
            </a:r>
            <a:r>
              <a:rPr b="1" lang="bg-BG" sz="14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 </a:t>
            </a:r>
            <a:r>
              <a:rPr b="1" lang="bg-BG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241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</a:t>
            </a:r>
            <a:r>
              <a:rPr b="1" lang="bg-BG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М</a:t>
            </a:r>
            <a:r>
              <a:rPr b="1" lang="en-US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ЛРД</a:t>
            </a:r>
            <a:r>
              <a:rPr b="1" lang="ru-RU" sz="1400" spc="-1" strike="noStrike">
                <a:solidFill>
                  <a:srgbClr val="05aee8"/>
                </a:solidFill>
                <a:latin typeface="SwiftC Regular"/>
                <a:ea typeface="SwiftC Regular"/>
              </a:rPr>
              <a:t> РУБ</a:t>
            </a:r>
            <a:r>
              <a:rPr b="1" lang="ru-RU" sz="1400" spc="-1" strike="noStrike">
                <a:solidFill>
                  <a:srgbClr val="05aee8"/>
                </a:solidFill>
                <a:latin typeface="Times New Roman"/>
              </a:rPr>
              <a:t>.</a:t>
            </a:r>
            <a:r>
              <a:rPr b="1" lang="en-US" sz="1400" spc="-1" strike="noStrike">
                <a:solidFill>
                  <a:srgbClr val="05aee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Объект 1"/>
          <p:cNvSpPr/>
          <p:nvPr/>
        </p:nvSpPr>
        <p:spPr>
          <a:xfrm>
            <a:off x="4692600" y="1362240"/>
            <a:ext cx="1548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b7c7f"/>
                </a:solidFill>
                <a:latin typeface="SwiftC"/>
                <a:ea typeface="Arial Unicode MS"/>
              </a:rPr>
              <a:t>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Объект 1"/>
          <p:cNvSpPr/>
          <p:nvPr/>
        </p:nvSpPr>
        <p:spPr>
          <a:xfrm>
            <a:off x="6240600" y="1362240"/>
            <a:ext cx="15476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7a9ac"/>
                </a:solidFill>
                <a:latin typeface="SwiftC"/>
                <a:ea typeface="Arial Unicode MS"/>
              </a:rPr>
              <a:t>4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wiftC Regular"/>
                <a:ea typeface="SwiftC Regular"/>
              </a:rPr>
              <a:t>ОЖИДАЕМЫЕ КОНЕЧНЫЕ РЕЗУЛЬТАТЫ РЕАЛИЗАЦИИ ПРОГРАММЫ И ПОКАЗАТЕЛИ ЕЕ СОЦИАЛЬНО-ЭКОНОМИЧЕСКОЙ ЭФФЕКТИВНОСТ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 txBox="1"/>
          <p:nvPr/>
        </p:nvSpPr>
        <p:spPr>
          <a:xfrm>
            <a:off x="601200" y="2233080"/>
            <a:ext cx="80852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арантированное обеспечение водными ресурсами текущих и перспективных потребностей населения и объектов экономики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условий для обеспечения благоприятных экологических условий для жизни населения, развития сферы услуг в области водного туризма и рекре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ение природоохранной инвестиционной активности в промышленности и жилищно-коммунальном хозяйств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щение водоемкости производства и снижение непроизводительных потерь водных ресурсов, повышение энергоэффективности российской экономики (экономия затрат на электроэнергию, потребляемую для доставки водных ресурсов до конечного потребителя, — до 15 - 20 млрд. рублей в год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защищенности населения и объектов экономики от наводнений и другого негативного воздействия вод (вероятный предотвращенный ущерб от негативного воздействия вод — 960 млрд. рублей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9be6"/>
              </a:buClr>
              <a:buFont typeface="Lucida Grande"/>
              <a:buChar char="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Номер слайда 3"/>
          <p:cNvSpPr/>
          <p:nvPr/>
        </p:nvSpPr>
        <p:spPr>
          <a:xfrm>
            <a:off x="5961240" y="6373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CBD0-FAAA-4FCA-9C07-21BD040E9814}" type="slidenum">
              <a:rPr b="1" lang="ru-RU" sz="1400" spc="-1" strike="noStrike">
                <a:solidFill>
                  <a:srgbClr val="009be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9C0-11BE-477F-869E-EAFE60B74C3B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Rectangle 31"/>
          <p:cNvSpPr/>
          <p:nvPr/>
        </p:nvSpPr>
        <p:spPr>
          <a:xfrm>
            <a:off x="0" y="2241720"/>
            <a:ext cx="9144000" cy="39290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ЦЕЛЕВ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Е ПОКАЗАТЕЛ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И ИНДИКАТОР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Содержимое 9"/>
          <p:cNvSpPr/>
          <p:nvPr/>
        </p:nvSpPr>
        <p:spPr>
          <a:xfrm>
            <a:off x="871560" y="2411280"/>
            <a:ext cx="45892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Численность населения, проживающего в районах возникновения локальных вододефицитов, надежность обеспечения водными ресурсами которого повыше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Содержимое 9"/>
          <p:cNvSpPr/>
          <p:nvPr/>
        </p:nvSpPr>
        <p:spPr>
          <a:xfrm>
            <a:off x="871560" y="3078000"/>
            <a:ext cx="49100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загрязненных сточных вод в общем объеме сброса в поверхностные водные объекты сточных вод, подлежащих очистк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Содержимое 9"/>
          <p:cNvSpPr/>
          <p:nvPr/>
        </p:nvSpPr>
        <p:spPr>
          <a:xfrm>
            <a:off x="871560" y="3570120"/>
            <a:ext cx="49100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населения, проживающего на подверженных негативному воздействию вод территориях, защищенного в результате проведения мероприятий по повышению защищенности от негативного воздействия вод, в общем количестве населения, проживающего на таких территория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3" name="Содержимое 9"/>
          <p:cNvSpPr/>
          <p:nvPr/>
        </p:nvSpPr>
        <p:spPr>
          <a:xfrm>
            <a:off x="871560" y="456408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гидротехнических сооружений с неудовлетворительны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и опасным уровнем безопасности, приведенных в безопасное техническое состоя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Содержимое 9"/>
          <p:cNvSpPr/>
          <p:nvPr/>
        </p:nvSpPr>
        <p:spPr>
          <a:xfrm>
            <a:off x="871560" y="5210280"/>
            <a:ext cx="52038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оля модернизированных и новых гидрологических постов и лабораторий, входящих в состав государственной наблюдательной сети Федеральной службы по гидрометеорологии и мониторингу окружающей среды, в общей потребности в гидрологических постах и лаборатория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Объект 1"/>
          <p:cNvSpPr/>
          <p:nvPr/>
        </p:nvSpPr>
        <p:spPr>
          <a:xfrm>
            <a:off x="597996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201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6" name="Объект 1"/>
          <p:cNvSpPr/>
          <p:nvPr/>
        </p:nvSpPr>
        <p:spPr>
          <a:xfrm>
            <a:off x="700092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7" name="Объект 1"/>
          <p:cNvSpPr/>
          <p:nvPr/>
        </p:nvSpPr>
        <p:spPr>
          <a:xfrm>
            <a:off x="790884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к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Oval 4"/>
          <p:cNvSpPr/>
          <p:nvPr/>
        </p:nvSpPr>
        <p:spPr>
          <a:xfrm>
            <a:off x="685800" y="25034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Oval 4"/>
          <p:cNvSpPr/>
          <p:nvPr/>
        </p:nvSpPr>
        <p:spPr>
          <a:xfrm>
            <a:off x="685800" y="3164040"/>
            <a:ext cx="135000" cy="134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0" name="Oval 4"/>
          <p:cNvSpPr/>
          <p:nvPr/>
        </p:nvSpPr>
        <p:spPr>
          <a:xfrm>
            <a:off x="685800" y="3639960"/>
            <a:ext cx="135000" cy="136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Oval 4"/>
          <p:cNvSpPr/>
          <p:nvPr/>
        </p:nvSpPr>
        <p:spPr>
          <a:xfrm>
            <a:off x="685800" y="4646520"/>
            <a:ext cx="13500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2" name="Oval 4"/>
          <p:cNvSpPr/>
          <p:nvPr/>
        </p:nvSpPr>
        <p:spPr>
          <a:xfrm>
            <a:off x="685800" y="5275440"/>
            <a:ext cx="135000" cy="134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Объект 1"/>
          <p:cNvSpPr/>
          <p:nvPr/>
        </p:nvSpPr>
        <p:spPr>
          <a:xfrm>
            <a:off x="5979960" y="2362320"/>
            <a:ext cx="1100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0,3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млн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Объект 1"/>
          <p:cNvSpPr/>
          <p:nvPr/>
        </p:nvSpPr>
        <p:spPr>
          <a:xfrm>
            <a:off x="7015320" y="2362320"/>
            <a:ext cx="1100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5" name="Объект 1"/>
          <p:cNvSpPr/>
          <p:nvPr/>
        </p:nvSpPr>
        <p:spPr>
          <a:xfrm>
            <a:off x="7935840" y="2362320"/>
            <a:ext cx="11019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5,2 </a:t>
            </a: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млн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6" name="Объект 1"/>
          <p:cNvSpPr/>
          <p:nvPr/>
        </p:nvSpPr>
        <p:spPr>
          <a:xfrm>
            <a:off x="5979960" y="307656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,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7" name="Объект 1"/>
          <p:cNvSpPr/>
          <p:nvPr/>
        </p:nvSpPr>
        <p:spPr>
          <a:xfrm>
            <a:off x="7935840" y="30765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6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Объект 1"/>
          <p:cNvSpPr/>
          <p:nvPr/>
        </p:nvSpPr>
        <p:spPr>
          <a:xfrm>
            <a:off x="5979960" y="376236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68,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Объект 1"/>
          <p:cNvSpPr/>
          <p:nvPr/>
        </p:nvSpPr>
        <p:spPr>
          <a:xfrm>
            <a:off x="7935840" y="37623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4,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Объект 1"/>
          <p:cNvSpPr/>
          <p:nvPr/>
        </p:nvSpPr>
        <p:spPr>
          <a:xfrm>
            <a:off x="5979960" y="457200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7,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Объект 1"/>
          <p:cNvSpPr/>
          <p:nvPr/>
        </p:nvSpPr>
        <p:spPr>
          <a:xfrm>
            <a:off x="7935840" y="457200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89,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Объект 1"/>
          <p:cNvSpPr/>
          <p:nvPr/>
        </p:nvSpPr>
        <p:spPr>
          <a:xfrm>
            <a:off x="6075360" y="5367240"/>
            <a:ext cx="11016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Объект 1"/>
          <p:cNvSpPr/>
          <p:nvPr/>
        </p:nvSpPr>
        <p:spPr>
          <a:xfrm>
            <a:off x="7935840" y="5367240"/>
            <a:ext cx="11019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78,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BB25-578F-45CE-8A3A-6A3D45E8873B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5" name="Rectangle 31"/>
          <p:cNvSpPr/>
          <p:nvPr/>
        </p:nvSpPr>
        <p:spPr>
          <a:xfrm>
            <a:off x="0" y="2241720"/>
            <a:ext cx="9144000" cy="39290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60120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ЦЕЛЕВ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Е ПОКАЗАТЕЛ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И ИНДИКАТОР</a:t>
            </a:r>
            <a:r>
              <a:rPr b="1" lang="en-US" sz="2400" spc="-1" strike="noStrike">
                <a:solidFill>
                  <a:srgbClr val="000000"/>
                </a:solidFill>
                <a:latin typeface="SwiftC"/>
                <a:ea typeface="Arial Unicode MS"/>
              </a:rPr>
              <a:t>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Содержимое 9"/>
          <p:cNvSpPr/>
          <p:nvPr/>
        </p:nvSpPr>
        <p:spPr>
          <a:xfrm>
            <a:off x="871560" y="2411280"/>
            <a:ext cx="52038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вновь созданных водохранилищ и реконструированных гидроузлов на действующих водохранилищах комплексного назначения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а также магистральных каналов и трактов водоподач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для повышения их водоотдач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Содержимое 9"/>
          <p:cNvSpPr/>
          <p:nvPr/>
        </p:nvSpPr>
        <p:spPr>
          <a:xfrm>
            <a:off x="871560" y="304956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Восстановление</a:t>
            </a:r>
            <a:r>
              <a:rPr b="0" lang="bg-BG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и экологическая реабилитация водных объек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9" name="Содержимое 9"/>
          <p:cNvSpPr/>
          <p:nvPr/>
        </p:nvSpPr>
        <p:spPr>
          <a:xfrm>
            <a:off x="871560" y="351324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Протяженность новых и реконструированных сооружений инженерной защиты и берегоукрепления (км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Содержимое 9"/>
          <p:cNvSpPr/>
          <p:nvPr/>
        </p:nvSpPr>
        <p:spPr>
          <a:xfrm>
            <a:off x="871560" y="398628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гидротехнических сооружений с неудовлетворительны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и опасным уровнем безопасности, приведенных в безопасное техническое состоя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Содержимое 9"/>
          <p:cNvSpPr/>
          <p:nvPr/>
        </p:nvSpPr>
        <p:spPr>
          <a:xfrm>
            <a:off x="871560" y="5224320"/>
            <a:ext cx="52038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проектов по строительству (реконструкции) комплексов очистных сооружений и систем оборотного и повторно-последовательного водоснабжения, реализованных с помощью механизма субсидирования процентных ставок по кредита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2" name="Объект 1"/>
          <p:cNvSpPr/>
          <p:nvPr/>
        </p:nvSpPr>
        <p:spPr>
          <a:xfrm>
            <a:off x="594360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2012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Объект 1"/>
          <p:cNvSpPr/>
          <p:nvPr/>
        </p:nvSpPr>
        <p:spPr>
          <a:xfrm>
            <a:off x="7908840" y="17524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7f7f7f"/>
                </a:solidFill>
                <a:latin typeface="SwiftC"/>
                <a:ea typeface="Arial Unicode MS"/>
              </a:rPr>
              <a:t>к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Oval 4"/>
          <p:cNvSpPr/>
          <p:nvPr/>
        </p:nvSpPr>
        <p:spPr>
          <a:xfrm>
            <a:off x="685800" y="250344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Oval 4"/>
          <p:cNvSpPr/>
          <p:nvPr/>
        </p:nvSpPr>
        <p:spPr>
          <a:xfrm>
            <a:off x="685800" y="327672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Oval 4"/>
          <p:cNvSpPr/>
          <p:nvPr/>
        </p:nvSpPr>
        <p:spPr>
          <a:xfrm>
            <a:off x="685800" y="3598920"/>
            <a:ext cx="13500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7" name="Oval 4"/>
          <p:cNvSpPr/>
          <p:nvPr/>
        </p:nvSpPr>
        <p:spPr>
          <a:xfrm>
            <a:off x="685800" y="406728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Oval 4"/>
          <p:cNvSpPr/>
          <p:nvPr/>
        </p:nvSpPr>
        <p:spPr>
          <a:xfrm>
            <a:off x="685800" y="5289480"/>
            <a:ext cx="135000" cy="1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Объект 1"/>
          <p:cNvSpPr/>
          <p:nvPr/>
        </p:nvSpPr>
        <p:spPr>
          <a:xfrm>
            <a:off x="5979960" y="256068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Объект 1"/>
          <p:cNvSpPr/>
          <p:nvPr/>
        </p:nvSpPr>
        <p:spPr>
          <a:xfrm>
            <a:off x="7935840" y="25606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Объект 1"/>
          <p:cNvSpPr/>
          <p:nvPr/>
        </p:nvSpPr>
        <p:spPr>
          <a:xfrm>
            <a:off x="5979960" y="3103560"/>
            <a:ext cx="1100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06 </a:t>
            </a:r>
            <a:r>
              <a:rPr b="1" lang="bg-BG" sz="4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Объект 1"/>
          <p:cNvSpPr/>
          <p:nvPr/>
        </p:nvSpPr>
        <p:spPr>
          <a:xfrm>
            <a:off x="7935840" y="31179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3440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Содержимое 9"/>
          <p:cNvSpPr/>
          <p:nvPr/>
        </p:nvSpPr>
        <p:spPr>
          <a:xfrm>
            <a:off x="871560" y="4586400"/>
            <a:ext cx="49100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Количество модернизированных и вновь открытых гидрологических постов и лабораторий, входящих</a:t>
            </a:r>
            <a:r>
              <a:rPr b="0" lang="bg-BG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в</a:t>
            </a:r>
            <a:r>
              <a:rPr b="0" lang="bg-BG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SwiftC Regular"/>
              </a:rPr>
              <a:t>состав государственной наблюдательной се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4" name="Oval 4"/>
          <p:cNvSpPr/>
          <p:nvPr/>
        </p:nvSpPr>
        <p:spPr>
          <a:xfrm>
            <a:off x="685800" y="4667400"/>
            <a:ext cx="135000" cy="136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Объект 1"/>
          <p:cNvSpPr/>
          <p:nvPr/>
        </p:nvSpPr>
        <p:spPr>
          <a:xfrm>
            <a:off x="5989680" y="3497400"/>
            <a:ext cx="11016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90</a:t>
            </a:r>
            <a:r>
              <a:rPr b="1" lang="bg-BG" sz="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Объект 1"/>
          <p:cNvSpPr/>
          <p:nvPr/>
        </p:nvSpPr>
        <p:spPr>
          <a:xfrm>
            <a:off x="7908840" y="3521160"/>
            <a:ext cx="14605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451,6</a:t>
            </a:r>
            <a:r>
              <a:rPr b="1" lang="bg-BG" sz="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Arial"/>
                <a:ea typeface="Arial Unicode MS"/>
              </a:rPr>
              <a:t>к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7" name="Объект 1"/>
          <p:cNvSpPr/>
          <p:nvPr/>
        </p:nvSpPr>
        <p:spPr>
          <a:xfrm>
            <a:off x="5979960" y="403704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Объект 1"/>
          <p:cNvSpPr/>
          <p:nvPr/>
        </p:nvSpPr>
        <p:spPr>
          <a:xfrm>
            <a:off x="7935840" y="406872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20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Объект 1"/>
          <p:cNvSpPr/>
          <p:nvPr/>
        </p:nvSpPr>
        <p:spPr>
          <a:xfrm>
            <a:off x="5979960" y="463716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2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Объект 1"/>
          <p:cNvSpPr/>
          <p:nvPr/>
        </p:nvSpPr>
        <p:spPr>
          <a:xfrm>
            <a:off x="7935840" y="463716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30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Объект 1"/>
          <p:cNvSpPr/>
          <p:nvPr/>
        </p:nvSpPr>
        <p:spPr>
          <a:xfrm>
            <a:off x="6048360" y="533880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Объект 1"/>
          <p:cNvSpPr/>
          <p:nvPr/>
        </p:nvSpPr>
        <p:spPr>
          <a:xfrm>
            <a:off x="7935840" y="53308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1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01560" y="1108080"/>
            <a:ext cx="62438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wiftC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Объект 1"/>
          <p:cNvSpPr/>
          <p:nvPr/>
        </p:nvSpPr>
        <p:spPr>
          <a:xfrm>
            <a:off x="1616040" y="2709720"/>
            <a:ext cx="827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wiftC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Объект 1"/>
          <p:cNvSpPr/>
          <p:nvPr/>
        </p:nvSpPr>
        <p:spPr>
          <a:xfrm>
            <a:off x="4259160" y="2709720"/>
            <a:ext cx="825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wiftC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6" name="Номер слайда 6"/>
          <p:cNvSpPr/>
          <p:nvPr/>
        </p:nvSpPr>
        <p:spPr>
          <a:xfrm>
            <a:off x="5961240" y="6454800"/>
            <a:ext cx="63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461-C589-4F7C-BDA7-E532521ABC61}" type="slidenum">
              <a:rPr b="1" lang="ru-RU" sz="1400" spc="-1" strike="noStrike">
                <a:solidFill>
                  <a:srgbClr val="009be6"/>
                </a:solidFill>
                <a:latin typeface="Swift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Rectangle 14"/>
          <p:cNvSpPr/>
          <p:nvPr/>
        </p:nvSpPr>
        <p:spPr>
          <a:xfrm>
            <a:off x="0" y="2241720"/>
            <a:ext cx="7918560" cy="3511440"/>
          </a:xfrm>
          <a:prstGeom prst="rect">
            <a:avLst/>
          </a:prstGeom>
          <a:solidFill>
            <a:srgbClr val="009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8" name="Содержимое 9"/>
          <p:cNvSpPr/>
          <p:nvPr/>
        </p:nvSpPr>
        <p:spPr>
          <a:xfrm>
            <a:off x="1379520" y="2784600"/>
            <a:ext cx="3013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Локальные дефицит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в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Содержимое 9"/>
          <p:cNvSpPr/>
          <p:nvPr/>
        </p:nvSpPr>
        <p:spPr>
          <a:xfrm>
            <a:off x="4944960" y="2784600"/>
            <a:ext cx="2306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Недостаточн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рациональ</a:t>
            </a:r>
            <a:r>
              <a:rPr b="0" lang="bg-BG" sz="1600" spc="-1" strike="noStrike">
                <a:solidFill>
                  <a:srgbClr val="ffffff"/>
                </a:solidFill>
                <a:latin typeface="SwiftC Regular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ость </a:t>
            </a:r>
            <a:r>
              <a:rPr b="0" lang="bg-BG" sz="1600" spc="-1" strike="noStrike">
                <a:solidFill>
                  <a:srgbClr val="ffffff"/>
                </a:solidFill>
                <a:latin typeface="SwiftC Regular"/>
              </a:rPr>
              <a:t>и</a:t>
            </a: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спользования в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Содержимое 9"/>
          <p:cNvSpPr/>
          <p:nvPr/>
        </p:nvSpPr>
        <p:spPr>
          <a:xfrm>
            <a:off x="1379520" y="3981600"/>
            <a:ext cx="2220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Высокий уровень негативного aнтрo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погенного воздействия на водные объ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Содержимое 9"/>
          <p:cNvSpPr/>
          <p:nvPr/>
        </p:nvSpPr>
        <p:spPr>
          <a:xfrm>
            <a:off x="4944960" y="4030560"/>
            <a:ext cx="20923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Наводнения и другие </a:t>
            </a:r>
            <a:r>
              <a:rPr b="0" lang="ru-RU" sz="1600" spc="-1" strike="noStrike">
                <a:solidFill>
                  <a:srgbClr val="ffffff"/>
                </a:solidFill>
                <a:latin typeface="SwiftC Regular"/>
              </a:rPr>
              <a:t>н</a:t>
            </a:r>
            <a:r>
              <a:rPr b="0" lang="en-US" sz="1600" spc="-1" strike="noStrike">
                <a:solidFill>
                  <a:srgbClr val="ffffff"/>
                </a:solidFill>
                <a:latin typeface="SwiftC Regular"/>
              </a:rPr>
              <a:t>егативные воздействия 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2" name="Объект 1"/>
          <p:cNvSpPr/>
          <p:nvPr/>
        </p:nvSpPr>
        <p:spPr>
          <a:xfrm>
            <a:off x="631800" y="3898800"/>
            <a:ext cx="11001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Объект 1"/>
          <p:cNvSpPr/>
          <p:nvPr/>
        </p:nvSpPr>
        <p:spPr>
          <a:xfrm>
            <a:off x="631800" y="2709720"/>
            <a:ext cx="1100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1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Объект 1"/>
          <p:cNvSpPr/>
          <p:nvPr/>
        </p:nvSpPr>
        <p:spPr>
          <a:xfrm>
            <a:off x="4154400" y="395928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Объект 1"/>
          <p:cNvSpPr/>
          <p:nvPr/>
        </p:nvSpPr>
        <p:spPr>
          <a:xfrm>
            <a:off x="4154400" y="2709720"/>
            <a:ext cx="1101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53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0</a:t>
            </a:r>
            <a:r>
              <a:rPr b="1" lang="bg-BG" sz="4500" spc="-1" strike="noStrike">
                <a:solidFill>
                  <a:srgbClr val="ffffff"/>
                </a:solidFill>
                <a:latin typeface="SwiftC"/>
                <a:ea typeface="Arial Unicode MS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Название 4"/>
          <p:cNvSpPr/>
          <p:nvPr/>
        </p:nvSpPr>
        <p:spPr>
          <a:xfrm>
            <a:off x="601560" y="1108080"/>
            <a:ext cx="8085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wiftC"/>
              </a:rPr>
              <a:t>ОСНОВНЫЕ ПРОБЛЕМЫ</a:t>
            </a:r>
            <a:r>
              <a:rPr b="1" lang="ru-RU" sz="1800" spc="-1" strike="noStrike">
                <a:solidFill>
                  <a:srgbClr val="000000"/>
                </a:solidFill>
                <a:latin typeface="SwiftC"/>
              </a:rPr>
              <a:t> ВОДОХОЗЯЙСТВЕННОГО КОМПЛЕК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8:36:29Z</dcterms:created>
  <dc:creator>Кира Галенко</dc:creator>
  <dc:description/>
  <dc:language>en-US</dc:language>
  <cp:lastModifiedBy>Альфа</cp:lastModifiedBy>
  <cp:lastPrinted>2014-09-10T08:41:25Z</cp:lastPrinted>
  <dcterms:modified xsi:type="dcterms:W3CDTF">2016-12-04T18:40:25Z</dcterms:modified>
  <cp:revision>62</cp:revision>
  <dc:subject/>
  <dc:title>Федеральная целевая программА «Вода России»  («Развитие водохозяйственного комплекса РФ в 2012 – 2020 годах»)</dc:title>
</cp:coreProperties>
</file>