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5FB7-06E7-4BC7-A80D-1704B937F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1440-4329-4B30-8CA5-0C328FB4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215A-53BB-48DE-9289-E35ABC32C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845A-93DC-415B-8383-8C6B478C3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3E3B-8249-425F-B92D-9CE8CF8C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561A-0FD3-49C8-BF0F-23194ECC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9749-79C7-431F-AE90-0575C8A5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251E-2E95-4ED9-A140-3F7950AF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7A8B-2289-4208-8A8E-1939A638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D5C1-8794-4D17-B75C-7238AA71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7034-7615-4797-8F23-3581E149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A4A1-C784-42F5-B252-BCD87D3A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A7BA-96E9-4A79-9D94-FB731BC1AC5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9771-ED5D-4907-86ED-F283F7119B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мена технологических уклад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2" descr="g08pic03_v1.gif"/>
          <p:cNvPicPr/>
          <p:nvPr/>
        </p:nvPicPr>
        <p:blipFill>
          <a:blip r:embed="rId1"/>
          <a:stretch/>
        </p:blipFill>
        <p:spPr>
          <a:xfrm>
            <a:off x="252360" y="1476360"/>
            <a:ext cx="865836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5" descr="rssi1.gif"/>
          <p:cNvPicPr/>
          <p:nvPr/>
        </p:nvPicPr>
        <p:blipFill>
          <a:blip r:embed="rId1"/>
          <a:srcRect l="0" t="9753" r="0" b="0"/>
          <a:stretch/>
        </p:blipFill>
        <p:spPr>
          <a:xfrm>
            <a:off x="0" y="1417680"/>
            <a:ext cx="9144000" cy="5684760"/>
          </a:xfrm>
          <a:prstGeom prst="rect">
            <a:avLst/>
          </a:prstGeom>
          <a:ln w="0">
            <a:noFill/>
          </a:ln>
        </p:spPr>
      </p:pic>
      <p:sp>
        <p:nvSpPr>
          <p:cNvPr id="44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труктура нового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(VI)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технологического укла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ратегия опережающего развит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сумма вклада ключевых мероприятий в ежегодный прирост производства и инвестиц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55640" y="1844640"/>
          <a:ext cx="7561440" cy="4538520"/>
        </p:xfrm>
        <a:graphic>
          <a:graphicData uri="http://schemas.openxmlformats.org/drawingml/2006/table">
            <a:tbl>
              <a:tblPr/>
              <a:tblGrid>
                <a:gridCol w="3780000"/>
                <a:gridCol w="3781440"/>
              </a:tblGrid>
              <a:tr h="907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е Стратегии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Ежегодные темпы прирост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изводства                              Инвести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0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Форсированный рост нового технологического укла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%                                                  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Динамическое наверстывание в высокоразвитых сегментах экономики (авиа-, энергетическое, нефтегазовое машиностроение, строительство, сельское хозяйство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-30%                                              20-4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 Догоняющее развитие (промышленная сборка транспортных средств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-10%                                               10-1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6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. Углубленная переработка сырь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20%                                              20-4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. Стимулирование инновационной активности, развитие человеческого потенциал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%                                                    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среднем по экономик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%                                                     1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7" name="Rectangle 1"/>
          <p:cNvSpPr/>
          <p:nvPr/>
        </p:nvSpPr>
        <p:spPr>
          <a:xfrm>
            <a:off x="1442880" y="2276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193680"/>
            <a:ext cx="9144000" cy="64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Заголовок 1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Научно-технический потенциал стран мир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690228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ирост денежной базы ряда валют, 2007-2015 гг., разы*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324000" y="6165720"/>
            <a:ext cx="45720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*рассчитано в долларах США по соответствующему курсу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** данные за 2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7 г. -июнь 2015 г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сточник: М.Ершов по данным центральных банков соответствующих стран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4" descr=""/>
          <p:cNvPicPr/>
          <p:nvPr/>
        </p:nvPicPr>
        <p:blipFill>
          <a:blip r:embed="rId1"/>
          <a:stretch/>
        </p:blipFill>
        <p:spPr>
          <a:xfrm>
            <a:off x="628560" y="1566720"/>
            <a:ext cx="78310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ирост денежной массы (М2)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007-2015 гг., разы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250920" y="6292800"/>
            <a:ext cx="45720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*рассчитано в долларах США по соответствующему курсу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** данные за 2007 г. - июнь 2015 г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сточники: центральные банки соответствующих стран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4" descr=""/>
          <p:cNvPicPr/>
          <p:nvPr/>
        </p:nvPicPr>
        <p:blipFill>
          <a:blip r:embed="rId1"/>
          <a:stretch/>
        </p:blipFill>
        <p:spPr>
          <a:xfrm>
            <a:off x="468360" y="1430280"/>
            <a:ext cx="828036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рост ВВП, инвестиций и кредитования экономик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России и КН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Диаграмма 2"/>
          <p:cNvGraphicFramePr/>
          <p:nvPr/>
        </p:nvGraphicFramePr>
        <p:xfrm>
          <a:off x="704880" y="1577880"/>
          <a:ext cx="7662960" cy="456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Диаграмма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577880"/>
                    <a:ext cx="7662960" cy="456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ony</dc:creator>
  <dc:description/>
  <dc:language>en-US</dc:language>
  <cp:lastModifiedBy>Ткачук Сергей Петрович</cp:lastModifiedBy>
  <cp:lastPrinted>2018-10-19T07:47:13Z</cp:lastPrinted>
  <dcterms:modified xsi:type="dcterms:W3CDTF">2019-11-07T18:52:08Z</dcterms:modified>
  <cp:revision>633</cp:revision>
  <dc:subject/>
  <dc:title>Слайд 1</dc:title>
</cp:coreProperties>
</file>