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08F-1A9C-486A-9E38-3B0EE26B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BE5-AA0D-4689-8451-F0E45965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47D-BDF4-43D5-B9ED-4F0A87AA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25B-6DFB-4038-BFEF-FB40A414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4CC-648C-4979-A419-9B650E69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15F-B916-4FD6-9E28-517AEE83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4E6-36EF-4A13-844D-5821B792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784-E52B-46F8-89C8-CFE35F4B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C68-E70E-41DE-B3A1-1C1AB8CC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0DF-3E38-4732-9319-C2284E1A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6E2-47B9-4344-8DFE-75F4D95F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D8D-F9AB-43A3-8DE7-0E648F3B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182B-90DD-4475-9FC5-E39FA6D0B7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3D23-B6BF-4C12-9997-FE19F41F5F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мена технологических уклад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g08pic03_v1.gif"/>
          <p:cNvPicPr/>
          <p:nvPr/>
        </p:nvPicPr>
        <p:blipFill>
          <a:blip r:embed="rId1"/>
          <a:stretch/>
        </p:blipFill>
        <p:spPr>
          <a:xfrm>
            <a:off x="252360" y="1476360"/>
            <a:ext cx="865836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rssi1.gif"/>
          <p:cNvPicPr/>
          <p:nvPr/>
        </p:nvPicPr>
        <p:blipFill>
          <a:blip r:embed="rId1"/>
          <a:srcRect l="0" t="9753" r="0" b="0"/>
          <a:stretch/>
        </p:blipFill>
        <p:spPr>
          <a:xfrm>
            <a:off x="0" y="1417680"/>
            <a:ext cx="9144000" cy="568476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труктура нового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(VI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хнологического укл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тегия опережающе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сумма вклада ключевых мероприятий в ежегодный прирост производства и инвести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55640" y="1844640"/>
          <a:ext cx="7561440" cy="4538520"/>
        </p:xfrm>
        <a:graphic>
          <a:graphicData uri="http://schemas.openxmlformats.org/drawingml/2006/table">
            <a:tbl>
              <a:tblPr/>
              <a:tblGrid>
                <a:gridCol w="3780000"/>
                <a:gridCol w="3781440"/>
              </a:tblGrid>
              <a:tr h="90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 Стратег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жегодные темпы приро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изводства                             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Форсированный рост нового технологического укл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                                                 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Динамическое наверстывание в высокоразвитых сегментах экономики (авиа-, энергетическое, нефтегазовое машиностроение, строительство, сельское хозяйство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30%                                              20-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Догоняющее развитие (промышленная сборка транспортных средст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0%                                               10-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Углубленная переработка сыр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20%                                              20-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Стимулирование инновационной активности, развитие человеческого потенци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                                                    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реднем по экономик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                                                     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144288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учно-технический потенциал стран мир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9022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рост денежной базы ряда валют, 2007-2015 гг., разы*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324000" y="6165720"/>
            <a:ext cx="4572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рассчитано в долларах США по соответствующему курс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* данные за 2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г. -июнь 2015 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сточник: М.Ершов по данным центральных банков соответствующих стра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628560" y="1566720"/>
            <a:ext cx="7831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рост денежной массы (М2)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007-2015 гг., разы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50920" y="6292800"/>
            <a:ext cx="4572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рассчитано в долларах США по соответствующему курс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* данные за 2007 г. - июнь 2015 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сточники: центральные банки соответствующих стра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468360" y="1430280"/>
            <a:ext cx="82803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рост ВВП, инвестиций и кредитования экономик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оссии и КН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Диаграмма 2"/>
          <p:cNvGraphicFramePr/>
          <p:nvPr/>
        </p:nvGraphicFramePr>
        <p:xfrm>
          <a:off x="704880" y="1577880"/>
          <a:ext cx="7662960" cy="456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577880"/>
                    <a:ext cx="7662960" cy="45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Ткачук Сергей Петрович</cp:lastModifiedBy>
  <cp:lastPrinted>2018-10-19T07:47:13Z</cp:lastPrinted>
  <dcterms:modified xsi:type="dcterms:W3CDTF">2019-11-07T18:52:08Z</dcterms:modified>
  <cp:revision>633</cp:revision>
  <dc:subject/>
  <dc:title>Слайд 1</dc:title>
</cp:coreProperties>
</file>