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1BE-504E-4E49-9288-E5BAF522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548-06EA-4431-90C9-D9440F40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B2C-B5BF-4394-863D-64A61571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D654-601B-4F15-A22B-FE955346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F7F1-C0E5-4BDD-AE27-82921454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5C2-D5DC-406F-B58A-6452DCDF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958-C632-4648-A451-4C147D76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1C6A-F11D-46C0-B223-3931B425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829-CF9E-4558-BA49-98A41376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317-2530-46EF-8735-CAF9DBFD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39E-654B-4AB0-AACA-1A4D2B89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A0A5-2D20-4519-84AC-1E9A57B7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1DCD-A780-43A9-AEFA-C74571F405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3"/>
          <p:cNvGrpSpPr/>
          <p:nvPr/>
        </p:nvGrpSpPr>
        <p:grpSpPr>
          <a:xfrm>
            <a:off x="755640" y="333360"/>
            <a:ext cx="7273800" cy="1295280"/>
            <a:chOff x="755640" y="333360"/>
            <a:chExt cx="7273800" cy="1295280"/>
          </a:xfrm>
        </p:grpSpPr>
        <p:pic>
          <p:nvPicPr>
            <p:cNvPr id="42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755640" y="333360"/>
              <a:ext cx="359496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531120" y="949680"/>
              <a:ext cx="149832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591360" y="421560"/>
              <a:ext cx="35949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980080" y="888480"/>
              <a:ext cx="3594960" cy="67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2" descr="Лого_1"/>
          <p:cNvPicPr/>
          <p:nvPr/>
        </p:nvPicPr>
        <p:blipFill>
          <a:blip r:embed="rId5"/>
          <a:stretch/>
        </p:blipFill>
        <p:spPr>
          <a:xfrm>
            <a:off x="5364000" y="1989000"/>
            <a:ext cx="4024440" cy="4372200"/>
          </a:xfrm>
          <a:prstGeom prst="rect">
            <a:avLst/>
          </a:prstGeom>
          <a:ln w="0">
            <a:noFill/>
          </a:ln>
        </p:spPr>
      </p:pic>
      <p:sp>
        <p:nvSpPr>
          <p:cNvPr id="47" name="TextBox 8"/>
          <p:cNvSpPr/>
          <p:nvPr/>
        </p:nvSpPr>
        <p:spPr>
          <a:xfrm>
            <a:off x="179280" y="2205000"/>
            <a:ext cx="5616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Жагапарова Юлиана Игор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едседатель КРОО «Центр развития молодежного туризма и предпринимательства «Содействие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едущий менеджер ОБУ «Областной центр туризм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альцева Татьяна Олег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тарший преподаватель кафедры социально-культурного сервиса и туризма ФГБОУ ВО КГ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Лого_1"/>
          <p:cNvPicPr/>
          <p:nvPr/>
        </p:nvPicPr>
        <p:blipFill>
          <a:blip r:embed="rId1"/>
          <a:stretch/>
        </p:blipFill>
        <p:spPr>
          <a:xfrm>
            <a:off x="6665760" y="4367160"/>
            <a:ext cx="2671920" cy="2898720"/>
          </a:xfrm>
          <a:prstGeom prst="rect">
            <a:avLst/>
          </a:prstGeom>
          <a:ln w="0">
            <a:noFill/>
          </a:ln>
        </p:spPr>
      </p:pic>
      <p:grpSp>
        <p:nvGrpSpPr>
          <p:cNvPr id="119" name="Группа 3"/>
          <p:cNvGrpSpPr/>
          <p:nvPr/>
        </p:nvGrpSpPr>
        <p:grpSpPr>
          <a:xfrm>
            <a:off x="493560" y="0"/>
            <a:ext cx="8169480" cy="1295280"/>
            <a:chOff x="493560" y="0"/>
            <a:chExt cx="8169480" cy="1295280"/>
          </a:xfrm>
        </p:grpSpPr>
        <p:pic>
          <p:nvPicPr>
            <p:cNvPr id="120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14827" t="17977" r="15275" b="64043"/>
            <a:stretch/>
          </p:blipFill>
          <p:spPr>
            <a:xfrm>
              <a:off x="493560" y="0"/>
              <a:ext cx="403776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49778" t="65658" r="24735" b="17747"/>
            <a:stretch/>
          </p:blipFill>
          <p:spPr>
            <a:xfrm>
              <a:off x="6980040" y="61632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35369" r="15275" b="51589"/>
            <a:stretch/>
          </p:blipFill>
          <p:spPr>
            <a:xfrm>
              <a:off x="3678480" y="88200"/>
              <a:ext cx="40377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5"/>
            <a:srcRect l="14827" t="48037" r="15275" b="32994"/>
            <a:stretch/>
          </p:blipFill>
          <p:spPr>
            <a:xfrm>
              <a:off x="2991960" y="555120"/>
              <a:ext cx="4037760" cy="67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Rectangle 7"/>
          <p:cNvSpPr/>
          <p:nvPr/>
        </p:nvSpPr>
        <p:spPr>
          <a:xfrm>
            <a:off x="393840" y="2216160"/>
            <a:ext cx="3836880" cy="89208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Знакомство 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целевой аудитори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93840" y="3284640"/>
            <a:ext cx="3836880" cy="18000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одбор и анализ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документальног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материал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о тематике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93840" y="5300640"/>
            <a:ext cx="3836880" cy="9302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Разработка сценар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ланов  програм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4911840" y="2216160"/>
            <a:ext cx="3878280" cy="13399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одбо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игровых методик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реквизита, костюм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4952880" y="3689280"/>
            <a:ext cx="3837240" cy="9907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Репети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13"/>
          <p:cNvSpPr/>
          <p:nvPr/>
        </p:nvSpPr>
        <p:spPr>
          <a:xfrm>
            <a:off x="11160" y="1149480"/>
            <a:ext cx="913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зработка анимационных програм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Группа 3"/>
          <p:cNvGrpSpPr/>
          <p:nvPr/>
        </p:nvGrpSpPr>
        <p:grpSpPr>
          <a:xfrm>
            <a:off x="395280" y="189000"/>
            <a:ext cx="8169120" cy="1295280"/>
            <a:chOff x="395280" y="189000"/>
            <a:chExt cx="8169120" cy="1295280"/>
          </a:xfrm>
        </p:grpSpPr>
        <p:pic>
          <p:nvPicPr>
            <p:cNvPr id="131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395280" y="189000"/>
              <a:ext cx="403740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881400" y="80532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579840" y="277200"/>
              <a:ext cx="4037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893320" y="744120"/>
              <a:ext cx="4037400" cy="67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Rectangle 7"/>
          <p:cNvSpPr/>
          <p:nvPr/>
        </p:nvSpPr>
        <p:spPr>
          <a:xfrm>
            <a:off x="378000" y="1862280"/>
            <a:ext cx="3836880" cy="89208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Отбор литературы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других источ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81080" y="2901960"/>
            <a:ext cx="4181400" cy="9889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Отбор</a:t>
            </a: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 и изуч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экскурсионных объе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78000" y="4116240"/>
            <a:ext cx="3836880" cy="9306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Составление и обхо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(объезд) маршру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78000" y="5256360"/>
            <a:ext cx="3876480" cy="134136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одготов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контрольног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текста экскур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911840" y="1922400"/>
            <a:ext cx="3836880" cy="9907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одбор игровог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матери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4911840" y="3252960"/>
            <a:ext cx="3836880" cy="17269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Согласование време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на маршруте 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организационны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вопрос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13"/>
          <p:cNvSpPr/>
          <p:nvPr/>
        </p:nvSpPr>
        <p:spPr>
          <a:xfrm>
            <a:off x="-27000" y="1155600"/>
            <a:ext cx="913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зработка экскурсионных програм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863960" y="5254560"/>
            <a:ext cx="3876840" cy="13399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одготов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индивидуальног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текста экскур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Группа 3"/>
          <p:cNvGrpSpPr/>
          <p:nvPr/>
        </p:nvGrpSpPr>
        <p:grpSpPr>
          <a:xfrm>
            <a:off x="395280" y="189000"/>
            <a:ext cx="8169120" cy="1295280"/>
            <a:chOff x="395280" y="189000"/>
            <a:chExt cx="8169120" cy="1295280"/>
          </a:xfrm>
        </p:grpSpPr>
        <p:pic>
          <p:nvPicPr>
            <p:cNvPr id="144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395280" y="189000"/>
              <a:ext cx="403740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881400" y="80532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579840" y="277200"/>
              <a:ext cx="4037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893320" y="744120"/>
              <a:ext cx="4037400" cy="67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Рисунок 8" descr="Туристский бренд. Лучшие практики 2017.JPG"/>
          <p:cNvPicPr/>
          <p:nvPr/>
        </p:nvPicPr>
        <p:blipFill>
          <a:blip r:embed="rId5"/>
          <a:stretch/>
        </p:blipFill>
        <p:spPr>
          <a:xfrm>
            <a:off x="539640" y="2565360"/>
            <a:ext cx="4572000" cy="32623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9" descr="4 Финалист всероссийской туристской премии Маршрут года 2017.JPG"/>
          <p:cNvPicPr/>
          <p:nvPr/>
        </p:nvPicPr>
        <p:blipFill>
          <a:blip r:embed="rId6"/>
          <a:stretch/>
        </p:blipFill>
        <p:spPr>
          <a:xfrm>
            <a:off x="5364000" y="1628640"/>
            <a:ext cx="33609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Группа 3"/>
          <p:cNvGrpSpPr/>
          <p:nvPr/>
        </p:nvGrpSpPr>
        <p:grpSpPr>
          <a:xfrm>
            <a:off x="395280" y="189000"/>
            <a:ext cx="8169120" cy="1295280"/>
            <a:chOff x="395280" y="189000"/>
            <a:chExt cx="8169120" cy="1295280"/>
          </a:xfrm>
        </p:grpSpPr>
        <p:pic>
          <p:nvPicPr>
            <p:cNvPr id="151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395280" y="189000"/>
              <a:ext cx="403740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881400" y="80532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579840" y="277200"/>
              <a:ext cx="4037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893320" y="744120"/>
              <a:ext cx="4037400" cy="67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Рисунок 10" descr="Грузия Инклюзивные практики.jpg"/>
          <p:cNvPicPr/>
          <p:nvPr/>
        </p:nvPicPr>
        <p:blipFill>
          <a:blip r:embed="rId5"/>
          <a:stretch/>
        </p:blipFill>
        <p:spPr>
          <a:xfrm>
            <a:off x="395280" y="1700280"/>
            <a:ext cx="3495600" cy="49482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1" descr="РОСТУРИЗМ РГУТИС.jpg"/>
          <p:cNvPicPr/>
          <p:nvPr/>
        </p:nvPicPr>
        <p:blipFill>
          <a:blip r:embed="rId6"/>
          <a:srcRect l="0" t="3799" r="2752" b="3799"/>
          <a:stretch/>
        </p:blipFill>
        <p:spPr>
          <a:xfrm>
            <a:off x="4284720" y="2492280"/>
            <a:ext cx="4464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Группа 3"/>
          <p:cNvGrpSpPr/>
          <p:nvPr/>
        </p:nvGrpSpPr>
        <p:grpSpPr>
          <a:xfrm>
            <a:off x="493560" y="0"/>
            <a:ext cx="8169480" cy="1295280"/>
            <a:chOff x="493560" y="0"/>
            <a:chExt cx="8169480" cy="1295280"/>
          </a:xfrm>
        </p:grpSpPr>
        <p:pic>
          <p:nvPicPr>
            <p:cNvPr id="158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493560" y="0"/>
              <a:ext cx="403776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980040" y="61632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678480" y="88200"/>
              <a:ext cx="40377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991960" y="555120"/>
              <a:ext cx="4037760" cy="67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Прямоугольник 9"/>
          <p:cNvSpPr/>
          <p:nvPr/>
        </p:nvSpPr>
        <p:spPr>
          <a:xfrm>
            <a:off x="611280" y="1628640"/>
            <a:ext cx="547344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ект «Крошечными шагами по Курскому краю» является первым этапом программы развития инклюзивного туризма в Курской области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Лого_1"/>
          <p:cNvPicPr/>
          <p:nvPr/>
        </p:nvPicPr>
        <p:blipFill>
          <a:blip r:embed="rId5"/>
          <a:stretch/>
        </p:blipFill>
        <p:spPr>
          <a:xfrm>
            <a:off x="5796000" y="765000"/>
            <a:ext cx="2852640" cy="309564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9"/>
          <p:cNvSpPr/>
          <p:nvPr/>
        </p:nvSpPr>
        <p:spPr>
          <a:xfrm>
            <a:off x="3203640" y="3429000"/>
            <a:ext cx="568944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торым этапом выступает разработка и реализация маршрутов военно-патриотической тематики «Дорогами Курской дуги» для детей с нарушениями опорно-двигательного аппарата, интеллекта и слуха на территории города Курск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еализация проекта</a:t>
            </a:r>
            <a:r>
              <a:rPr b="1" i="1" lang="en-US" sz="23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i="1" lang="ru-RU" sz="23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стоится в апреле-мае 2019 год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Рисунок 11" descr="2.png"/>
          <p:cNvPicPr/>
          <p:nvPr/>
        </p:nvPicPr>
        <p:blipFill>
          <a:blip r:embed="rId6"/>
          <a:stretch/>
        </p:blipFill>
        <p:spPr>
          <a:xfrm>
            <a:off x="179280" y="3716280"/>
            <a:ext cx="28800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424160" y="536400"/>
            <a:ext cx="6243480" cy="4051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Лого_1"/>
          <p:cNvPicPr/>
          <p:nvPr/>
        </p:nvPicPr>
        <p:blipFill>
          <a:blip r:embed="rId2"/>
          <a:stretch/>
        </p:blipFill>
        <p:spPr>
          <a:xfrm>
            <a:off x="1042920" y="2976480"/>
            <a:ext cx="38163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Лого_1"/>
          <p:cNvPicPr/>
          <p:nvPr/>
        </p:nvPicPr>
        <p:blipFill>
          <a:blip r:embed="rId1"/>
          <a:stretch/>
        </p:blipFill>
        <p:spPr>
          <a:xfrm>
            <a:off x="6443640" y="4064040"/>
            <a:ext cx="2844720" cy="3087720"/>
          </a:xfrm>
          <a:prstGeom prst="rect">
            <a:avLst/>
          </a:prstGeom>
          <a:ln w="0">
            <a:noFill/>
          </a:ln>
        </p:spPr>
      </p:pic>
      <p:grpSp>
        <p:nvGrpSpPr>
          <p:cNvPr id="49" name="Группа 3"/>
          <p:cNvGrpSpPr/>
          <p:nvPr/>
        </p:nvGrpSpPr>
        <p:grpSpPr>
          <a:xfrm>
            <a:off x="395280" y="189000"/>
            <a:ext cx="8169120" cy="1295280"/>
            <a:chOff x="395280" y="189000"/>
            <a:chExt cx="8169120" cy="1295280"/>
          </a:xfrm>
        </p:grpSpPr>
        <p:pic>
          <p:nvPicPr>
            <p:cNvPr id="50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14827" t="17977" r="15275" b="64043"/>
            <a:stretch/>
          </p:blipFill>
          <p:spPr>
            <a:xfrm>
              <a:off x="395280" y="189000"/>
              <a:ext cx="403740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49778" t="65658" r="24735" b="17747"/>
            <a:stretch/>
          </p:blipFill>
          <p:spPr>
            <a:xfrm>
              <a:off x="6881400" y="80532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35369" r="15275" b="51589"/>
            <a:stretch/>
          </p:blipFill>
          <p:spPr>
            <a:xfrm>
              <a:off x="3579840" y="277200"/>
              <a:ext cx="4037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5"/>
            <a:srcRect l="14827" t="48037" r="15275" b="32994"/>
            <a:stretch/>
          </p:blipFill>
          <p:spPr>
            <a:xfrm>
              <a:off x="2893320" y="744120"/>
              <a:ext cx="4037400" cy="67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Box 8"/>
          <p:cNvSpPr/>
          <p:nvPr/>
        </p:nvSpPr>
        <p:spPr>
          <a:xfrm>
            <a:off x="785880" y="2714760"/>
            <a:ext cx="76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чему «КРОШЕЧНЫМИ» шагами по Курскому краю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Группа 3"/>
          <p:cNvGrpSpPr/>
          <p:nvPr/>
        </p:nvGrpSpPr>
        <p:grpSpPr>
          <a:xfrm>
            <a:off x="395280" y="189000"/>
            <a:ext cx="8169120" cy="1295280"/>
            <a:chOff x="395280" y="189000"/>
            <a:chExt cx="8169120" cy="1295280"/>
          </a:xfrm>
        </p:grpSpPr>
        <p:pic>
          <p:nvPicPr>
            <p:cNvPr id="56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395280" y="189000"/>
              <a:ext cx="403740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881400" y="80532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579840" y="277200"/>
              <a:ext cx="4037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893320" y="744120"/>
              <a:ext cx="4037400" cy="67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TextBox 8"/>
          <p:cNvSpPr/>
          <p:nvPr/>
        </p:nvSpPr>
        <p:spPr>
          <a:xfrm>
            <a:off x="500040" y="12938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нтерактивная анимационная программа с участием персонажей курского фольклора «Крошечка-Хаврошечка и ее друзь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" descr="F:\Конкурсы\Грантовые конкурсы\Таврида 2016\Полиграфия\Ролл ап\1 пункт\1.jpg"/>
          <p:cNvPicPr/>
          <p:nvPr/>
        </p:nvPicPr>
        <p:blipFill>
          <a:blip r:embed="rId5"/>
          <a:stretch/>
        </p:blipFill>
        <p:spPr>
          <a:xfrm>
            <a:off x="249120" y="2133720"/>
            <a:ext cx="333072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F:\Конкурсы\Грантовые конкурсы\Таврида 2016\Полиграфия\Ролл ап\1 пункт\2.jpg"/>
          <p:cNvPicPr/>
          <p:nvPr/>
        </p:nvPicPr>
        <p:blipFill>
          <a:blip r:embed="rId6"/>
          <a:stretch/>
        </p:blipFill>
        <p:spPr>
          <a:xfrm>
            <a:off x="5421240" y="2133720"/>
            <a:ext cx="3370320" cy="21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F:\Конкурсы\Грантовые конкурсы\Таврида 2016\Полиграфия\Ролл ап\1 пункт\3.jpg"/>
          <p:cNvPicPr/>
          <p:nvPr/>
        </p:nvPicPr>
        <p:blipFill>
          <a:blip r:embed="rId7"/>
          <a:stretch/>
        </p:blipFill>
        <p:spPr>
          <a:xfrm>
            <a:off x="2741760" y="4395960"/>
            <a:ext cx="35179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3"/>
          <p:cNvGrpSpPr/>
          <p:nvPr/>
        </p:nvGrpSpPr>
        <p:grpSpPr>
          <a:xfrm>
            <a:off x="468360" y="404640"/>
            <a:ext cx="8169120" cy="1295640"/>
            <a:chOff x="468360" y="404640"/>
            <a:chExt cx="8169120" cy="1295640"/>
          </a:xfrm>
        </p:grpSpPr>
        <p:pic>
          <p:nvPicPr>
            <p:cNvPr id="65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468360" y="404640"/>
              <a:ext cx="4037400" cy="6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954480" y="102132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652920" y="492840"/>
              <a:ext cx="403740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966400" y="959760"/>
              <a:ext cx="4037400" cy="67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TextBox 7"/>
          <p:cNvSpPr/>
          <p:nvPr/>
        </p:nvSpPr>
        <p:spPr>
          <a:xfrm>
            <a:off x="539640" y="17733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Экскурсии с элементами анимации и театрализации на маршруте «Игрушки Крош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https://pp.userapi.com/c638116/v638116035/34c98/DqOdMba3PuQ.jpg"/>
          <p:cNvPicPr/>
          <p:nvPr/>
        </p:nvPicPr>
        <p:blipFill>
          <a:blip r:embed="rId5"/>
          <a:stretch/>
        </p:blipFill>
        <p:spPr>
          <a:xfrm>
            <a:off x="3995640" y="2852640"/>
            <a:ext cx="4840560" cy="31687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"/>
          <p:cNvPicPr/>
          <p:nvPr/>
        </p:nvPicPr>
        <p:blipFill>
          <a:blip r:embed="rId6"/>
          <a:srcRect l="0" t="27440" r="1049" b="9206"/>
          <a:stretch/>
        </p:blipFill>
        <p:spPr>
          <a:xfrm>
            <a:off x="395280" y="2852640"/>
            <a:ext cx="32986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Группа 3"/>
          <p:cNvGrpSpPr/>
          <p:nvPr/>
        </p:nvGrpSpPr>
        <p:grpSpPr>
          <a:xfrm>
            <a:off x="395280" y="476280"/>
            <a:ext cx="8169120" cy="1295280"/>
            <a:chOff x="395280" y="476280"/>
            <a:chExt cx="8169120" cy="1295280"/>
          </a:xfrm>
        </p:grpSpPr>
        <p:pic>
          <p:nvPicPr>
            <p:cNvPr id="73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395280" y="476280"/>
              <a:ext cx="403740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881400" y="109260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579840" y="564480"/>
              <a:ext cx="4037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893320" y="1031400"/>
              <a:ext cx="4037400" cy="67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Прямоугольник 7"/>
          <p:cNvSpPr/>
          <p:nvPr/>
        </p:nvSpPr>
        <p:spPr>
          <a:xfrm>
            <a:off x="900000" y="19890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Экскурсии с элементами анимации и театрализации на маршруте «Веселая ткачиха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s://pp.userapi.com/c836436/v836436051/3c973/tHhkzwAJdV0.jpg"/>
          <p:cNvPicPr/>
          <p:nvPr/>
        </p:nvPicPr>
        <p:blipFill>
          <a:blip r:embed="rId5"/>
          <a:stretch/>
        </p:blipFill>
        <p:spPr>
          <a:xfrm>
            <a:off x="4716360" y="3068640"/>
            <a:ext cx="4168800" cy="2778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https://pp.userapi.com/c836436/v836436051/3c9e9/6csycCbp_kY.jpg"/>
          <p:cNvPicPr/>
          <p:nvPr/>
        </p:nvPicPr>
        <p:blipFill>
          <a:blip r:embed="rId6"/>
          <a:stretch/>
        </p:blipFill>
        <p:spPr>
          <a:xfrm>
            <a:off x="250920" y="3068640"/>
            <a:ext cx="41767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Группа 3"/>
          <p:cNvGrpSpPr/>
          <p:nvPr/>
        </p:nvGrpSpPr>
        <p:grpSpPr>
          <a:xfrm>
            <a:off x="395280" y="549360"/>
            <a:ext cx="8169120" cy="1295280"/>
            <a:chOff x="395280" y="549360"/>
            <a:chExt cx="8169120" cy="1295280"/>
          </a:xfrm>
        </p:grpSpPr>
        <p:pic>
          <p:nvPicPr>
            <p:cNvPr id="81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395280" y="549360"/>
              <a:ext cx="403740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881400" y="116568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579840" y="637560"/>
              <a:ext cx="4037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893320" y="1104480"/>
              <a:ext cx="4037400" cy="67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Прямоугольник 7"/>
          <p:cNvSpPr/>
          <p:nvPr/>
        </p:nvSpPr>
        <p:spPr>
          <a:xfrm>
            <a:off x="468360" y="2133720"/>
            <a:ext cx="80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астер-классы для маломобильных групп обучаю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s://pp.userapi.com/c837622/v837622052/2ec2a/gnhAzMz2Tlc.jpg"/>
          <p:cNvPicPr/>
          <p:nvPr/>
        </p:nvPicPr>
        <p:blipFill>
          <a:blip r:embed="rId5"/>
          <a:stretch/>
        </p:blipFill>
        <p:spPr>
          <a:xfrm>
            <a:off x="324000" y="2924280"/>
            <a:ext cx="4103640" cy="273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s://pp.userapi.com/c836436/v836436051/3b10c/cwdgoObz1GU.jpg"/>
          <p:cNvPicPr/>
          <p:nvPr/>
        </p:nvPicPr>
        <p:blipFill>
          <a:blip r:embed="rId6"/>
          <a:stretch/>
        </p:blipFill>
        <p:spPr>
          <a:xfrm>
            <a:off x="4716360" y="2924280"/>
            <a:ext cx="4103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3"/>
          <p:cNvGrpSpPr/>
          <p:nvPr/>
        </p:nvGrpSpPr>
        <p:grpSpPr>
          <a:xfrm>
            <a:off x="395280" y="333360"/>
            <a:ext cx="8169120" cy="1295280"/>
            <a:chOff x="395280" y="333360"/>
            <a:chExt cx="8169120" cy="1295280"/>
          </a:xfrm>
        </p:grpSpPr>
        <p:pic>
          <p:nvPicPr>
            <p:cNvPr id="89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395280" y="333360"/>
              <a:ext cx="403740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881400" y="94968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579840" y="421560"/>
              <a:ext cx="4037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893320" y="888480"/>
              <a:ext cx="4037400" cy="67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Прямоугольник 7"/>
          <p:cNvSpPr/>
          <p:nvPr/>
        </p:nvSpPr>
        <p:spPr>
          <a:xfrm>
            <a:off x="755640" y="1700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авершающая интерактивная анимационная программа «До новых встреч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9" descr="SagBKTTPw3E.jpg"/>
          <p:cNvPicPr/>
          <p:nvPr/>
        </p:nvPicPr>
        <p:blipFill>
          <a:blip r:embed="rId5"/>
          <a:stretch/>
        </p:blipFill>
        <p:spPr>
          <a:xfrm>
            <a:off x="468360" y="3284640"/>
            <a:ext cx="4680000" cy="31208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aZ6lSzv-Pb8.jpg"/>
          <p:cNvPicPr/>
          <p:nvPr/>
        </p:nvPicPr>
        <p:blipFill>
          <a:blip r:embed="rId6"/>
          <a:srcRect l="0" t="17354" r="0" b="0"/>
          <a:stretch/>
        </p:blipFill>
        <p:spPr>
          <a:xfrm>
            <a:off x="5508720" y="2637000"/>
            <a:ext cx="3078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Группа 3"/>
          <p:cNvGrpSpPr/>
          <p:nvPr/>
        </p:nvGrpSpPr>
        <p:grpSpPr>
          <a:xfrm>
            <a:off x="395280" y="189000"/>
            <a:ext cx="8169120" cy="1295280"/>
            <a:chOff x="395280" y="189000"/>
            <a:chExt cx="8169120" cy="1295280"/>
          </a:xfrm>
        </p:grpSpPr>
        <p:pic>
          <p:nvPicPr>
            <p:cNvPr id="97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395280" y="189000"/>
              <a:ext cx="403740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881400" y="80532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579840" y="277200"/>
              <a:ext cx="4037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893320" y="744120"/>
              <a:ext cx="4037400" cy="67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Rectangle 2"/>
          <p:cNvSpPr/>
          <p:nvPr/>
        </p:nvSpPr>
        <p:spPr>
          <a:xfrm>
            <a:off x="928800" y="1422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дготовка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4"/>
          <p:cNvSpPr/>
          <p:nvPr/>
        </p:nvSpPr>
        <p:spPr>
          <a:xfrm rot="1606200">
            <a:off x="2300040" y="2485800"/>
            <a:ext cx="865080" cy="1224000"/>
          </a:xfrm>
          <a:prstGeom prst="downArrow">
            <a:avLst>
              <a:gd name="adj1" fmla="val 33824"/>
              <a:gd name="adj2" fmla="val 34318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5"/>
          <p:cNvSpPr/>
          <p:nvPr/>
        </p:nvSpPr>
        <p:spPr>
          <a:xfrm rot="20019000">
            <a:off x="6227280" y="2485800"/>
            <a:ext cx="865440" cy="1224000"/>
          </a:xfrm>
          <a:prstGeom prst="downArrow">
            <a:avLst>
              <a:gd name="adj1" fmla="val 33824"/>
              <a:gd name="adj2" fmla="val 34303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14240" y="4071960"/>
            <a:ext cx="3143520" cy="2165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Организацион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одготов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357880" y="4071960"/>
            <a:ext cx="3236760" cy="2165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Разрабо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анимацион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и экскурсион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рограмм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Группа 3"/>
          <p:cNvGrpSpPr/>
          <p:nvPr/>
        </p:nvGrpSpPr>
        <p:grpSpPr>
          <a:xfrm>
            <a:off x="395280" y="189000"/>
            <a:ext cx="8169120" cy="1295280"/>
            <a:chOff x="395280" y="189000"/>
            <a:chExt cx="8169120" cy="1295280"/>
          </a:xfrm>
        </p:grpSpPr>
        <p:pic>
          <p:nvPicPr>
            <p:cNvPr id="107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395280" y="189000"/>
              <a:ext cx="403740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881400" y="80532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579840" y="277200"/>
              <a:ext cx="4037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893320" y="744120"/>
              <a:ext cx="4037400" cy="67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7"/>
          <p:cNvSpPr/>
          <p:nvPr/>
        </p:nvSpPr>
        <p:spPr>
          <a:xfrm>
            <a:off x="393840" y="2644920"/>
            <a:ext cx="3836880" cy="893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оиск партне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о мастер-класс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93840" y="3879720"/>
            <a:ext cx="3836880" cy="98928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Организац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еревоз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93840" y="5084640"/>
            <a:ext cx="3836880" cy="9302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Организац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ит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4870440" y="2421000"/>
            <a:ext cx="3876840" cy="134136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Разработка сувенирн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олиграфичес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родук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911840" y="3879720"/>
            <a:ext cx="3836880" cy="98928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Работа со С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и фотограф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911840" y="5084640"/>
            <a:ext cx="3836880" cy="9302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Рабо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с волонтер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1"/>
          <p:cNvSpPr/>
          <p:nvPr/>
        </p:nvSpPr>
        <p:spPr>
          <a:xfrm>
            <a:off x="0" y="1420920"/>
            <a:ext cx="913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рганизационн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дготов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9T19:59:01Z</dcterms:created>
  <dc:creator>Т.О.Ма</dc:creator>
  <dc:description/>
  <dc:language>en-US</dc:language>
  <cp:lastModifiedBy>Viktoriya</cp:lastModifiedBy>
  <dcterms:modified xsi:type="dcterms:W3CDTF">2018-11-27T12:23:05Z</dcterms:modified>
  <cp:revision>58</cp:revision>
  <dc:subject/>
  <dc:title>Презентация PowerPoint</dc:title>
</cp:coreProperties>
</file>