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5B2-793C-4D79-A409-5AA5B0CE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F7A-1AB3-460E-8956-C1A87A12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B22-AD77-4A72-B974-A2F66BBC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7C1-7219-4B39-82AA-98699566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AF2-8807-4C87-AFAE-9E370F78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8D7-ECB7-42A9-BFD0-05A886E0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98D-F7AF-4746-B2D9-118A56EC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DD9-7B90-4A4E-B5AB-F1DE59D1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1C3-7A79-4D75-96DE-75F8E93C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E13-71EB-45CE-A856-4B7C4167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329-F6C8-4B2F-9490-E91BE4A0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11B-A174-4065-9D4A-CA938B6C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584B-0F8B-427F-82F8-877A8D296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"/>
          <p:cNvGrpSpPr/>
          <p:nvPr/>
        </p:nvGrpSpPr>
        <p:grpSpPr>
          <a:xfrm>
            <a:off x="755640" y="333360"/>
            <a:ext cx="7273800" cy="1295280"/>
            <a:chOff x="755640" y="333360"/>
            <a:chExt cx="7273800" cy="1295280"/>
          </a:xfrm>
        </p:grpSpPr>
        <p:pic>
          <p:nvPicPr>
            <p:cNvPr id="4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755640" y="333360"/>
              <a:ext cx="359496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531120" y="949680"/>
              <a:ext cx="149832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91360" y="421560"/>
              <a:ext cx="35949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980080" y="888480"/>
              <a:ext cx="3594960" cy="6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2" descr="Лого_1"/>
          <p:cNvPicPr/>
          <p:nvPr/>
        </p:nvPicPr>
        <p:blipFill>
          <a:blip r:embed="rId5"/>
          <a:stretch/>
        </p:blipFill>
        <p:spPr>
          <a:xfrm>
            <a:off x="5364000" y="1989000"/>
            <a:ext cx="4024440" cy="4372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179280" y="2205000"/>
            <a:ext cx="561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Жагапарова Юлиана Игор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дседатель КРОО «Центр развития молодежного туризма и предпринимательства «Содействие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едущий менеджер ОБУ «Областной центр туризм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льцева Татьяна Олег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арший преподаватель кафедры социально-культурного сервиса и туризма ФГБОУ ВО К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Лого_1"/>
          <p:cNvPicPr/>
          <p:nvPr/>
        </p:nvPicPr>
        <p:blipFill>
          <a:blip r:embed="rId1"/>
          <a:stretch/>
        </p:blipFill>
        <p:spPr>
          <a:xfrm>
            <a:off x="6665760" y="4367160"/>
            <a:ext cx="2671920" cy="2898720"/>
          </a:xfrm>
          <a:prstGeom prst="rect">
            <a:avLst/>
          </a:prstGeom>
          <a:ln w="0">
            <a:noFill/>
          </a:ln>
        </p:spPr>
      </p:pic>
      <p:grpSp>
        <p:nvGrpSpPr>
          <p:cNvPr id="119" name="Группа 3"/>
          <p:cNvGrpSpPr/>
          <p:nvPr/>
        </p:nvGrpSpPr>
        <p:grpSpPr>
          <a:xfrm>
            <a:off x="493560" y="0"/>
            <a:ext cx="8169480" cy="1295280"/>
            <a:chOff x="493560" y="0"/>
            <a:chExt cx="8169480" cy="1295280"/>
          </a:xfrm>
        </p:grpSpPr>
        <p:pic>
          <p:nvPicPr>
            <p:cNvPr id="12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14827" t="17977" r="15275" b="64043"/>
            <a:stretch/>
          </p:blipFill>
          <p:spPr>
            <a:xfrm>
              <a:off x="493560" y="0"/>
              <a:ext cx="403776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49778" t="65658" r="24735" b="17747"/>
            <a:stretch/>
          </p:blipFill>
          <p:spPr>
            <a:xfrm>
              <a:off x="6980040" y="616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35369" r="15275" b="51589"/>
            <a:stretch/>
          </p:blipFill>
          <p:spPr>
            <a:xfrm>
              <a:off x="3678480" y="88200"/>
              <a:ext cx="40377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5"/>
            <a:srcRect l="14827" t="48037" r="15275" b="32994"/>
            <a:stretch/>
          </p:blipFill>
          <p:spPr>
            <a:xfrm>
              <a:off x="2991960" y="555120"/>
              <a:ext cx="403776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Rectangle 7"/>
          <p:cNvSpPr/>
          <p:nvPr/>
        </p:nvSpPr>
        <p:spPr>
          <a:xfrm>
            <a:off x="393840" y="2216160"/>
            <a:ext cx="3836880" cy="8920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Знакомство 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целевой аудитор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93840" y="3284640"/>
            <a:ext cx="3836880" cy="18000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бор и анали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документальн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материа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 тематике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93840" y="5300640"/>
            <a:ext cx="3836880" cy="9302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азработка сценар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ланов  програ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4911840" y="2216160"/>
            <a:ext cx="3878280" cy="13399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бо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игровых методи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еквизита, костю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952880" y="3689280"/>
            <a:ext cx="3837240" cy="9907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епети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13"/>
          <p:cNvSpPr/>
          <p:nvPr/>
        </p:nvSpPr>
        <p:spPr>
          <a:xfrm>
            <a:off x="11160" y="1149480"/>
            <a:ext cx="91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зработка анимационных програ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13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Rectangle 7"/>
          <p:cNvSpPr/>
          <p:nvPr/>
        </p:nvSpPr>
        <p:spPr>
          <a:xfrm>
            <a:off x="378000" y="1862280"/>
            <a:ext cx="3836880" cy="8920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Отбор литературы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других источ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81080" y="2901960"/>
            <a:ext cx="4181400" cy="9889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Отбор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 и изуч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экскурсионных объ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78000" y="4116240"/>
            <a:ext cx="3836880" cy="9306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Составление и обхо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(объезд) маршру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78000" y="5256360"/>
            <a:ext cx="3876480" cy="13413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готов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контрольн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текста экскур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911840" y="1922400"/>
            <a:ext cx="3836880" cy="9907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бор игров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матер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911840" y="3252960"/>
            <a:ext cx="3836880" cy="17269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Согласование време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на маршруте 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организационны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вопрос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-27000" y="1155600"/>
            <a:ext cx="91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зработка экскурсионных програ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863960" y="5254560"/>
            <a:ext cx="3876840" cy="13399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готов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индивидуальн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текста экскур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14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Рисунок 8" descr="Туристский бренд. Лучшие практики 2017.JPG"/>
          <p:cNvPicPr/>
          <p:nvPr/>
        </p:nvPicPr>
        <p:blipFill>
          <a:blip r:embed="rId5"/>
          <a:stretch/>
        </p:blipFill>
        <p:spPr>
          <a:xfrm>
            <a:off x="539640" y="2565360"/>
            <a:ext cx="4572000" cy="32623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9" descr="4 Финалист всероссийской туристской премии Маршрут года 2017.JPG"/>
          <p:cNvPicPr/>
          <p:nvPr/>
        </p:nvPicPr>
        <p:blipFill>
          <a:blip r:embed="rId6"/>
          <a:stretch/>
        </p:blipFill>
        <p:spPr>
          <a:xfrm>
            <a:off x="5364000" y="1628640"/>
            <a:ext cx="33609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15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Рисунок 10" descr="Грузия Инклюзивные практики.jpg"/>
          <p:cNvPicPr/>
          <p:nvPr/>
        </p:nvPicPr>
        <p:blipFill>
          <a:blip r:embed="rId5"/>
          <a:stretch/>
        </p:blipFill>
        <p:spPr>
          <a:xfrm>
            <a:off x="395280" y="1700280"/>
            <a:ext cx="3495600" cy="4948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1" descr="РОСТУРИЗМ РГУТИС.jpg"/>
          <p:cNvPicPr/>
          <p:nvPr/>
        </p:nvPicPr>
        <p:blipFill>
          <a:blip r:embed="rId6"/>
          <a:srcRect l="0" t="3799" r="2752" b="3799"/>
          <a:stretch/>
        </p:blipFill>
        <p:spPr>
          <a:xfrm>
            <a:off x="4284720" y="2492280"/>
            <a:ext cx="4464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Группа 3"/>
          <p:cNvGrpSpPr/>
          <p:nvPr/>
        </p:nvGrpSpPr>
        <p:grpSpPr>
          <a:xfrm>
            <a:off x="493560" y="0"/>
            <a:ext cx="8169480" cy="1295280"/>
            <a:chOff x="493560" y="0"/>
            <a:chExt cx="8169480" cy="1295280"/>
          </a:xfrm>
        </p:grpSpPr>
        <p:pic>
          <p:nvPicPr>
            <p:cNvPr id="158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493560" y="0"/>
              <a:ext cx="403776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980040" y="616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678480" y="88200"/>
              <a:ext cx="40377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991960" y="555120"/>
              <a:ext cx="403776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Прямоугольник 9"/>
          <p:cNvSpPr/>
          <p:nvPr/>
        </p:nvSpPr>
        <p:spPr>
          <a:xfrm>
            <a:off x="611280" y="1628640"/>
            <a:ext cx="54734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ект «Крошечными шагами по Курскому краю» является первым этапом программы развития инклюзивного туризма в Курской области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Лого_1"/>
          <p:cNvPicPr/>
          <p:nvPr/>
        </p:nvPicPr>
        <p:blipFill>
          <a:blip r:embed="rId5"/>
          <a:stretch/>
        </p:blipFill>
        <p:spPr>
          <a:xfrm>
            <a:off x="5796000" y="765000"/>
            <a:ext cx="2852640" cy="30956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9"/>
          <p:cNvSpPr/>
          <p:nvPr/>
        </p:nvSpPr>
        <p:spPr>
          <a:xfrm>
            <a:off x="3203640" y="3429000"/>
            <a:ext cx="568944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торым этапом выступает разработка и реализация маршрутов военно-патриотической тематики «Дорогами Курской дуги» для детей с нарушениями опорно-двигательного аппарата, интеллекта и слуха на территории города Курск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ализация проекта</a:t>
            </a:r>
            <a:r>
              <a:rPr b="1" i="1" lang="en-US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оится в апреле-мае 2019 год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11" descr="2.png"/>
          <p:cNvPicPr/>
          <p:nvPr/>
        </p:nvPicPr>
        <p:blipFill>
          <a:blip r:embed="rId6"/>
          <a:stretch/>
        </p:blipFill>
        <p:spPr>
          <a:xfrm>
            <a:off x="179280" y="3716280"/>
            <a:ext cx="28800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24160" y="536400"/>
            <a:ext cx="6243480" cy="4051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Лого_1"/>
          <p:cNvPicPr/>
          <p:nvPr/>
        </p:nvPicPr>
        <p:blipFill>
          <a:blip r:embed="rId2"/>
          <a:stretch/>
        </p:blipFill>
        <p:spPr>
          <a:xfrm>
            <a:off x="1042920" y="2976480"/>
            <a:ext cx="38163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Лого_1"/>
          <p:cNvPicPr/>
          <p:nvPr/>
        </p:nvPicPr>
        <p:blipFill>
          <a:blip r:embed="rId1"/>
          <a:stretch/>
        </p:blipFill>
        <p:spPr>
          <a:xfrm>
            <a:off x="6443640" y="4064040"/>
            <a:ext cx="2844720" cy="3087720"/>
          </a:xfrm>
          <a:prstGeom prst="rect">
            <a:avLst/>
          </a:prstGeom>
          <a:ln w="0">
            <a:noFill/>
          </a:ln>
        </p:spPr>
      </p:pic>
      <p:grpSp>
        <p:nvGrpSpPr>
          <p:cNvPr id="49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5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5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Box 8"/>
          <p:cNvSpPr/>
          <p:nvPr/>
        </p:nvSpPr>
        <p:spPr>
          <a:xfrm>
            <a:off x="785880" y="271476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чему «КРОШЕЧНЫМИ» шагами по Курскому краю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56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TextBox 8"/>
          <p:cNvSpPr/>
          <p:nvPr/>
        </p:nvSpPr>
        <p:spPr>
          <a:xfrm>
            <a:off x="500040" y="1293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нтерактивная анимационная программа с участием персонажей курского фольклора «Крошечка-Хаврошечка и ее друзь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F:\Конкурсы\Грантовые конкурсы\Таврида 2016\Полиграфия\Ролл ап\1 пункт\1.jpg"/>
          <p:cNvPicPr/>
          <p:nvPr/>
        </p:nvPicPr>
        <p:blipFill>
          <a:blip r:embed="rId5"/>
          <a:stretch/>
        </p:blipFill>
        <p:spPr>
          <a:xfrm>
            <a:off x="249120" y="2133720"/>
            <a:ext cx="33307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F:\Конкурсы\Грантовые конкурсы\Таврида 2016\Полиграфия\Ролл ап\1 пункт\2.jpg"/>
          <p:cNvPicPr/>
          <p:nvPr/>
        </p:nvPicPr>
        <p:blipFill>
          <a:blip r:embed="rId6"/>
          <a:stretch/>
        </p:blipFill>
        <p:spPr>
          <a:xfrm>
            <a:off x="5421240" y="2133720"/>
            <a:ext cx="337032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F:\Конкурсы\Грантовые конкурсы\Таврида 2016\Полиграфия\Ролл ап\1 пункт\3.jpg"/>
          <p:cNvPicPr/>
          <p:nvPr/>
        </p:nvPicPr>
        <p:blipFill>
          <a:blip r:embed="rId7"/>
          <a:stretch/>
        </p:blipFill>
        <p:spPr>
          <a:xfrm>
            <a:off x="2741760" y="4395960"/>
            <a:ext cx="35179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3"/>
          <p:cNvGrpSpPr/>
          <p:nvPr/>
        </p:nvGrpSpPr>
        <p:grpSpPr>
          <a:xfrm>
            <a:off x="468360" y="404640"/>
            <a:ext cx="8169120" cy="1295640"/>
            <a:chOff x="468360" y="404640"/>
            <a:chExt cx="8169120" cy="1295640"/>
          </a:xfrm>
        </p:grpSpPr>
        <p:pic>
          <p:nvPicPr>
            <p:cNvPr id="65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468360" y="404640"/>
              <a:ext cx="403740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954480" y="1021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652920" y="492840"/>
              <a:ext cx="403740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966400" y="95976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Box 7"/>
          <p:cNvSpPr/>
          <p:nvPr/>
        </p:nvSpPr>
        <p:spPr>
          <a:xfrm>
            <a:off x="539640" y="1773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кскурсии с элементами анимации и театрализации на маршруте «Игрушки Крош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https://pp.userapi.com/c638116/v638116035/34c98/DqOdMba3PuQ.jpg"/>
          <p:cNvPicPr/>
          <p:nvPr/>
        </p:nvPicPr>
        <p:blipFill>
          <a:blip r:embed="rId5"/>
          <a:stretch/>
        </p:blipFill>
        <p:spPr>
          <a:xfrm>
            <a:off x="3995640" y="2852640"/>
            <a:ext cx="4840560" cy="3168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6"/>
          <a:srcRect l="0" t="27440" r="1049" b="9206"/>
          <a:stretch/>
        </p:blipFill>
        <p:spPr>
          <a:xfrm>
            <a:off x="395280" y="2852640"/>
            <a:ext cx="3298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3"/>
          <p:cNvGrpSpPr/>
          <p:nvPr/>
        </p:nvGrpSpPr>
        <p:grpSpPr>
          <a:xfrm>
            <a:off x="395280" y="476280"/>
            <a:ext cx="8169120" cy="1295280"/>
            <a:chOff x="395280" y="476280"/>
            <a:chExt cx="8169120" cy="1295280"/>
          </a:xfrm>
        </p:grpSpPr>
        <p:pic>
          <p:nvPicPr>
            <p:cNvPr id="7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47628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109260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56448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103140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Прямоугольник 7"/>
          <p:cNvSpPr/>
          <p:nvPr/>
        </p:nvSpPr>
        <p:spPr>
          <a:xfrm>
            <a:off x="900000" y="1989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кскурсии с элементами анимации и театрализации на маршруте «Веселая ткачих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s://pp.userapi.com/c836436/v836436051/3c973/tHhkzwAJdV0.jpg"/>
          <p:cNvPicPr/>
          <p:nvPr/>
        </p:nvPicPr>
        <p:blipFill>
          <a:blip r:embed="rId5"/>
          <a:stretch/>
        </p:blipFill>
        <p:spPr>
          <a:xfrm>
            <a:off x="4716360" y="3068640"/>
            <a:ext cx="4168800" cy="277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s://pp.userapi.com/c836436/v836436051/3c9e9/6csycCbp_kY.jpg"/>
          <p:cNvPicPr/>
          <p:nvPr/>
        </p:nvPicPr>
        <p:blipFill>
          <a:blip r:embed="rId6"/>
          <a:stretch/>
        </p:blipFill>
        <p:spPr>
          <a:xfrm>
            <a:off x="250920" y="3068640"/>
            <a:ext cx="4176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3"/>
          <p:cNvGrpSpPr/>
          <p:nvPr/>
        </p:nvGrpSpPr>
        <p:grpSpPr>
          <a:xfrm>
            <a:off x="395280" y="549360"/>
            <a:ext cx="8169120" cy="1295280"/>
            <a:chOff x="395280" y="549360"/>
            <a:chExt cx="8169120" cy="1295280"/>
          </a:xfrm>
        </p:grpSpPr>
        <p:pic>
          <p:nvPicPr>
            <p:cNvPr id="8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54936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116568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63756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110448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Прямоугольник 7"/>
          <p:cNvSpPr/>
          <p:nvPr/>
        </p:nvSpPr>
        <p:spPr>
          <a:xfrm>
            <a:off x="468360" y="2133720"/>
            <a:ext cx="80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стер-классы для маломобильных групп обуч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s://pp.userapi.com/c837622/v837622052/2ec2a/gnhAzMz2Tlc.jpg"/>
          <p:cNvPicPr/>
          <p:nvPr/>
        </p:nvPicPr>
        <p:blipFill>
          <a:blip r:embed="rId5"/>
          <a:stretch/>
        </p:blipFill>
        <p:spPr>
          <a:xfrm>
            <a:off x="324000" y="2924280"/>
            <a:ext cx="4103640" cy="273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s://pp.userapi.com/c836436/v836436051/3b10c/cwdgoObz1GU.jpg"/>
          <p:cNvPicPr/>
          <p:nvPr/>
        </p:nvPicPr>
        <p:blipFill>
          <a:blip r:embed="rId6"/>
          <a:stretch/>
        </p:blipFill>
        <p:spPr>
          <a:xfrm>
            <a:off x="4716360" y="2924280"/>
            <a:ext cx="4103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3"/>
          <p:cNvGrpSpPr/>
          <p:nvPr/>
        </p:nvGrpSpPr>
        <p:grpSpPr>
          <a:xfrm>
            <a:off x="395280" y="333360"/>
            <a:ext cx="8169120" cy="1295280"/>
            <a:chOff x="395280" y="333360"/>
            <a:chExt cx="8169120" cy="1295280"/>
          </a:xfrm>
        </p:grpSpPr>
        <p:pic>
          <p:nvPicPr>
            <p:cNvPr id="89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33336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94968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42156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88848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Прямоугольник 7"/>
          <p:cNvSpPr/>
          <p:nvPr/>
        </p:nvSpPr>
        <p:spPr>
          <a:xfrm>
            <a:off x="755640" y="1700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вершающая интерактивная анимационная программа «До новых встреч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9" descr="SagBKTTPw3E.jpg"/>
          <p:cNvPicPr/>
          <p:nvPr/>
        </p:nvPicPr>
        <p:blipFill>
          <a:blip r:embed="rId5"/>
          <a:stretch/>
        </p:blipFill>
        <p:spPr>
          <a:xfrm>
            <a:off x="468360" y="3284640"/>
            <a:ext cx="4680000" cy="31208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aZ6lSzv-Pb8.jpg"/>
          <p:cNvPicPr/>
          <p:nvPr/>
        </p:nvPicPr>
        <p:blipFill>
          <a:blip r:embed="rId6"/>
          <a:srcRect l="0" t="17354" r="0" b="0"/>
          <a:stretch/>
        </p:blipFill>
        <p:spPr>
          <a:xfrm>
            <a:off x="5508720" y="2637000"/>
            <a:ext cx="307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97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Rectangle 2"/>
          <p:cNvSpPr/>
          <p:nvPr/>
        </p:nvSpPr>
        <p:spPr>
          <a:xfrm>
            <a:off x="928800" y="1422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готовк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4"/>
          <p:cNvSpPr/>
          <p:nvPr/>
        </p:nvSpPr>
        <p:spPr>
          <a:xfrm rot="1606200">
            <a:off x="2300040" y="2485800"/>
            <a:ext cx="865080" cy="1224000"/>
          </a:xfrm>
          <a:prstGeom prst="downArrow">
            <a:avLst>
              <a:gd name="adj1" fmla="val 33824"/>
              <a:gd name="adj2" fmla="val 34318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5"/>
          <p:cNvSpPr/>
          <p:nvPr/>
        </p:nvSpPr>
        <p:spPr>
          <a:xfrm rot="20019000">
            <a:off x="6227280" y="2485800"/>
            <a:ext cx="865440" cy="1224000"/>
          </a:xfrm>
          <a:prstGeom prst="downArrow">
            <a:avLst>
              <a:gd name="adj1" fmla="val 33824"/>
              <a:gd name="adj2" fmla="val 34303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14240" y="4071960"/>
            <a:ext cx="3143520" cy="2165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Организацио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дгото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57880" y="4071960"/>
            <a:ext cx="3236760" cy="2165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азрабо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анимацио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и экскурсио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рограмм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3"/>
          <p:cNvGrpSpPr/>
          <p:nvPr/>
        </p:nvGrpSpPr>
        <p:grpSpPr>
          <a:xfrm>
            <a:off x="395280" y="189000"/>
            <a:ext cx="8169120" cy="1295280"/>
            <a:chOff x="395280" y="189000"/>
            <a:chExt cx="8169120" cy="1295280"/>
          </a:xfrm>
        </p:grpSpPr>
        <p:pic>
          <p:nvPicPr>
            <p:cNvPr id="107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1"/>
            <a:srcRect l="14827" t="17977" r="15275" b="64043"/>
            <a:stretch/>
          </p:blipFill>
          <p:spPr>
            <a:xfrm>
              <a:off x="395280" y="189000"/>
              <a:ext cx="403740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2"/>
            <a:srcRect l="49778" t="65658" r="24735" b="17747"/>
            <a:stretch/>
          </p:blipFill>
          <p:spPr>
            <a:xfrm>
              <a:off x="6881400" y="805320"/>
              <a:ext cx="168300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3"/>
            <a:srcRect l="14827" t="35369" r="15275" b="51589"/>
            <a:stretch/>
          </p:blipFill>
          <p:spPr>
            <a:xfrm>
              <a:off x="3579840" y="277200"/>
              <a:ext cx="403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C:\Users\user\Desktop\Для Крошечки Хаврошечки\Для проекта Крошечными шагами по Кускому краю\header.png"/>
            <p:cNvPicPr/>
            <p:nvPr/>
          </p:nvPicPr>
          <p:blipFill>
            <a:blip r:embed="rId4"/>
            <a:srcRect l="14827" t="48037" r="15275" b="32994"/>
            <a:stretch/>
          </p:blipFill>
          <p:spPr>
            <a:xfrm>
              <a:off x="2893320" y="744120"/>
              <a:ext cx="4037400" cy="67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7"/>
          <p:cNvSpPr/>
          <p:nvPr/>
        </p:nvSpPr>
        <p:spPr>
          <a:xfrm>
            <a:off x="393840" y="2644920"/>
            <a:ext cx="3836880" cy="893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иск партне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 мастер-класс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93840" y="3879720"/>
            <a:ext cx="3836880" cy="9892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Организа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еревоз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93840" y="5084640"/>
            <a:ext cx="3836880" cy="9302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Организа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ит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870440" y="2421000"/>
            <a:ext cx="3876840" cy="13413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азработка сувенир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олиграфичес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проду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911840" y="3879720"/>
            <a:ext cx="3836880" cy="9892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абота со С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и фотограф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911840" y="5084640"/>
            <a:ext cx="3836880" cy="9302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або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с волонте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1"/>
          <p:cNvSpPr/>
          <p:nvPr/>
        </p:nvSpPr>
        <p:spPr>
          <a:xfrm>
            <a:off x="0" y="1420920"/>
            <a:ext cx="91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рганизационн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готов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9T19:59:01Z</dcterms:created>
  <dc:creator>Т.О.Ма</dc:creator>
  <dc:description/>
  <dc:language>en-US</dc:language>
  <cp:lastModifiedBy>Viktoriya</cp:lastModifiedBy>
  <dcterms:modified xsi:type="dcterms:W3CDTF">2018-11-27T12:23:05Z</dcterms:modified>
  <cp:revision>58</cp:revision>
  <dc:subject/>
  <dc:title>Презентация PowerPoint</dc:title>
</cp:coreProperties>
</file>