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CEC1-F2DA-4FBF-8549-41202027DE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C80F-C158-4A30-AB52-4ED7150A9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1B7-5669-4DEE-9B4D-B02A362C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639-8F7C-447D-91F5-DAACEDBA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FEA-96B0-4A33-90CC-CDBEE675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C5E-0015-40A9-B7EE-0AA766CC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DD2B-2D7F-42AA-BE44-32DA8C60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AA0C-9CA0-4B60-ABDA-E5405C5B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A09B-BB4F-4E4D-BB58-7C49679D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399E-3233-4C7F-93A1-14200C5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31D8-106C-4858-9D0B-B41498A5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33E3-1572-49E0-A757-90170DC5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5646-DD5F-404B-B49B-C960749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645-1AB5-4CFB-B3CD-4BBEC8D2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C45A-CE82-42FD-B56D-7CB09C7F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4DE-F800-4D9F-B5FA-CB103DC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3F55-100B-4030-944E-7D9F7F6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601-267F-4725-8495-96A6A548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F44-73DD-426F-BE3A-514F35C8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66E2-0244-4CEA-9418-A839CE35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9A0A-ECEE-41A7-B122-B7C71576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AFDF-FCD2-4435-989A-1494AADB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9712-9688-45AC-87C3-E15B661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97F8-B9DC-49E9-B264-39E88F83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4C9-F40B-42D0-882E-658B8276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8FE2-4DAE-40BC-A200-87CFEF7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8809-7614-496E-A547-F0621F16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458D-E4AB-420F-9F4C-4B7BEDA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776A-5921-470C-976C-39D7C90A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2ABA-E32A-4F3C-A6A3-8AF2D36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36F3-BB72-4942-AC35-10E352B7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1530-DCCE-41F8-980D-00AC3D3C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AA50-BA87-48F7-9611-613AA377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7225-A162-40A2-93E0-7D75B988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405C-FF1A-4FE3-A0F5-97D7973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AF4-9D8D-4F9C-BB76-37EED5B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7D3E-AE0F-413F-B886-A58B5A1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4280-03D1-46D9-98A0-8387C92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CCC4-EC91-434C-8A8C-D926D40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2091-1CAB-40FD-9C02-CFA761C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255B-7BFC-4836-AA5A-5F4D44B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C939-84F5-4366-9BA4-E933445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8660-0B9C-4636-90AE-CE5F3E96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EF41-D65C-40FA-9B0F-6CEDE721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01B2-DC5F-41BE-98D4-0C949AE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F47-7F0A-416D-A476-273BA4EB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1B7-8A95-43D8-8DFB-B0D0C9B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388-02DC-452F-8B05-447C09A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BF1-E5E0-4A64-B0F9-33186A2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141-7AC7-401A-806A-7293EFE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807-5CCE-4E4F-BF98-D4FBA7089ED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F361-F396-47B9-B1DA-74C3C2EE6CA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057-A679-40D1-A33A-8F7C15FF09F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4ED-A9A8-45B2-925B-8B70ABB85CA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rondt.ru/informacziya/publikaczii/publikacziya.html?PublishingType=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98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азработка, пересмотр и актуализация справочников НДТ в России и ЕС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лена Василье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7 июля 2020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ТП РФ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ельный анализ процедур разработки, пересмотра и актуализации справочников по наилучшим доступным технологиям в Европейском союзе и Российской Федерации / под ред.Д.О.Скобелева, 2018 г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Объект 5" descr=""/>
          <p:cNvPicPr/>
          <p:nvPr/>
        </p:nvPicPr>
        <p:blipFill>
          <a:blip r:embed="rId1"/>
          <a:stretch/>
        </p:blipFill>
        <p:spPr>
          <a:xfrm>
            <a:off x="4962600" y="1920960"/>
            <a:ext cx="3409920" cy="443376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7" descr=""/>
          <p:cNvPicPr/>
          <p:nvPr/>
        </p:nvPicPr>
        <p:blipFill>
          <a:blip r:embed="rId2"/>
          <a:stretch/>
        </p:blipFill>
        <p:spPr>
          <a:xfrm>
            <a:off x="838080" y="1920960"/>
            <a:ext cx="3202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ределение понятия НД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9907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ED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 «Наилучшие доступные технологии» — наиболее эффективная стадия в развитии видов деятельности и применяемых при их реализации методов эксплуатации, которая указывает на практическую примени­мость особых методов, обеспечивающих основу для достижения пре­дельных значений эмиссий и других условий экологических разреше­ний, применяемых для предотвращения, и где это неприменимо, для снижения эмиссий и воздействия на окружающую среду в цел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9907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З: «…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лучшая доступная технология - технология производства продукции (товаров), выполнения работ, оказания услуг, определяемая на основе современных достижений науки и техники и наилучшего сочетания критериев достижения целей охраны окружающей среды при условии наличия технической возможности ее применения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9612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6854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лючение по НД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язательный документ при выдаче экологических разреш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12 – установлены правила сбора данных, разработк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EF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обеспечения их каче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7960" y="533160"/>
            <a:ext cx="4267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З «О стандартизации в РФ»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нформационно-технический справочник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документ национальной системы стандартизации, утвержденный федеральным органом исполнительной власти в сфере стандартизации, содержащий систематизированные данные в определенной области и включающий в себя описание технологий, процессов, методов, способов, оборудования и иные данные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хнологические показатели – основа для технологических нормативов и получения КЭ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ЕС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хнические эксперты из государств-членов Е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мышленные ассоциации и объеди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логические НП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врокоми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сударственные органы вл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ромышленные предприят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ассоци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ые учрежд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логические НП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Любая организация может претенд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астники ТР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ТРГ: Процесс принятия решени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Е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онно-дискуссионный процесс: вебинары, формирование под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члены ТРГ имеют досту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цип консенсу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ражение 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EF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сей доступной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5998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ение замечаний и предлож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ятие решений большинством голо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бор данн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235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раслевой шабл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дура сбора - 6 месяц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рос дополнительной информации на всех этапа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ступ всех членов ТРГ к анкетам, комментари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бсуж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готовка проекта для обсуждения– 4-6 месяц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5235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раслевой шабл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цедура сбора – 1-2 меся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ение членам ТРГ обработанной информации, комментарии и предлож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проекта для обсуждения – 1-1,5 меся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нд публикаций Бюро НД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burondt.ru/informacziya/publikaczii/publikacziya.html?PublishingType=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Воронович</dc:creator>
  <dc:description/>
  <dc:language>en-US</dc:language>
  <cp:lastModifiedBy>Elena Vasilieva</cp:lastModifiedBy>
  <dcterms:modified xsi:type="dcterms:W3CDTF">2020-07-29T12:11:47Z</dcterms:modified>
  <cp:revision>1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