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CFCA-4941-46B7-9588-A730A8F219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8CAF-0381-45BA-9D4A-4933F5144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21E-3777-4908-9D31-1A5B085B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94A-602E-4F1F-AA55-D925E2A8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720-C790-472A-AC57-C574151E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23F-F10D-412E-A700-2FA82938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FF23-3DA5-4B73-8F60-7D4A8AF9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957F-31F4-42A4-8445-C99712A0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2561-D49F-4DA6-B826-6C4DBE32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D5BE-D11A-4AB5-B5D8-5A0A5016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94AC-4B4E-494F-862F-0E609578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56A-1AFA-4AED-AC05-60840C76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A7EF-44F1-4222-AA26-BB0080A3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18F-8300-4BCB-98A0-70BF098F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2C4F-4616-4F93-83A8-EC7FB095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1483-CD42-415D-B86A-8DB50ED0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3F37-7661-4B98-B9CF-4DC18FF6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7908-2B1A-4803-9B85-F50EF602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280F-2A5D-4F9A-A9AE-C3B548C2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8739-F321-4B2A-B660-21C6DD20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E99D-B163-4B17-81B0-1342F2B5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E16D-BFB5-44CD-A905-EE6CFF97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730C-7605-4602-9F0E-B2461F24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D410D-9C38-46BF-B2AA-F030916E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D34-C0B2-4CE6-BA45-71737277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985B-401E-4120-8707-CEB75C37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BFD5-1E9E-4FCF-9710-B9AE1C6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0985-AC7C-4374-BD6A-2EE61129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7C31-6256-4B6E-9440-06C7EBC8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19E9-431F-41B7-8EF1-F52E7D97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6580-B926-47BE-8642-EE8522F6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50D5-27B3-494F-B548-47882800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5485-C59C-4422-9376-DCFD47AD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88E0D-15F6-4D1F-9C6B-FF2DC1B5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68DB-21DE-4E2C-BBD8-9AC24E9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177-5591-43BC-978C-1390015E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2896-EFAC-4036-90BA-F4995B9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9DD9-0EDB-4F36-AF07-461726EB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0994-F9DD-467C-8859-812BAC63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BFB77-381D-4AAD-90E0-3E52242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EBC4-EB9E-4B03-A025-11CDF1A1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F78F-6C77-4F67-8F84-2F43D97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CBAF-75AE-49CF-BDFA-2DF1216F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36EE-1187-4A0F-A648-D694FC1B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CB22-E25E-4A03-AEC0-BCC04509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79C-BEBD-4031-882C-193A0327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2E6-7941-4341-8852-993E152F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268-B713-4A55-8E8E-166A8E9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7D4-601D-4AE9-BDC7-2CA560A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5CD-749C-4FDD-9645-C7673EC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5725-B500-4CC1-9128-F6F7F693B54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1A0A-252C-4905-9E54-C9F4C1FE65D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30C0-08EE-4256-99AC-CC5F1D8D1B8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679F-4C84-438A-AE48-E31F2BFCC2B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urondt.ru/informacziya/publikaczii/publikacziya.html?PublishingType=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98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азработка, пересмотр и актуализация справочников НДТ в России и ЕС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лена Василье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7 июля 2020 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ТП РФ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тельный анализ процедур разработки, пересмотра и актуализации справочников по наилучшим доступным технологиям в Европейском союзе и Российской Федерации / под ред.Д.О.Скобелева, 2018 г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Объект 5" descr=""/>
          <p:cNvPicPr/>
          <p:nvPr/>
        </p:nvPicPr>
        <p:blipFill>
          <a:blip r:embed="rId1"/>
          <a:stretch/>
        </p:blipFill>
        <p:spPr>
          <a:xfrm>
            <a:off x="4962600" y="1920960"/>
            <a:ext cx="3409920" cy="4433760"/>
          </a:xfrm>
          <a:prstGeom prst="rect">
            <a:avLst/>
          </a:prstGeom>
          <a:ln w="0">
            <a:noFill/>
          </a:ln>
        </p:spPr>
      </p:pic>
      <p:pic>
        <p:nvPicPr>
          <p:cNvPr id="206" name="Объект 7" descr=""/>
          <p:cNvPicPr/>
          <p:nvPr/>
        </p:nvPicPr>
        <p:blipFill>
          <a:blip r:embed="rId2"/>
          <a:stretch/>
        </p:blipFill>
        <p:spPr>
          <a:xfrm>
            <a:off x="838080" y="1920960"/>
            <a:ext cx="3202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пределение понятия НД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9907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ED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: «Наилучшие доступные технологии» — наиболее эффективная стадия в развитии видов деятельности и применяемых при их реализации методов эксплуатации, которая указывает на практическую примени­мость особых методов, обеспечивающих основу для достижения пре­дельных значений эмиссий и других условий экологических разреше­ний, применяемых для предотвращения, и где это неприменимо, для снижения эмиссий и воздействия на окружающую среду в цел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9907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З: «…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лучшая доступная технология - технология производства продукции (товаров), выполнения работ, оказания услуг, определяемая на основе современных достижений науки и техники и наилучшего сочетания критериев достижения целей охраны окружающей среды при условии наличия технической возможности ее применения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9612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6854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лючение по НД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язательный документ при выдаче экологических разреш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012 – установлены правила сбора данных, разработк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EF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обеспечения их каче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7960" y="533160"/>
            <a:ext cx="4267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З «О стандартизации в РФ»: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нформационно-технический справочник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документ национальной системы стандартизации, утвержденный федеральным органом исполнительной власти в сфере стандартизации, содержащий систематизированные данные в определенной области и включающий в себя описание технологий, процессов, методов, способов, оборудования и иные данные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хнологические показатели – основа для технологических нормативов и получения КЭ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716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ЕС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хнические эксперты из государств-членов Е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мышленные ассоциации и объедин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логические НП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врокоми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сударственные органы вла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ромышленные предприят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ассоци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ные учрежд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логические НП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Любая организация может претендо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частники ТР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ТРГ: Процесс принятия решени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Е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онно-дискуссионный процесс: вебинары, формирование подгруп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члены ТРГ имеют досту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нцип консенсу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ражение в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EF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сей доступной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5998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ение замечаний и предлож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нятие решений большинством голо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бор данны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235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раслевой шабл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дура сбора - 6 месяц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рос дополнительной информации на всех этапа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ступ всех членов ТРГ к анкетам, комментарии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бсужд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готовка проекта для обсуждения– 4-6 месяц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5235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раслевой шабл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цедура сбора – 1-2 меся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ение членам ТРГ обработанной информации, комментарии и предлож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проекта для обсуждения – 1-1,5 меся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нд публикаций Бюро НД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burondt.ru/informacziya/publikaczii/publikacziya.html?PublishingType=2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Воронович</dc:creator>
  <dc:description/>
  <dc:language>en-US</dc:language>
  <cp:lastModifiedBy>Elena Vasilieva</cp:lastModifiedBy>
  <dcterms:modified xsi:type="dcterms:W3CDTF">2020-07-29T12:11:47Z</dcterms:modified>
  <cp:revision>1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