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702-7DDF-4AA8-AF68-002F24EC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994-A115-4AE8-92A1-EEDEDF0D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9E0-FAF7-4D9D-B164-CF1CCFED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132-E3C9-463B-9ABE-0FF26246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E0E-B98F-4330-9CF8-AF08F4B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EBF-EF6D-4634-9C14-68DDD0D3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0C8-E4DB-4B4B-845B-6DFA05FD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C7D-CAA5-472F-ADCE-796678EE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FF2-1CAA-4776-B9A2-386A595D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A26-E925-4B21-9DF6-1A8370A4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912-69A7-4F68-AA6A-D00CC74D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734-3954-4775-AE23-15D0E1C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5621-1333-49CA-BF72-153AB1874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с.н., проф. И.А.Сосуно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eeaf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Franklin Gothic Heavy"/>
              </a:rPr>
              <a:t>Новое качество жизни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Franklin Gothic Heavy"/>
              </a:rPr>
              <a:t>устойчивое развитие реги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лавная пробл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необходимость формирования нового социально-экологически ориентированного предприним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характерными чертами которого должны ст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кватное ценностно-эмоциональное отношение к природе и обществ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пецифических знаний и ум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творческой деятельности и креативному мышл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ность к анализу реальных социально-экологических проблем и выработке эффективных реше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Arial"/>
              </a:rPr>
              <a:t>Такое качественное изменение в содержании предпринимательской деятельности требу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 законодательства и нормативной базы природопользования и природо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научно-методических исследо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я «экологически позитивной» корпоратив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я процедур общественного участия в принятии экологически значимы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я коммуникационной сферы (в т.ч. в обла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 экологического образования и просве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а влияния  экологических партий и дв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й в практике деятельности органов вла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Качество жизн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льная характеристика сущности и успешности жизни человека, населения страны, региона, населенного пункта, любой социальной группы или слоя в их субъективных и объективных оцен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?id=291556430-48-72"/>
          <p:cNvPicPr/>
          <p:nvPr/>
        </p:nvPicPr>
        <p:blipFill>
          <a:blip r:embed="rId1"/>
          <a:stretch/>
        </p:blipFill>
        <p:spPr>
          <a:xfrm>
            <a:off x="2556000" y="321300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сновные тенденции развития научных представлений о качестве жи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ерывное расширение номенклатуры показателей качества жизни (в ряде предложенных систем более 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в состав критериев и показателей объективных характеристик окружающей природно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признание необходимости учета субъективной удовлетворенности населения качеством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щая модель качества жизни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Ж=КЖ (КПС; КСС; СОУ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Ж - качество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ПС - качество окружающей природной среды; КСС - качество социаль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УС - субъективная оценка условий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?id=486519385-36-72"/>
          <p:cNvPicPr/>
          <p:nvPr/>
        </p:nvPicPr>
        <p:blipFill>
          <a:blip r:embed="rId1"/>
          <a:stretch/>
        </p:blipFill>
        <p:spPr>
          <a:xfrm>
            <a:off x="2987640" y="4437000"/>
            <a:ext cx="2943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тегрированные блоки показателей качества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циальное благополуч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состоя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?id=443897815-26-72"/>
          <p:cNvPicPr/>
          <p:nvPr/>
        </p:nvPicPr>
        <p:blipFill>
          <a:blip r:embed="rId1"/>
          <a:stretch/>
        </p:blipFill>
        <p:spPr>
          <a:xfrm>
            <a:off x="2843280" y="3933720"/>
            <a:ext cx="30020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Социальное благополучие – прежде всег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solidFill>
            <a:srgbClr val="dedec0"/>
          </a:solidFill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статочная удовлетворённость (приемлемость) качеством жиз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щищенность жизненн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ажных интере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довлетворенность темп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направлением развит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?id=2072de4eaf296a26113dc4ead601975a-16-144&amp;n=21"/>
          <p:cNvPicPr/>
          <p:nvPr/>
        </p:nvPicPr>
        <p:blipFill>
          <a:blip r:embed="rId1"/>
          <a:stretch/>
        </p:blipFill>
        <p:spPr>
          <a:xfrm>
            <a:off x="6659640" y="2924280"/>
            <a:ext cx="1465200" cy="94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Футуристический проект эко-комплекса Water Building Resort"/>
          <p:cNvPicPr/>
          <p:nvPr/>
        </p:nvPicPr>
        <p:blipFill>
          <a:blip r:embed="rId2"/>
          <a:stretch/>
        </p:blipFill>
        <p:spPr>
          <a:xfrm>
            <a:off x="6588000" y="1268280"/>
            <a:ext cx="1432080" cy="107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?id=188725212-29-72&amp;n=17"/>
          <p:cNvPicPr/>
          <p:nvPr/>
        </p:nvPicPr>
        <p:blipFill>
          <a:blip r:embed="rId3"/>
          <a:stretch/>
        </p:blipFill>
        <p:spPr>
          <a:xfrm>
            <a:off x="6732720" y="4221000"/>
            <a:ext cx="14792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ысокое качество жизни обще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остигается ес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высокий жизненный потенциал общества, то есть, абсолютное большинство граждан идентифицируют себя с российским обществом, чувствуют себя в безопасности во всех отношениях, обеспечивается высокое качества жизни отдельного граждан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ы базовые потребности всех членов общества на уровне не ниже минимального социального станда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ся политическая, общественная, предпринимательская, производственная, хозяйственная, научная, культурная деятельность по всем направлениям социально-экономического развития с этапными достижениями, положительно влияющими на качество жизн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олютное большинство населения удовлетворено своей страной и тем, что в ней происходит, испытывает чувство гордости за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ab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граничение, следующее из общей теории динамических сис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быточное расширение вектора параметров моделей состояния чревато практической невозможностью его оценки в связи с ухудшением условий наблюдаемост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?id=410742046-45-72&amp;n=21"/>
          <p:cNvPicPr/>
          <p:nvPr/>
        </p:nvPicPr>
        <p:blipFill>
          <a:blip r:embed="rId1"/>
          <a:stretch/>
        </p:blipFill>
        <p:spPr>
          <a:xfrm>
            <a:off x="3564000" y="1773360"/>
            <a:ext cx="1820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сновные изменения среды предпринимательства, связанные с переходом к устойчивому развит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eeaf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остижение участия широких масс населения в принятии решений, касающихся природо-преобразующе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ориентация экономической системы на менее энерго- и ресурсоемкое производство и справедливое распред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социальной системы в интересах снятия конфликтных ситу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ие образовательной системы, формирующей индивидуальное и общественное экологическое созн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оритет биосферосовместимых технолог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8:14:52Z</dcterms:created>
  <dc:creator>ИАС</dc:creator>
  <dc:description/>
  <dc:language>en-US</dc:language>
  <cp:lastModifiedBy>ПК</cp:lastModifiedBy>
  <dcterms:modified xsi:type="dcterms:W3CDTF">2016-12-04T08:53:57Z</dcterms:modified>
  <cp:revision>9</cp:revision>
  <dc:subject/>
  <dc:title>Д.с.н. И.А.Сосунова, профессор, проректор по науке МНЭПУ</dc:title>
</cp:coreProperties>
</file>