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BF4B-9516-4AA1-9EA0-C936E07B7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37F7-EE78-4F6C-9C85-4580F3EDA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E4A6-8460-4148-A096-0770D0E7E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81D9-8989-484B-97C7-F4109C93C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148B-4A44-421D-ADB1-D21973D65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941D-7FA8-4501-8978-A8152875D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8284-3557-49D5-92D9-B97FC9992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A408-E44B-4959-A4A4-582B27E22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E437-F236-4BA7-9E1C-6DB050CE4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06AE-30AF-4F8C-A4AC-5C3D6B025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EC95-4042-4FEC-B1A3-AEB41F018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7514-4521-440C-BA27-4961A00E4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3239B-91A6-4451-ADD9-D432889BB2D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.с.н., проф. И.А.Сосунова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aeeaf0"/>
          </a:solidFill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0000"/>
                </a:solidFill>
                <a:latin typeface="Franklin Gothic Heavy"/>
              </a:rPr>
              <a:t>Новое качество жизни 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0000"/>
                </a:solidFill>
                <a:latin typeface="Franklin Gothic Heavy"/>
              </a:rPr>
              <a:t>устойчивое развитие регион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сква, 20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Главная проблем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99cc00"/>
                </a:solidFill>
                <a:latin typeface="Arial"/>
              </a:rPr>
              <a:t>необходимость формирования нового социально-экологически ориентированного предпринимател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характерными чертами которого должны стат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♦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декватное ценностно-эмоциональное отношение к природе и обществ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♦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личие специфических знаний и умен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♦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особность к творческой деятельности и креативному мышлению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♦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отовность к анализу реальных социально-экологических проблем и выработке эффективных решений и т.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600" spc="-1" strike="noStrike" u="sng">
                <a:solidFill>
                  <a:srgbClr val="ff0000"/>
                </a:solidFill>
                <a:uFillTx/>
                <a:latin typeface="Arial"/>
              </a:rPr>
              <a:t>Такое качественное изменение в содержании предпринимательской деятельности требует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♦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вития законодательства и нормативной базы природопользования и природоохран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♦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полнения научно-методических исследован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♦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ирования «экологически позитивной» корпоративной культур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♦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вершенствования процедур общественного участия в принятии экологически значимых решен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♦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вершенствования коммуникационной сферы (в т.ч. в област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♦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вития экологического образования и просвещ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♦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оста влияния  экологических партий и движен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♦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менений в практике деятельности органов власти 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Arial"/>
              </a:rPr>
              <a:t>Качество жизн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тегральная характеристика сущности и успешности жизни человека, населения страны, региона, населенного пункта, любой социальной группы или слоя в их субъективных и объективных оценк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i?id=291556430-48-72"/>
          <p:cNvPicPr/>
          <p:nvPr/>
        </p:nvPicPr>
        <p:blipFill>
          <a:blip r:embed="rId1"/>
          <a:stretch/>
        </p:blipFill>
        <p:spPr>
          <a:xfrm>
            <a:off x="2556000" y="3213000"/>
            <a:ext cx="428616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Основные тенденции развития научных представлений о качестве жизн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прерывное расширение номенклатуры показателей качества жизни (в ряде предложенных систем более 100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ключение в состав критериев и показателей объективных характеристик окружающей природной сред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щее признание необходимости учета субъективной удовлетворенности населения качеством жиз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Общая модель качества жизни: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КЖ=КЖ (КПС; КСС; СОУС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гд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Ж - качество жизн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ПС - качество окружающей природной среды; КСС - качество социальной сред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УС - субъективная оценка условий существ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i?id=486519385-36-72"/>
          <p:cNvPicPr/>
          <p:nvPr/>
        </p:nvPicPr>
        <p:blipFill>
          <a:blip r:embed="rId1"/>
          <a:stretch/>
        </p:blipFill>
        <p:spPr>
          <a:xfrm>
            <a:off x="2987640" y="4437000"/>
            <a:ext cx="294336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Интегрированные блоки показателей качества жизн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доровь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социальное благополучие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лагосостояние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i?id=443897815-26-72"/>
          <p:cNvPicPr/>
          <p:nvPr/>
        </p:nvPicPr>
        <p:blipFill>
          <a:blip r:embed="rId1"/>
          <a:stretch/>
        </p:blipFill>
        <p:spPr>
          <a:xfrm>
            <a:off x="2843280" y="3933720"/>
            <a:ext cx="3002040" cy="26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3300"/>
                </a:solidFill>
                <a:latin typeface="Arial"/>
              </a:rPr>
              <a:t>Социальное благополучие – прежде всего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5256360"/>
          </a:xfrm>
          <a:prstGeom prst="rect">
            <a:avLst/>
          </a:prstGeom>
          <a:solidFill>
            <a:srgbClr val="dedec0"/>
          </a:solidFill>
          <a:ln w="0">
            <a:noFill/>
          </a:ln>
        </p:spPr>
        <p:txBody>
          <a:bodyPr anchor="t">
            <a:normAutofit/>
          </a:bodyPr>
          <a:p>
            <a:pPr marL="343080" indent="21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достаточная удовлетворённость (приемлемость) качеством жизни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21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защищенность жизненно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важных интересо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21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удовлетворенность темпам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и направлением развития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i?id=2072de4eaf296a26113dc4ead601975a-16-144&amp;n=21"/>
          <p:cNvPicPr/>
          <p:nvPr/>
        </p:nvPicPr>
        <p:blipFill>
          <a:blip r:embed="rId1"/>
          <a:stretch/>
        </p:blipFill>
        <p:spPr>
          <a:xfrm>
            <a:off x="6659640" y="2924280"/>
            <a:ext cx="1465200" cy="9428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Футуристический проект эко-комплекса Water Building Resort"/>
          <p:cNvPicPr/>
          <p:nvPr/>
        </p:nvPicPr>
        <p:blipFill>
          <a:blip r:embed="rId2"/>
          <a:stretch/>
        </p:blipFill>
        <p:spPr>
          <a:xfrm>
            <a:off x="6588000" y="1268280"/>
            <a:ext cx="1432080" cy="10764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i?id=188725212-29-72&amp;n=17"/>
          <p:cNvPicPr/>
          <p:nvPr/>
        </p:nvPicPr>
        <p:blipFill>
          <a:blip r:embed="rId3"/>
          <a:stretch/>
        </p:blipFill>
        <p:spPr>
          <a:xfrm>
            <a:off x="6732720" y="4221000"/>
            <a:ext cx="1479240" cy="10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Высокое качество жизни обществ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достигается есл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меется высокий жизненный потенциал общества, то есть, абсолютное большинство граждан идентифицируют себя с российским обществом, чувствуют себя в безопасности во всех отношениях, обеспечивается высокое качества жизни отдельного гражданин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довлетворены базовые потребности всех членов общества на уровне не ниже минимального социального стандарт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уществляется политическая, общественная, предпринимательская, производственная, хозяйственная, научная, культурная деятельность по всем направлениям социально-экономического развития с этапными достижениями, положительно влияющими на качество жизни насел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бсолютное большинство населения удовлетворено своей страной и тем, что в ней происходит, испытывает чувство гордости за н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eeab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Ограничение, следующее из общей теории динамических систе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збыточное расширение вектора параметров моделей состояния чревато практической невозможностью его оценки в связи с ухудшением условий наблюдаемости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i?id=410742046-45-72&amp;n=21"/>
          <p:cNvPicPr/>
          <p:nvPr/>
        </p:nvPicPr>
        <p:blipFill>
          <a:blip r:embed="rId1"/>
          <a:stretch/>
        </p:blipFill>
        <p:spPr>
          <a:xfrm>
            <a:off x="3564000" y="1773360"/>
            <a:ext cx="1820880" cy="18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Основные изменения среды предпринимательства, связанные с переходом к устойчивому развитию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aeeaf0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достижение участия широких масс населения в принятии решений, касающихся природо-преобразующей деятель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переориентация экономической системы на менее энерго- и ресурсоемкое производство и справедливое распределен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совершенствование социальной системы в интересах снятия конфликтных ситуац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создание образовательной системы, формирующей индивидуальное и общественное экологическое сознан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приоритет биосферосовместимых технологий и т.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5T18:14:52Z</dcterms:created>
  <dc:creator>ИАС</dc:creator>
  <dc:description/>
  <dc:language>en-US</dc:language>
  <cp:lastModifiedBy>ПК</cp:lastModifiedBy>
  <dcterms:modified xsi:type="dcterms:W3CDTF">2016-12-04T08:53:57Z</dcterms:modified>
  <cp:revision>9</cp:revision>
  <dc:subject/>
  <dc:title>Д.с.н. И.А.Сосунова, профессор, проректор по науке МНЭПУ</dc:title>
</cp:coreProperties>
</file>