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6.jpeg" ContentType="image/jpe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351A-1848-4AFD-8D55-159C666E0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9427-357E-4219-8874-E755C937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09BC-4163-4E19-BADC-75F8AA995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3EBF-8725-458A-86F7-13086B8D6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A13E-B00B-49CC-ABFE-2BC100C50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964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000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964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000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2FF1-E650-4E91-A5F7-79C70F726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B205-1E7B-4133-B5B1-7BE1FB32D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EC7E-4513-4483-A4B1-AE264DE6E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0342-54C2-45C1-A657-D98A76480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2AD7-751F-4A7E-BB51-6C7A61316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0A8D-91B8-4149-90E6-229279846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E692-76A0-4C0C-BB9C-82C6DE9E8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txBody>
          <a:bodyPr lIns="36000" rIns="36000" tIns="36000" bIns="36000" anchor="ctr">
            <a:normAutofit/>
          </a:bodyPr>
          <a:p>
            <a:pPr marL="444600" indent="-35568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7320" indent="-26532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667280" y="6597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4F9-B915-4898-BDDF-10D4A3E7A877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2680" y="6584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txBody>
          <a:bodyPr lIns="36000" rIns="36000" tIns="36000" bIns="36000" anchor="ctr">
            <a:normAutofit/>
          </a:bodyPr>
          <a:p>
            <a:pPr marL="444600" indent="-35568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7320" indent="-26532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3109680"/>
            <a:ext cx="7916760" cy="2082600"/>
          </a:xfrm>
          <a:prstGeom prst="rect">
            <a:avLst/>
          </a:prstGeom>
          <a:solidFill>
            <a:srgbClr val="fffdf3">
              <a:alpha val="60000"/>
            </a:srgbClr>
          </a:solidFill>
          <a:ln w="38160">
            <a:solidFill>
              <a:srgbClr val="ffffff">
                <a:alpha val="70000"/>
              </a:srgbClr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8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502800"/>
                </a:solidFill>
                <a:latin typeface="Impact"/>
              </a:rPr>
              <a:t>Актуальные аспекты деятельности Минприроды России по реализации Национального плана действий по Стокгольмской конвенции о стойких органических загрязнителях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5121360"/>
            <a:ext cx="91440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ироков Павел Николаевич, специали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партамента международного сотрудни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PN@MNR.G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истерство природных ресурсов и экологии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1DE-66BF-4254-AEEA-8782010885AE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19280" y="2556000"/>
            <a:ext cx="7705440" cy="3870360"/>
          </a:xfrm>
          <a:prstGeom prst="ellipse">
            <a:avLst/>
          </a:prstGeom>
          <a:solidFill>
            <a:srgbClr val="829d5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Рчумее 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6908760" y="4433040"/>
            <a:ext cx="144324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чное взаимодействие Сторон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975280" y="1268280"/>
            <a:ext cx="180036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правила работы химической промышлен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672000" y="1268280"/>
            <a:ext cx="180000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законодательств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8"/>
          <p:cNvCxnSpPr/>
          <p:nvPr/>
        </p:nvCxnSpPr>
        <p:spPr>
          <a:xfrm>
            <a:off x="4571640" y="10234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AutoShape 19"/>
          <p:cNvCxnSpPr>
            <a:stCxn id="302" idx="3"/>
            <a:endCxn id="301" idx="1"/>
          </p:cNvCxnSpPr>
          <p:nvPr/>
        </p:nvCxnSpPr>
        <p:spPr>
          <a:xfrm>
            <a:off x="5486040" y="1628280"/>
            <a:ext cx="475560" cy="1080"/>
          </a:xfrm>
          <a:prstGeom prst="straightConnector1">
            <a:avLst/>
          </a:prstGeom>
          <a:ln w="28440">
            <a:solidFill>
              <a:srgbClr val="336600"/>
            </a:solidFill>
            <a:miter/>
            <a:headEnd len="lg" type="triangle" w="med"/>
            <a:tailEnd len="lg" type="triangle" w="med"/>
          </a:ln>
        </p:spPr>
      </p:cxnSp>
      <p:sp>
        <p:nvSpPr>
          <p:cNvPr id="305" name="Rectangle 20"/>
          <p:cNvSpPr/>
          <p:nvPr/>
        </p:nvSpPr>
        <p:spPr>
          <a:xfrm>
            <a:off x="6156360" y="3134160"/>
            <a:ext cx="147636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е с членами  Комитетов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975280" y="5301360"/>
            <a:ext cx="158436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ксимальная открытость и транспарент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1116000" y="5190120"/>
            <a:ext cx="1476360" cy="3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сессионные рабочие групп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1989000"/>
            <a:ext cx="0" cy="576360"/>
          </a:xfrm>
          <a:prstGeom prst="line">
            <a:avLst/>
          </a:prstGeom>
          <a:ln w="28440">
            <a:solidFill>
              <a:srgbClr val="3366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877080" y="1989000"/>
            <a:ext cx="0" cy="935280"/>
          </a:xfrm>
          <a:prstGeom prst="line">
            <a:avLst/>
          </a:prstGeom>
          <a:ln w="28440">
            <a:solidFill>
              <a:srgbClr val="33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79280" y="1233360"/>
            <a:ext cx="2484720" cy="1754280"/>
          </a:xfrm>
          <a:prstGeom prst="rect">
            <a:avLst/>
          </a:prstGeom>
          <a:solidFill>
            <a:srgbClr val="f0e7b8">
              <a:alpha val="60000"/>
            </a:srgbClr>
          </a:solidFill>
          <a:ln w="38160">
            <a:solidFill>
              <a:srgbClr val="e8d99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ctr">
            <a:noAutofit/>
          </a:bodyPr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тет по рассмотрению СОЗ Стокголь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тет по рассмотрению химических веществ Роттерда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 цент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иональный координационный центр РФ по Стокголь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3600360" y="4078440"/>
            <a:ext cx="1908360" cy="958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ff9900"/>
              </a:gs>
              <a:gs pos="100000">
                <a:srgbClr val="cc0000"/>
              </a:gs>
            </a:gsLst>
            <a:lin ang="18900000"/>
          </a:gra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инергия химических конвенц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/>
          <p:cNvSpPr/>
          <p:nvPr/>
        </p:nvSpPr>
        <p:spPr>
          <a:xfrm rot="10800000">
            <a:off x="2157120" y="3760920"/>
            <a:ext cx="4647960" cy="2022480"/>
          </a:xfrm>
          <a:custGeom>
            <a:avLst/>
            <a:gdLst>
              <a:gd name="textAreaLeft" fmla="*/ 680400 w 4647960"/>
              <a:gd name="textAreaRight" fmla="*/ 3967560 w 4647960"/>
              <a:gd name="textAreaTop" fmla="*/ 295920 h 2022480"/>
              <a:gd name="textAreaBottom" fmla="*/ 1726560 h 2022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904" y="5399"/>
                  <a:pt x="5524" y="7683"/>
                  <a:pt x="5404" y="10575"/>
                </a:cubicBezTo>
                <a:lnTo>
                  <a:pt x="9" y="10351"/>
                </a:lnTo>
                <a:cubicBezTo>
                  <a:pt x="249" y="4566"/>
                  <a:pt x="500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0e7b8"/>
              </a:gs>
              <a:gs pos="100000">
                <a:srgbClr val="ddcb72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 rot="10800000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flipH="1" flipV="1" rot="10800000">
            <a:off x="2157840" y="3270240"/>
            <a:ext cx="4645080" cy="202248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295920 h 2022480"/>
              <a:gd name="textAreaBottom" fmla="*/ 1726560 h 2022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904" y="5399"/>
                  <a:pt x="5524" y="7683"/>
                  <a:pt x="5404" y="10575"/>
                </a:cubicBezTo>
                <a:lnTo>
                  <a:pt x="9" y="10351"/>
                </a:lnTo>
                <a:cubicBezTo>
                  <a:pt x="249" y="4566"/>
                  <a:pt x="500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28720" y="4182120"/>
            <a:ext cx="1295280" cy="3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тактные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рупп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2735280" y="3447720"/>
            <a:ext cx="35305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ый обмен информацие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727360" y="5277240"/>
            <a:ext cx="3689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ботка технических документов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овместны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Роль и место Национального координационного центра во взаимодействии с научными  вспомогательными органами Конвенции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18" name="Прямоугольник 21"/>
          <p:cNvSpPr/>
          <p:nvPr/>
        </p:nvSpPr>
        <p:spPr>
          <a:xfrm>
            <a:off x="503280" y="6237360"/>
            <a:ext cx="795636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жно: выработка единой позиции по вопросам синергической политики в рамках химических  Конвенций Минприроды России совместно с 19 ФОИВ и реализация совместного плана действий в этом направлен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27"/>
          <p:cNvSpPr/>
          <p:nvPr/>
        </p:nvSpPr>
        <p:spPr>
          <a:xfrm>
            <a:off x="185760" y="981000"/>
            <a:ext cx="8753400" cy="5286600"/>
          </a:xfrm>
          <a:prstGeom prst="rect">
            <a:avLst/>
          </a:prstGeom>
          <a:solidFill>
            <a:srgbClr val="ffffff">
              <a:alpha val="27000"/>
            </a:srgbClr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  <a:ea typeface="ＭＳ Ｐゴシック"/>
              </a:rPr>
              <a:t>Концепция системы управления охраной окружающей среды 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Impact"/>
                <a:ea typeface="ＭＳ Ｐゴシック"/>
              </a:rPr>
              <a:t>(проект)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488880" y="1928880"/>
            <a:ext cx="6529320" cy="2928960"/>
          </a:xfrm>
          <a:prstGeom prst="rect">
            <a:avLst/>
          </a:prstGeom>
          <a:solidFill>
            <a:srgbClr val="33cc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2595600" y="3071880"/>
            <a:ext cx="3890880" cy="157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7"/>
          <p:cNvSpPr/>
          <p:nvPr/>
        </p:nvSpPr>
        <p:spPr>
          <a:xfrm>
            <a:off x="3021120" y="3433680"/>
            <a:ext cx="1582560" cy="126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ЕК АСУФР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система управления финансовыми и материально-техническими ресурсами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4670280" y="3433680"/>
            <a:ext cx="1582920" cy="11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ЕК АСУТР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система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я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удовыми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есурс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2252520" y="2195640"/>
            <a:ext cx="4614840" cy="5000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 BW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аналитической отчетнос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Двойная стрелка вверх/вниз 10"/>
          <p:cNvSpPr/>
          <p:nvPr/>
        </p:nvSpPr>
        <p:spPr>
          <a:xfrm>
            <a:off x="4489560" y="2714760"/>
            <a:ext cx="263520" cy="357120"/>
          </a:xfrm>
          <a:prstGeom prst="up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3171960" y="3143160"/>
            <a:ext cx="2892240" cy="214560"/>
          </a:xfrm>
          <a:prstGeom prst="rect">
            <a:avLst/>
          </a:prstGeom>
          <a:solidFill>
            <a:srgbClr val="7575d1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 ER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2"/>
          <p:cNvSpPr/>
          <p:nvPr/>
        </p:nvSpPr>
        <p:spPr>
          <a:xfrm>
            <a:off x="600120" y="2214720"/>
            <a:ext cx="1252440" cy="25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СУ ООС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(система управления охраной окружающей среды)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Двойная стрелка вверх/вниз 13"/>
          <p:cNvSpPr/>
          <p:nvPr/>
        </p:nvSpPr>
        <p:spPr>
          <a:xfrm rot="5400000">
            <a:off x="1910880" y="2298600"/>
            <a:ext cx="285840" cy="33012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Двойная стрелка вверх/вниз 14"/>
          <p:cNvSpPr/>
          <p:nvPr/>
        </p:nvSpPr>
        <p:spPr>
          <a:xfrm rot="5400000">
            <a:off x="2067120" y="3561480"/>
            <a:ext cx="285840" cy="592200"/>
          </a:xfrm>
          <a:prstGeom prst="upDownArrow">
            <a:avLst>
              <a:gd name="adj1" fmla="val 50000"/>
              <a:gd name="adj2" fmla="val 4999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5"/>
          <p:cNvSpPr/>
          <p:nvPr/>
        </p:nvSpPr>
        <p:spPr>
          <a:xfrm>
            <a:off x="7250040" y="2233440"/>
            <a:ext cx="1254240" cy="250056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нешние системы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Двойная стрелка вверх/вниз 16"/>
          <p:cNvSpPr/>
          <p:nvPr/>
        </p:nvSpPr>
        <p:spPr>
          <a:xfrm rot="5400000">
            <a:off x="6895440" y="2279520"/>
            <a:ext cx="285840" cy="33012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Двойная стрелка вверх/вниз 17"/>
          <p:cNvSpPr/>
          <p:nvPr/>
        </p:nvSpPr>
        <p:spPr>
          <a:xfrm rot="5400000">
            <a:off x="6753960" y="3628440"/>
            <a:ext cx="285840" cy="5918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8"/>
          <p:cNvSpPr/>
          <p:nvPr/>
        </p:nvSpPr>
        <p:spPr>
          <a:xfrm>
            <a:off x="3475080" y="942840"/>
            <a:ext cx="2306520" cy="85752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Единая АСУЭ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инприроды России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войная стрелка вверх/вниз 19"/>
          <p:cNvSpPr/>
          <p:nvPr/>
        </p:nvSpPr>
        <p:spPr>
          <a:xfrm>
            <a:off x="4489560" y="1828800"/>
            <a:ext cx="263520" cy="357120"/>
          </a:xfrm>
          <a:prstGeom prst="up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Прямоугольник 20"/>
          <p:cNvGrpSpPr/>
          <p:nvPr/>
        </p:nvGrpSpPr>
        <p:grpSpPr>
          <a:xfrm>
            <a:off x="469800" y="5200560"/>
            <a:ext cx="8161560" cy="895320"/>
            <a:chOff x="469800" y="5200560"/>
            <a:chExt cx="8161560" cy="895320"/>
          </a:xfrm>
        </p:grpSpPr>
        <p:pic>
          <p:nvPicPr>
            <p:cNvPr id="337" name="Прямоугольник 20" descr=""/>
            <p:cNvPicPr/>
            <p:nvPr/>
          </p:nvPicPr>
          <p:blipFill>
            <a:blip r:embed="rId1"/>
            <a:stretch/>
          </p:blipFill>
          <p:spPr>
            <a:xfrm>
              <a:off x="469800" y="5200560"/>
              <a:ext cx="816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33520" y="5234040"/>
              <a:ext cx="80438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1"/>
          <p:cNvSpPr/>
          <p:nvPr/>
        </p:nvSpPr>
        <p:spPr>
          <a:xfrm>
            <a:off x="3441240" y="5324400"/>
            <a:ext cx="241344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NetWeaver PI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е потоками данных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тегрированная ши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Двойная стрелка вверх/вниз 22"/>
          <p:cNvSpPr/>
          <p:nvPr/>
        </p:nvSpPr>
        <p:spPr>
          <a:xfrm>
            <a:off x="4506840" y="4714920"/>
            <a:ext cx="265320" cy="5000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3"/>
          <p:cNvSpPr/>
          <p:nvPr/>
        </p:nvSpPr>
        <p:spPr>
          <a:xfrm>
            <a:off x="6203880" y="5319720"/>
            <a:ext cx="207972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NetWeav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 port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Портал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4"/>
          <p:cNvSpPr/>
          <p:nvPr/>
        </p:nvSpPr>
        <p:spPr>
          <a:xfrm>
            <a:off x="797040" y="5310360"/>
            <a:ext cx="210960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е НС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войная стрелка вверх/вниз 25"/>
          <p:cNvSpPr/>
          <p:nvPr/>
        </p:nvSpPr>
        <p:spPr>
          <a:xfrm>
            <a:off x="7721640" y="4714920"/>
            <a:ext cx="263520" cy="500040"/>
          </a:xfrm>
          <a:prstGeom prst="upDownArrow">
            <a:avLst>
              <a:gd name="adj1" fmla="val 50000"/>
              <a:gd name="adj2" fmla="val 49995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войная стрелка вверх/вниз 26"/>
          <p:cNvSpPr/>
          <p:nvPr/>
        </p:nvSpPr>
        <p:spPr>
          <a:xfrm>
            <a:off x="1077840" y="4714920"/>
            <a:ext cx="265320" cy="5000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8"/>
          <p:cNvSpPr/>
          <p:nvPr/>
        </p:nvSpPr>
        <p:spPr>
          <a:xfrm>
            <a:off x="682560" y="2300400"/>
            <a:ext cx="1055880" cy="500040"/>
          </a:xfrm>
          <a:prstGeom prst="rect">
            <a:avLst/>
          </a:prstGeom>
          <a:solidFill>
            <a:srgbClr val="7575d1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EHS E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Impact"/>
              </a:rPr>
              <a:t>Управление реализацией мероприятий Национального плана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pic>
        <p:nvPicPr>
          <p:cNvPr id="347" name="Object 3" descr=""/>
          <p:cNvPicPr/>
          <p:nvPr/>
        </p:nvPicPr>
        <p:blipFill>
          <a:blip r:embed="rId1"/>
          <a:stretch/>
        </p:blipFill>
        <p:spPr>
          <a:xfrm>
            <a:off x="3203640" y="3801960"/>
            <a:ext cx="2735280" cy="1662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1979640" y="3213000"/>
            <a:ext cx="1871640" cy="115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ирование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ка зада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5499000" y="3213000"/>
            <a:ext cx="1665360" cy="115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508720" y="5084640"/>
            <a:ext cx="1655640" cy="911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2050920" y="5133960"/>
            <a:ext cx="1719360" cy="816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8"/>
          <p:cNvCxnSpPr>
            <a:stCxn id="348" idx="3"/>
            <a:endCxn id="349" idx="1"/>
          </p:cNvCxnSpPr>
          <p:nvPr/>
        </p:nvCxnSpPr>
        <p:spPr>
          <a:xfrm>
            <a:off x="3850920" y="3789000"/>
            <a:ext cx="1648440" cy="1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3" name="AutoShape 9"/>
          <p:cNvCxnSpPr>
            <a:stCxn id="349" idx="2"/>
            <a:endCxn id="350" idx="0"/>
          </p:cNvCxnSpPr>
          <p:nvPr/>
        </p:nvCxnSpPr>
        <p:spPr>
          <a:xfrm>
            <a:off x="6332400" y="4365360"/>
            <a:ext cx="5760" cy="71964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4" name="AutoShape 10"/>
          <p:cNvCxnSpPr>
            <a:stCxn id="350" idx="1"/>
            <a:endCxn id="351" idx="3"/>
          </p:cNvCxnSpPr>
          <p:nvPr/>
        </p:nvCxnSpPr>
        <p:spPr>
          <a:xfrm flipH="1">
            <a:off x="3769560" y="5540400"/>
            <a:ext cx="1739160" cy="21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5" name="AutoShape 11"/>
          <p:cNvCxnSpPr>
            <a:stCxn id="351" idx="0"/>
            <a:endCxn id="348" idx="2"/>
          </p:cNvCxnSpPr>
          <p:nvPr/>
        </p:nvCxnSpPr>
        <p:spPr>
          <a:xfrm flipV="1">
            <a:off x="2911320" y="4365360"/>
            <a:ext cx="5760" cy="7689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356" name="Text Box 12"/>
          <p:cNvSpPr/>
          <p:nvPr/>
        </p:nvSpPr>
        <p:spPr>
          <a:xfrm>
            <a:off x="34920" y="3238560"/>
            <a:ext cx="1835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евые и региональные план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ограммы субъектов Российской Феде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лотные проект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7236000" y="3213000"/>
            <a:ext cx="1752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помощ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струментов и ресурс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7299360" y="5265720"/>
            <a:ext cx="18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и анализ отклон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79280" y="5991120"/>
            <a:ext cx="44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совещания по результатам оценки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причин отклонений и корректировка план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 flipH="1">
            <a:off x="3419280" y="2552760"/>
            <a:ext cx="20520" cy="6602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3"/>
          <p:cNvSpPr/>
          <p:nvPr/>
        </p:nvSpPr>
        <p:spPr>
          <a:xfrm>
            <a:off x="108000" y="1380960"/>
            <a:ext cx="2376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План действ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8"/>
          <p:cNvSpPr/>
          <p:nvPr/>
        </p:nvSpPr>
        <p:spPr>
          <a:xfrm>
            <a:off x="2556000" y="1844640"/>
            <a:ext cx="71892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9"/>
          <p:cNvSpPr/>
          <p:nvPr/>
        </p:nvSpPr>
        <p:spPr>
          <a:xfrm>
            <a:off x="1258920" y="2492280"/>
            <a:ext cx="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3332160" y="1274760"/>
            <a:ext cx="20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тратегия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анка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2"/>
          <p:cNvSpPr/>
          <p:nvPr/>
        </p:nvSpPr>
        <p:spPr>
          <a:xfrm>
            <a:off x="3330720" y="1311120"/>
            <a:ext cx="3322440" cy="12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ратегии, направленные на выполнение обязательств Стокгольмской конвенц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Обеспечение научных исследований в области СОЗ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6E32-C593-4012-AFF3-09959D06B1A6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13"/>
          <p:cNvGrpSpPr/>
          <p:nvPr/>
        </p:nvGrpSpPr>
        <p:grpSpPr>
          <a:xfrm>
            <a:off x="358920" y="1197000"/>
            <a:ext cx="8785080" cy="5398920"/>
            <a:chOff x="358920" y="1197000"/>
            <a:chExt cx="8785080" cy="5398920"/>
          </a:xfrm>
        </p:grpSpPr>
        <p:pic>
          <p:nvPicPr>
            <p:cNvPr id="369" name="Picture 2" descr="C:\Documents and Settings\filippowa-tw\Рабочий стол\картинки\Рисунок2.jpg"/>
            <p:cNvPicPr/>
            <p:nvPr/>
          </p:nvPicPr>
          <p:blipFill>
            <a:blip r:embed="rId1"/>
            <a:stretch/>
          </p:blipFill>
          <p:spPr>
            <a:xfrm>
              <a:off x="358920" y="1197000"/>
              <a:ext cx="393804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Заголовок 1"/>
            <p:cNvSpPr/>
            <p:nvPr/>
          </p:nvSpPr>
          <p:spPr>
            <a:xfrm>
              <a:off x="4716360" y="1412640"/>
              <a:ext cx="4427640" cy="49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</a:rPr>
                <a:t>Стратегическая цель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сследования токсического действия  определение методов их определения в различных средах, мер профилактики и средств защиты, антропогенных источников их поступления в окружающую среду.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новные ресурсы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едеральный бюджет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юджеты субъектов Российской Федераци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осударственные программ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нируемый вспомогательный ресурс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влеченные средства  на реализацию проектов в рамках ЮНЕП и химических конвенци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2d7534"/>
                  </a:solidFill>
                  <a:latin typeface="Impact"/>
                </a:rPr>
                <a:t>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Заголовок 1"/>
          <p:cNvSpPr/>
          <p:nvPr/>
        </p:nvSpPr>
        <p:spPr>
          <a:xfrm>
            <a:off x="1052640" y="152280"/>
            <a:ext cx="8243640" cy="9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Impact"/>
              </a:rPr>
              <a:t>Сотрудничество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11F-C6FC-43FB-B913-2C4651CB3D4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4572000" y="2224080"/>
            <a:ext cx="392436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014A-1E1E-4AEF-ADEE-A73F9A44C6E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1008000" y="2347920"/>
            <a:ext cx="4969080" cy="252108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lvl="1" marL="361800" indent="-182520"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Спасибо за внимание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D:\2011\Клипарт\12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80000" y="2214720"/>
            <a:ext cx="244980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FDC-7D6F-483D-A42B-DE9DF5A9D555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464-0564-4FCF-A9E0-92EC2B6456E5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8001000" y="6705720"/>
            <a:ext cx="1143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01C-D274-4507-8C5B-738EB2BB1F87}" type="slidenum"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Модель 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стратегического планирования реализации положений Стокгольмской конвенции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grpSp>
        <p:nvGrpSpPr>
          <p:cNvPr id="86" name="Rectangle 4"/>
          <p:cNvGrpSpPr/>
          <p:nvPr/>
        </p:nvGrpSpPr>
        <p:grpSpPr>
          <a:xfrm>
            <a:off x="3670200" y="1262160"/>
            <a:ext cx="1981440" cy="573120"/>
            <a:chOff x="3670200" y="1262160"/>
            <a:chExt cx="1981440" cy="573120"/>
          </a:xfrm>
        </p:grpSpPr>
        <p:pic>
          <p:nvPicPr>
            <p:cNvPr id="87" name="Rectangle 4" descr=""/>
            <p:cNvPicPr/>
            <p:nvPr/>
          </p:nvPicPr>
          <p:blipFill>
            <a:blip r:embed="rId1"/>
            <a:stretch/>
          </p:blipFill>
          <p:spPr>
            <a:xfrm>
              <a:off x="3670200" y="1262160"/>
              <a:ext cx="19814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95760" y="1290600"/>
              <a:ext cx="19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идение. Миссия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енност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ectangle 5"/>
          <p:cNvGrpSpPr/>
          <p:nvPr/>
        </p:nvGrpSpPr>
        <p:grpSpPr>
          <a:xfrm>
            <a:off x="3670200" y="2755800"/>
            <a:ext cx="1987560" cy="577800"/>
            <a:chOff x="3670200" y="2755800"/>
            <a:chExt cx="1987560" cy="577800"/>
          </a:xfrm>
        </p:grpSpPr>
        <p:pic>
          <p:nvPicPr>
            <p:cNvPr id="90" name="Rectangle 5" descr=""/>
            <p:cNvPicPr/>
            <p:nvPr/>
          </p:nvPicPr>
          <p:blipFill>
            <a:blip r:embed="rId2"/>
            <a:stretch/>
          </p:blipFill>
          <p:spPr>
            <a:xfrm>
              <a:off x="3670200" y="2755800"/>
              <a:ext cx="198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693960" y="2784600"/>
              <a:ext cx="194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е  цел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6"/>
          <p:cNvGrpSpPr/>
          <p:nvPr/>
        </p:nvGrpSpPr>
        <p:grpSpPr>
          <a:xfrm>
            <a:off x="3840120" y="4230720"/>
            <a:ext cx="1658880" cy="573120"/>
            <a:chOff x="3840120" y="4230720"/>
            <a:chExt cx="1658880" cy="57312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3840120" y="4230720"/>
              <a:ext cx="1658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867120" y="4257720"/>
              <a:ext cx="161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е приоритет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3657600" y="3535200"/>
            <a:ext cx="1987560" cy="573120"/>
            <a:chOff x="3657600" y="3535200"/>
            <a:chExt cx="1987560" cy="57312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3657600" y="3535200"/>
              <a:ext cx="19875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83160" y="3562200"/>
              <a:ext cx="194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й анализ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ectangle 8"/>
          <p:cNvGrpSpPr/>
          <p:nvPr/>
        </p:nvGrpSpPr>
        <p:grpSpPr>
          <a:xfrm>
            <a:off x="1987560" y="4267080"/>
            <a:ext cx="1603440" cy="785880"/>
            <a:chOff x="1987560" y="4267080"/>
            <a:chExt cx="1603440" cy="785880"/>
          </a:xfrm>
        </p:grpSpPr>
        <p:pic>
          <p:nvPicPr>
            <p:cNvPr id="99" name="Rectangle 8" descr=""/>
            <p:cNvPicPr/>
            <p:nvPr/>
          </p:nvPicPr>
          <p:blipFill>
            <a:blip r:embed="rId5"/>
            <a:stretch/>
          </p:blipFill>
          <p:spPr>
            <a:xfrm>
              <a:off x="1987560" y="4267080"/>
              <a:ext cx="1603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016000" y="4292640"/>
              <a:ext cx="15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иагностика внешней среды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ectangle 9"/>
          <p:cNvGrpSpPr/>
          <p:nvPr/>
        </p:nvGrpSpPr>
        <p:grpSpPr>
          <a:xfrm>
            <a:off x="5699160" y="4121280"/>
            <a:ext cx="1596960" cy="1000080"/>
            <a:chOff x="5699160" y="4121280"/>
            <a:chExt cx="1596960" cy="1000080"/>
          </a:xfrm>
        </p:grpSpPr>
        <p:pic>
          <p:nvPicPr>
            <p:cNvPr id="102" name="Rectangle 9" descr=""/>
            <p:cNvPicPr/>
            <p:nvPr/>
          </p:nvPicPr>
          <p:blipFill>
            <a:blip r:embed="rId6"/>
            <a:stretch/>
          </p:blipFill>
          <p:spPr>
            <a:xfrm>
              <a:off x="5699160" y="4121280"/>
              <a:ext cx="159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724360" y="4149720"/>
              <a:ext cx="155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иагностика внутренней сред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0"/>
          <p:cNvSpPr/>
          <p:nvPr/>
        </p:nvSpPr>
        <p:spPr>
          <a:xfrm flipH="1">
            <a:off x="4597560" y="1808280"/>
            <a:ext cx="1080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608360" y="3311640"/>
            <a:ext cx="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572000" y="41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572000" y="4797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H="1">
            <a:off x="5435280" y="447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564000" y="45450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H="1">
            <a:off x="1763280" y="45813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763640" y="458136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1763640" y="5337000"/>
            <a:ext cx="21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7273800" y="447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7632720" y="4473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5400720" y="5300640"/>
            <a:ext cx="224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Rectangle 22"/>
          <p:cNvGrpSpPr/>
          <p:nvPr/>
        </p:nvGrpSpPr>
        <p:grpSpPr>
          <a:xfrm>
            <a:off x="3859200" y="5022720"/>
            <a:ext cx="1603440" cy="573120"/>
            <a:chOff x="3859200" y="5022720"/>
            <a:chExt cx="1603440" cy="573120"/>
          </a:xfrm>
        </p:grpSpPr>
        <p:pic>
          <p:nvPicPr>
            <p:cNvPr id="117" name="Rectangle 22" descr=""/>
            <p:cNvPicPr/>
            <p:nvPr/>
          </p:nvPicPr>
          <p:blipFill>
            <a:blip r:embed="rId7"/>
            <a:stretch/>
          </p:blipFill>
          <p:spPr>
            <a:xfrm>
              <a:off x="3859200" y="5022720"/>
              <a:ext cx="16034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87640" y="5049720"/>
              <a:ext cx="155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грамма действи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24"/>
          <p:cNvGrpSpPr/>
          <p:nvPr/>
        </p:nvGrpSpPr>
        <p:grpSpPr>
          <a:xfrm>
            <a:off x="1523880" y="5668920"/>
            <a:ext cx="6162840" cy="787320"/>
            <a:chOff x="1523880" y="5668920"/>
            <a:chExt cx="6162840" cy="787320"/>
          </a:xfrm>
        </p:grpSpPr>
        <p:pic>
          <p:nvPicPr>
            <p:cNvPr id="120" name="Rectangle 24" descr=""/>
            <p:cNvPicPr/>
            <p:nvPr/>
          </p:nvPicPr>
          <p:blipFill>
            <a:blip r:embed="rId8"/>
            <a:stretch/>
          </p:blipFill>
          <p:spPr>
            <a:xfrm>
              <a:off x="1523880" y="5668920"/>
              <a:ext cx="61628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47640" y="5700600"/>
              <a:ext cx="612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ализация и развитие требований, вытекающих из положений Стокгольмской конвенции – стратегическая задача 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инприроды Росс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25"/>
          <p:cNvGrpSpPr/>
          <p:nvPr/>
        </p:nvGrpSpPr>
        <p:grpSpPr>
          <a:xfrm>
            <a:off x="669960" y="1901880"/>
            <a:ext cx="1573200" cy="384120"/>
            <a:chOff x="669960" y="1901880"/>
            <a:chExt cx="1573200" cy="384120"/>
          </a:xfrm>
        </p:grpSpPr>
        <p:pic>
          <p:nvPicPr>
            <p:cNvPr id="123" name="AutoShape 25" descr=""/>
            <p:cNvPicPr/>
            <p:nvPr/>
          </p:nvPicPr>
          <p:blipFill>
            <a:blip r:embed="rId9"/>
            <a:stretch/>
          </p:blipFill>
          <p:spPr>
            <a:xfrm>
              <a:off x="669960" y="1901880"/>
              <a:ext cx="15732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12800" y="1943640"/>
              <a:ext cx="14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26"/>
          <p:cNvGrpSpPr/>
          <p:nvPr/>
        </p:nvGrpSpPr>
        <p:grpSpPr>
          <a:xfrm>
            <a:off x="298440" y="2395440"/>
            <a:ext cx="2468520" cy="384120"/>
            <a:chOff x="298440" y="2395440"/>
            <a:chExt cx="2468520" cy="384120"/>
          </a:xfrm>
        </p:grpSpPr>
        <p:pic>
          <p:nvPicPr>
            <p:cNvPr id="126" name="AutoShape 26" descr=""/>
            <p:cNvPicPr/>
            <p:nvPr/>
          </p:nvPicPr>
          <p:blipFill>
            <a:blip r:embed="rId10"/>
            <a:stretch/>
          </p:blipFill>
          <p:spPr>
            <a:xfrm>
              <a:off x="298440" y="2395440"/>
              <a:ext cx="24685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8040" y="2435760"/>
              <a:ext cx="23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фессионализм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27"/>
          <p:cNvGrpSpPr/>
          <p:nvPr/>
        </p:nvGrpSpPr>
        <p:grpSpPr>
          <a:xfrm>
            <a:off x="334800" y="2895480"/>
            <a:ext cx="2432160" cy="384120"/>
            <a:chOff x="334800" y="2895480"/>
            <a:chExt cx="2432160" cy="384120"/>
          </a:xfrm>
        </p:grpSpPr>
        <p:pic>
          <p:nvPicPr>
            <p:cNvPr id="129" name="AutoShape 27" descr=""/>
            <p:cNvPicPr/>
            <p:nvPr/>
          </p:nvPicPr>
          <p:blipFill>
            <a:blip r:embed="rId11"/>
            <a:stretch/>
          </p:blipFill>
          <p:spPr>
            <a:xfrm>
              <a:off x="334800" y="2895480"/>
              <a:ext cx="2432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74760" y="293868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чност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28"/>
          <p:cNvGrpSpPr/>
          <p:nvPr/>
        </p:nvGrpSpPr>
        <p:grpSpPr>
          <a:xfrm>
            <a:off x="334800" y="3438360"/>
            <a:ext cx="2432160" cy="384480"/>
            <a:chOff x="334800" y="3438360"/>
            <a:chExt cx="2432160" cy="384480"/>
          </a:xfrm>
        </p:grpSpPr>
        <p:pic>
          <p:nvPicPr>
            <p:cNvPr id="132" name="AutoShape 28" descr=""/>
            <p:cNvPicPr/>
            <p:nvPr/>
          </p:nvPicPr>
          <p:blipFill>
            <a:blip r:embed="rId12"/>
            <a:stretch/>
          </p:blipFill>
          <p:spPr>
            <a:xfrm>
              <a:off x="334800" y="3438360"/>
              <a:ext cx="243216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74760" y="348012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зультативност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29"/>
          <p:cNvSpPr/>
          <p:nvPr/>
        </p:nvSpPr>
        <p:spPr>
          <a:xfrm flipH="1">
            <a:off x="178920" y="20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179280" y="2097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16000" y="360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2"/>
          <p:cNvSpPr/>
          <p:nvPr/>
        </p:nvSpPr>
        <p:spPr>
          <a:xfrm>
            <a:off x="1792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3"/>
          <p:cNvSpPr/>
          <p:nvPr/>
        </p:nvSpPr>
        <p:spPr>
          <a:xfrm>
            <a:off x="179280" y="26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179280" y="306864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4643280" y="558972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62"/>
          <p:cNvCxnSpPr/>
          <p:nvPr/>
        </p:nvCxnSpPr>
        <p:spPr>
          <a:xfrm flipV="1" rot="10800000">
            <a:off x="1459800" y="1549440"/>
            <a:ext cx="2235600" cy="35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7E8-0139-4E5D-A2C3-1CED39DAE97F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946080"/>
            <a:ext cx="8856720" cy="547236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marL="444600" indent="-3556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Impact"/>
              </a:rPr>
              <a:t>Особенности реализации положений Стокгольмской конвенции о стойких органических загрязнителях в Российской Федерации</a:t>
            </a:r>
            <a:endParaRPr b="0" lang="en-US" sz="1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52360" y="262404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актуализированность информации о реальных запасах ПХБ и их содержании в электротехническом оборудован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52360" y="340992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аттестованных и аккредитованных лабораторий для проведения аттестации оборудования, содержащего аналоги  ПХБ-содержащих масел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 flipH="1">
            <a:off x="2591640" y="1738440"/>
            <a:ext cx="360360" cy="1260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"/>
          <p:cNvSpPr/>
          <p:nvPr/>
        </p:nvSpPr>
        <p:spPr>
          <a:xfrm flipH="1">
            <a:off x="2591640" y="1773360"/>
            <a:ext cx="360360" cy="2017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252360" y="498168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экспертного сравнительного анализа методов обращения с СОЗ для выбора технологий их утил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263520" y="5729400"/>
            <a:ext cx="230364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к технических мощностей  и квалифицированных кадров для утил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252360" y="419580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чность мер мониторинга и прогнозирования экологической безопасности на территориях, загрязненных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 flipH="1">
            <a:off x="2591640" y="1700280"/>
            <a:ext cx="360360" cy="2846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846160"/>
              <a:gd name="textAreaBottom" fmla="*/ 2846520 h 28461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 flipH="1">
            <a:off x="2591640" y="1773360"/>
            <a:ext cx="360360" cy="3565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"/>
          <p:cNvSpPr/>
          <p:nvPr/>
        </p:nvSpPr>
        <p:spPr>
          <a:xfrm flipH="1">
            <a:off x="2591640" y="1736640"/>
            <a:ext cx="360360" cy="43578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4357800"/>
              <a:gd name="textAreaBottom" fmla="*/ 4358160 h 435780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213000" y="183816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ведение требования по инструментальной инвентаризации ПХБ-содержащих материалов и оборудова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213000" y="262404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методических указаний по проведению инвентар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3213000" y="340992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едение нормативных требований обращения с ПХБ-содержащим оборудованием , выявленным в ходе инвентар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"/>
          <p:cNvSpPr/>
          <p:nvPr/>
        </p:nvSpPr>
        <p:spPr>
          <a:xfrm flipH="1">
            <a:off x="5552280" y="1738440"/>
            <a:ext cx="360360" cy="1260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8"/>
          <p:cNvSpPr/>
          <p:nvPr/>
        </p:nvSpPr>
        <p:spPr>
          <a:xfrm flipH="1">
            <a:off x="5552280" y="1738440"/>
            <a:ext cx="360360" cy="468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9"/>
          <p:cNvSpPr/>
          <p:nvPr/>
        </p:nvSpPr>
        <p:spPr>
          <a:xfrm flipH="1">
            <a:off x="5552280" y="1773360"/>
            <a:ext cx="360360" cy="2017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213000" y="498168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Стандарта организации в части управления опасными отходами, в том числе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1"/>
          <p:cNvSpPr/>
          <p:nvPr/>
        </p:nvSpPr>
        <p:spPr>
          <a:xfrm>
            <a:off x="263520" y="185904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чность нормативной правовой базы обращения с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3213000" y="419580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единых критериев и методической базы для определения уровней экологической опасности и загрязненности объектов, содержащих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3"/>
          <p:cNvSpPr/>
          <p:nvPr/>
        </p:nvSpPr>
        <p:spPr>
          <a:xfrm flipH="1">
            <a:off x="5552280" y="1700280"/>
            <a:ext cx="360360" cy="2846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846160"/>
              <a:gd name="textAreaBottom" fmla="*/ 2846520 h 28461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4"/>
          <p:cNvSpPr/>
          <p:nvPr/>
        </p:nvSpPr>
        <p:spPr>
          <a:xfrm flipH="1">
            <a:off x="5552280" y="1773360"/>
            <a:ext cx="360360" cy="3565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"/>
          <p:cNvSpPr/>
          <p:nvPr/>
        </p:nvSpPr>
        <p:spPr>
          <a:xfrm>
            <a:off x="6178680" y="3429000"/>
            <a:ext cx="2303280" cy="2330280"/>
          </a:xfrm>
          <a:custGeom>
            <a:avLst/>
            <a:gdLst>
              <a:gd name="textAreaLeft" fmla="*/ 61560 w 2303280"/>
              <a:gd name="textAreaRight" fmla="*/ 2241720 w 2303280"/>
              <a:gd name="textAreaTop" fmla="*/ 61560 h 2330280"/>
              <a:gd name="textAreaBottom" fmla="*/ 2268720 h 2330280"/>
            </a:gdLst>
            <a:ahLst/>
            <a:rect l="textAreaLeft" t="textAreaTop" r="textAreaRight" b="textAreaBottom"/>
            <a:pathLst>
              <a:path w="21600" h="21853">
                <a:moveTo>
                  <a:pt x="1977" y="0"/>
                </a:moveTo>
                <a:arcTo wR="1977" hR="1977" stAng="16200000" swAng="-5400000"/>
                <a:lnTo>
                  <a:pt x="0" y="19876"/>
                </a:lnTo>
                <a:arcTo wR="1977" hR="1977" stAng="10800000" swAng="-5400000"/>
                <a:lnTo>
                  <a:pt x="19623" y="21853"/>
                </a:lnTo>
                <a:arcTo wR="1977" hR="1977" stAng="5400000" swAng="-5400000"/>
                <a:lnTo>
                  <a:pt x="21600" y="1977"/>
                </a:lnTo>
                <a:arcTo wR="1977" hR="1977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ое обеспечение деятельности по инвентаризации СОЗ, формирование банка данных о технологиях их утилизации и  уничтожения, реализация пилотных проек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7"/>
          <p:cNvSpPr/>
          <p:nvPr/>
        </p:nvSpPr>
        <p:spPr>
          <a:xfrm flipH="1">
            <a:off x="8478000" y="1785960"/>
            <a:ext cx="365400" cy="2957400"/>
          </a:xfrm>
          <a:custGeom>
            <a:avLst/>
            <a:gdLst>
              <a:gd name="textAreaLeft" fmla="*/ -360 w 365400"/>
              <a:gd name="textAreaRight" fmla="*/ 365400 w 365400"/>
              <a:gd name="textAreaTop" fmla="*/ 0 h 2957400"/>
              <a:gd name="textAreaBottom" fmla="*/ 2957760 h 295740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65280" y="1019160"/>
            <a:ext cx="230328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о учитыва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9"/>
          <p:cNvSpPr/>
          <p:nvPr/>
        </p:nvSpPr>
        <p:spPr>
          <a:xfrm>
            <a:off x="3662280" y="105264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очередные м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6335640" y="970560"/>
            <a:ext cx="2484360" cy="84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истемы межведомственной координ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"/>
          <p:cNvSpPr/>
          <p:nvPr/>
        </p:nvSpPr>
        <p:spPr>
          <a:xfrm flipH="1">
            <a:off x="2600280" y="1859040"/>
            <a:ext cx="365040" cy="369720"/>
          </a:xfrm>
          <a:custGeom>
            <a:avLst/>
            <a:gdLst>
              <a:gd name="textAreaLeft" fmla="*/ 360 w 365040"/>
              <a:gd name="textAreaRight" fmla="*/ 365760 w 365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2"/>
          <p:cNvSpPr/>
          <p:nvPr/>
        </p:nvSpPr>
        <p:spPr>
          <a:xfrm flipH="1">
            <a:off x="5923080" y="4378320"/>
            <a:ext cx="218880" cy="365040"/>
          </a:xfrm>
          <a:prstGeom prst="rightArrow">
            <a:avLst>
              <a:gd name="adj1" fmla="val 63898"/>
              <a:gd name="adj2" fmla="val 66824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9C1-528F-4089-A982-4AEBE3FDF8A4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Impact"/>
              </a:rPr>
              <a:t>Разработка нормативных правовых актов</a:t>
            </a:r>
            <a:endParaRPr b="0" lang="en-US" sz="1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1052640"/>
            <a:ext cx="4138560" cy="536400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55480" y="1785960"/>
            <a:ext cx="3495960" cy="4272120"/>
          </a:xfrm>
          <a:custGeom>
            <a:avLst/>
            <a:gdLst>
              <a:gd name="textAreaLeft" fmla="*/ 170640 w 3495960"/>
              <a:gd name="textAreaRight" fmla="*/ 3325320 w 3495960"/>
              <a:gd name="textAreaTop" fmla="*/ 170640 h 4272120"/>
              <a:gd name="textAreaBottom" fmla="*/ 4101480 h 4272120"/>
            </a:gdLst>
            <a:ahLst/>
            <a:rect l="textAreaLeft" t="textAreaTop" r="textAreaRight" b="textAreaBottom"/>
            <a:pathLst>
              <a:path w="21600" h="26395">
                <a:moveTo>
                  <a:pt x="3600" y="0"/>
                </a:moveTo>
                <a:arcTo wR="3600" hR="3600" stAng="16200000" swAng="-5400000"/>
                <a:lnTo>
                  <a:pt x="0" y="22795"/>
                </a:lnTo>
                <a:arcTo wR="3600" hR="3600" stAng="10800000" swAng="-5400000"/>
                <a:lnTo>
                  <a:pt x="18000" y="26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обязательств Российской Федерации, предусмотренных Стокгольмской конвенци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68920" y="1052640"/>
            <a:ext cx="4138560" cy="536400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еханизмы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089680" y="3230640"/>
            <a:ext cx="349560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Приказ Минприроды России от 3 октября 2017 г. № 529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Об утверждении Плана выполнения Российской Федерацией обязательств, предусмотренных Стокгольмской конвенцией о стойких органических загрязнителях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040360" y="1413000"/>
            <a:ext cx="34956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30 июля 2014 г. № 720 «О мерах по обеспечению выполнения обязательств, предусмотренных Стокгольмской конвенцией о стойких органических загрязнителях от 22 мая 2001 г.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5089680" y="4834080"/>
            <a:ext cx="34956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ект приказа Минприроды России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февраля 2017 г. № 57 «Об утверждении Положения о Национальном координационном центре по Стокгольмской конвенции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103640" y="218592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4103640" y="378792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4103640" y="539100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83B-A9DB-4819-968A-BDDEC5800E7C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DDB-77DF-4B79-ABB5-FDE7FF309194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Организационные мероприятия по реализации Национального плана действий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246320" y="1241280"/>
            <a:ext cx="665928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план действий (утвержден на период до 2025 года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2124000" y="2097000"/>
            <a:ext cx="4969080" cy="5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934920" y="2947320"/>
            <a:ext cx="3781440" cy="104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федеральных органа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нительной власти и организация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5610960" y="3087000"/>
            <a:ext cx="23385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убъекта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7640" y="4470120"/>
            <a:ext cx="411156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ведомственная рабочая групп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896000" y="4198680"/>
            <a:ext cx="390528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хозяйствующих субъекта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31920" y="5625000"/>
            <a:ext cx="846936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ирование Секретариа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5400000">
            <a:off x="4374720" y="1680840"/>
            <a:ext cx="504720" cy="327240"/>
          </a:xfrm>
          <a:prstGeom prst="rightArrow">
            <a:avLst>
              <a:gd name="adj1" fmla="val 58056"/>
              <a:gd name="adj2" fmla="val 497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 vert="eaVert" rot="10800000">
            <a:noAutofit/>
          </a:bodyPr>
          <a:p>
            <a:pPr marL="271440" indent="-27144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2951280" y="4005000"/>
            <a:ext cx="0" cy="431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6696000" y="3681360"/>
            <a:ext cx="0" cy="503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2987640" y="270828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6624720" y="2744640"/>
            <a:ext cx="0" cy="324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6732720" y="4508640"/>
            <a:ext cx="0" cy="10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951280" y="4834080"/>
            <a:ext cx="0" cy="84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FC6-1478-4938-AE0C-6DEBE3E3533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2F9-1CF5-467A-B7DF-4A4BDF8EDA37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"/>
          <p:cNvSpPr/>
          <p:nvPr/>
        </p:nvSpPr>
        <p:spPr>
          <a:xfrm rot="12511800">
            <a:off x="2907720" y="249552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627280" y="1015920"/>
            <a:ext cx="3889440" cy="826200"/>
          </a:xfrm>
          <a:prstGeom prst="rect">
            <a:avLst/>
          </a:prstGeom>
          <a:gradFill rotWithShape="0">
            <a:gsLst>
              <a:gs pos="0">
                <a:srgbClr val="a6c4e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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Поддержка действий международного со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372360" y="1736640"/>
            <a:ext cx="2592360" cy="174096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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Ликвидация и ограничение применения ряда химических вещест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300720" y="4797360"/>
            <a:ext cx="259236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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Образование и просве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flipV="1" rot="16200000">
            <a:off x="4104360" y="184392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63520" y="1968480"/>
            <a:ext cx="2592360" cy="113112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</a:t>
            </a:r>
            <a:r>
              <a:rPr b="1" lang="ru-RU" sz="2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Осознание риска для здоровья челов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411280" y="5805360"/>
            <a:ext cx="439272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</a:t>
            </a:r>
            <a:r>
              <a:rPr b="1" lang="ru-RU" sz="2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Замещение безопасными альтернатив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16000" y="4797360"/>
            <a:ext cx="259236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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Информирование 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10" descr=""/>
          <p:cNvPicPr/>
          <p:nvPr/>
        </p:nvPicPr>
        <p:blipFill>
          <a:blip r:embed="rId1"/>
          <a:stretch/>
        </p:blipFill>
        <p:spPr>
          <a:xfrm>
            <a:off x="3127320" y="2305080"/>
            <a:ext cx="2889360" cy="27115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3"/>
          <p:cNvSpPr/>
          <p:nvPr/>
        </p:nvSpPr>
        <p:spPr>
          <a:xfrm flipH="1" rot="9088200">
            <a:off x="5723280" y="2383920"/>
            <a:ext cx="578160" cy="216000"/>
          </a:xfrm>
          <a:prstGeom prst="rightArrow">
            <a:avLst>
              <a:gd name="adj1" fmla="val 50000"/>
              <a:gd name="adj2" fmla="val 66917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 flipV="1" rot="9088200">
            <a:off x="2771280" y="4581000"/>
            <a:ext cx="578160" cy="216000"/>
          </a:xfrm>
          <a:prstGeom prst="rightArrow">
            <a:avLst>
              <a:gd name="adj1" fmla="val 50000"/>
              <a:gd name="adj2" fmla="val 66917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 flipH="1" flipV="1" rot="12511800">
            <a:off x="5903640" y="447228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rot="5400000">
            <a:off x="4175280" y="533628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1224000" y="81000"/>
            <a:ext cx="72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>
            <a:off x="3622680" y="3063960"/>
            <a:ext cx="1935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сновные направления деятельности в рамках Национального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1"/>
          <p:cNvSpPr/>
          <p:nvPr/>
        </p:nvSpPr>
        <p:spPr>
          <a:xfrm>
            <a:off x="1103400" y="25236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аспекты Национального плана действ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Комплексная система мер по совершенствованию Национального плана в Минприроды России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2387520" y="1191240"/>
            <a:ext cx="4411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дложения ФОИВ, РАН, субъектов 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555480" y="2225520"/>
            <a:ext cx="299412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 совершенствованию законодательств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5359320" y="2169360"/>
            <a:ext cx="31194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 управление в сфере обращения с СО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2082960" y="1981080"/>
            <a:ext cx="45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2082960" y="19940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6680160" y="198108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4330800" y="18288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4064040" y="2184480"/>
            <a:ext cx="485640" cy="608040"/>
          </a:xfrm>
          <a:prstGeom prst="downArrow">
            <a:avLst>
              <a:gd name="adj1" fmla="val 50000"/>
              <a:gd name="adj2" fmla="val 31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2381400" y="3027240"/>
            <a:ext cx="401292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мерная структура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114800" y="3695760"/>
            <a:ext cx="485640" cy="608040"/>
          </a:xfrm>
          <a:prstGeom prst="downArrow">
            <a:avLst>
              <a:gd name="adj1" fmla="val 50000"/>
              <a:gd name="adj2" fmla="val 31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2400480" y="4381560"/>
            <a:ext cx="40258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мерное содержание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722520" y="5420520"/>
            <a:ext cx="375264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точнение предлагаемых мероприят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5397480" y="5526000"/>
            <a:ext cx="3191040" cy="34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дготовка итоговых решений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4343400" y="5029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 flipV="1">
            <a:off x="2057400" y="5206680"/>
            <a:ext cx="46864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2057400" y="521964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6718320" y="52070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C6B-7C9C-4AB9-A50F-B0D3AFB915AD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Основные организационные мероприятия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 Национального плана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1052640"/>
            <a:ext cx="8780400" cy="53989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marL="444600" indent="-3556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22604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23864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14520" y="163836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 проведение полной комплексной инвентаризации СОЗ, устаревших и запрещенных пестицидов, а также условий их хранения, организация контроля за незаконным ввозом и вывозом пестицидов (в т.ч.устаревших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14520" y="3630600"/>
            <a:ext cx="79167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нформационного обмена между федеральными органами исполнительной власти для осуществления мониторинга содержания СОЗ в объектах среды обитания человека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14520" y="263376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 результатам инвентаризации разработать план мероприятий по уничтожению СОЗ, устаревших и пришедших в негодность пестицидов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11280" y="562464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Единой базы данных о СО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14520" y="4627440"/>
            <a:ext cx="79167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законодательства 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D2F-6870-4C09-BCDF-515EE73F9A1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31"/>
          <p:cNvGrpSpPr/>
          <p:nvPr/>
        </p:nvGrpSpPr>
        <p:grpSpPr>
          <a:xfrm>
            <a:off x="1870200" y="1557360"/>
            <a:ext cx="5149800" cy="4967280"/>
            <a:chOff x="1870200" y="1557360"/>
            <a:chExt cx="5149800" cy="4967280"/>
          </a:xfrm>
        </p:grpSpPr>
        <p:grpSp>
          <p:nvGrpSpPr>
            <p:cNvPr id="249" name="Группа 30"/>
            <p:cNvGrpSpPr/>
            <p:nvPr/>
          </p:nvGrpSpPr>
          <p:grpSpPr>
            <a:xfrm>
              <a:off x="1870200" y="1557360"/>
              <a:ext cx="5149800" cy="4967280"/>
              <a:chOff x="1870200" y="1557360"/>
              <a:chExt cx="5149800" cy="4967280"/>
            </a:xfrm>
          </p:grpSpPr>
          <p:sp>
            <p:nvSpPr>
              <p:cNvPr id="250" name="Овал 17"/>
              <p:cNvSpPr/>
              <p:nvPr/>
            </p:nvSpPr>
            <p:spPr>
              <a:xfrm>
                <a:off x="2444400" y="2173320"/>
                <a:ext cx="3984120" cy="3706560"/>
              </a:xfrm>
              <a:prstGeom prst="ellipse">
                <a:avLst/>
              </a:prstGeom>
              <a:solidFill>
                <a:srgbClr val="c4f3dc"/>
              </a:solidFill>
              <a:ln w="9360">
                <a:solidFill>
                  <a:srgbClr val="17814c"/>
                </a:solidFill>
                <a:prstDash val="lgDashDot"/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TextBox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0200" y="1557360"/>
                <a:ext cx="5149800" cy="496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Овал 4"/>
            <p:cNvGrpSpPr/>
            <p:nvPr/>
          </p:nvGrpSpPr>
          <p:grpSpPr>
            <a:xfrm>
              <a:off x="2139480" y="1798200"/>
              <a:ext cx="4669560" cy="4541760"/>
              <a:chOff x="2139480" y="1798200"/>
              <a:chExt cx="4669560" cy="4541760"/>
            </a:xfrm>
          </p:grpSpPr>
          <p:pic>
            <p:nvPicPr>
              <p:cNvPr id="253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9480" y="1798200"/>
                <a:ext cx="4669560" cy="45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2869200" y="2482560"/>
                <a:ext cx="3220200" cy="31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нн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20"/>
            <p:cNvGrpSpPr/>
            <p:nvPr/>
          </p:nvGrpSpPr>
          <p:grpSpPr>
            <a:xfrm>
              <a:off x="2145600" y="1793880"/>
              <a:ext cx="4167720" cy="4534920"/>
              <a:chOff x="2145600" y="1793880"/>
              <a:chExt cx="4167720" cy="4534920"/>
            </a:xfrm>
          </p:grpSpPr>
          <p:grpSp>
            <p:nvGrpSpPr>
              <p:cNvPr id="256" name="Группа 31"/>
              <p:cNvGrpSpPr/>
              <p:nvPr/>
            </p:nvGrpSpPr>
            <p:grpSpPr>
              <a:xfrm>
                <a:off x="2324160" y="1793880"/>
                <a:ext cx="3989160" cy="4027320"/>
                <a:chOff x="2324160" y="1793880"/>
                <a:chExt cx="3989160" cy="4027320"/>
              </a:xfrm>
            </p:grpSpPr>
            <p:grpSp>
              <p:nvGrpSpPr>
                <p:cNvPr id="257" name="Пирог 15"/>
                <p:cNvGrpSpPr/>
                <p:nvPr/>
              </p:nvGrpSpPr>
              <p:grpSpPr>
                <a:xfrm>
                  <a:off x="2324160" y="1793880"/>
                  <a:ext cx="3989160" cy="4027320"/>
                  <a:chOff x="2324160" y="1793880"/>
                  <a:chExt cx="3989160" cy="4027320"/>
                </a:xfrm>
              </p:grpSpPr>
              <p:pic>
                <p:nvPicPr>
                  <p:cNvPr id="258" name="Пирог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599400">
                    <a:off x="2468880" y="3743280"/>
                    <a:ext cx="3743280" cy="20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"/>
                  <p:cNvSpPr/>
                  <p:nvPr/>
                </p:nvSpPr>
                <p:spPr>
                  <a:xfrm rot="2883000">
                    <a:off x="2950560" y="2329560"/>
                    <a:ext cx="2736000" cy="290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TextBox 13"/>
                <p:cNvSpPr/>
                <p:nvPr/>
              </p:nvSpPr>
              <p:spPr>
                <a:xfrm>
                  <a:off x="2837880" y="3713760"/>
                  <a:ext cx="281952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 Narrow"/>
                      <a:ea typeface="Arial"/>
                    </a:rPr>
                    <a:t>Важно для непреднамеренного производства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Группа 35"/>
              <p:cNvGrpSpPr/>
              <p:nvPr/>
            </p:nvGrpSpPr>
            <p:grpSpPr>
              <a:xfrm>
                <a:off x="2145600" y="2325960"/>
                <a:ext cx="4041720" cy="4002840"/>
                <a:chOff x="2145600" y="2325960"/>
                <a:chExt cx="4041720" cy="4002840"/>
              </a:xfrm>
            </p:grpSpPr>
            <p:grpSp>
              <p:nvGrpSpPr>
                <p:cNvPr id="262" name="Пирог 13"/>
                <p:cNvGrpSpPr/>
                <p:nvPr/>
              </p:nvGrpSpPr>
              <p:grpSpPr>
                <a:xfrm>
                  <a:off x="2145600" y="2325960"/>
                  <a:ext cx="4041720" cy="4002840"/>
                  <a:chOff x="2145600" y="2325960"/>
                  <a:chExt cx="4041720" cy="4002840"/>
                </a:xfrm>
              </p:grpSpPr>
              <p:pic>
                <p:nvPicPr>
                  <p:cNvPr id="263" name="Пирог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9400">
                    <a:off x="4063680" y="2325960"/>
                    <a:ext cx="2123280" cy="29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4" name=""/>
                  <p:cNvSpPr/>
                  <p:nvPr/>
                </p:nvSpPr>
                <p:spPr>
                  <a:xfrm rot="13683600">
                    <a:off x="2744640" y="2922120"/>
                    <a:ext cx="2772360" cy="28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Box 11"/>
                <p:cNvSpPr/>
                <p:nvPr/>
              </p:nvSpPr>
              <p:spPr>
                <a:xfrm>
                  <a:off x="2816280" y="3706920"/>
                  <a:ext cx="30078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 Narrow"/>
                      <a:ea typeface="Arial"/>
                    </a:rPr>
                    <a:t>Разработка критериев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Группа 20"/>
            <p:cNvGrpSpPr/>
            <p:nvPr/>
          </p:nvGrpSpPr>
          <p:grpSpPr>
            <a:xfrm>
              <a:off x="2222280" y="1833120"/>
              <a:ext cx="4449960" cy="4433760"/>
              <a:chOff x="2222280" y="1833120"/>
              <a:chExt cx="4449960" cy="4433760"/>
            </a:xfrm>
          </p:grpSpPr>
          <p:grpSp>
            <p:nvGrpSpPr>
              <p:cNvPr id="267" name="Пирог 9"/>
              <p:cNvGrpSpPr/>
              <p:nvPr/>
            </p:nvGrpSpPr>
            <p:grpSpPr>
              <a:xfrm>
                <a:off x="2413800" y="2203560"/>
                <a:ext cx="2829600" cy="3108600"/>
                <a:chOff x="2413800" y="2203560"/>
                <a:chExt cx="2829600" cy="3108600"/>
              </a:xfrm>
            </p:grpSpPr>
            <p:pic>
              <p:nvPicPr>
                <p:cNvPr id="268" name="Пирог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84440" y="2203560"/>
                  <a:ext cx="1392840" cy="254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 rot="8283600">
                  <a:off x="2968560" y="2714400"/>
                  <a:ext cx="1719720" cy="231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TextBox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2280" y="1833120"/>
                <a:ext cx="4449960" cy="443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" name="Пирог 7"/>
            <p:cNvGrpSpPr/>
            <p:nvPr/>
          </p:nvGrpSpPr>
          <p:grpSpPr>
            <a:xfrm>
              <a:off x="2433960" y="2273760"/>
              <a:ext cx="2598840" cy="2938680"/>
              <a:chOff x="2433960" y="2273760"/>
              <a:chExt cx="2598840" cy="2938680"/>
            </a:xfrm>
          </p:grpSpPr>
          <p:pic>
            <p:nvPicPr>
              <p:cNvPr id="272" name="Пирог 7" descr=""/>
              <p:cNvPicPr/>
              <p:nvPr/>
            </p:nvPicPr>
            <p:blipFill>
              <a:blip r:embed="rId7"/>
              <a:stretch/>
            </p:blipFill>
            <p:spPr>
              <a:xfrm>
                <a:off x="2645640" y="2273760"/>
                <a:ext cx="1121400" cy="24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8283600">
                <a:off x="2980080" y="2780640"/>
                <a:ext cx="150624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4" name="TextBox 8" descr=""/>
            <p:cNvPicPr/>
            <p:nvPr/>
          </p:nvPicPr>
          <p:blipFill>
            <a:blip r:embed="rId8"/>
            <a:stretch/>
          </p:blipFill>
          <p:spPr>
            <a:xfrm>
              <a:off x="2121480" y="1852920"/>
              <a:ext cx="4553640" cy="44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Прямая соединительная линия 19"/>
          <p:cNvSpPr/>
          <p:nvPr/>
        </p:nvSpPr>
        <p:spPr>
          <a:xfrm>
            <a:off x="2895480" y="3233880"/>
            <a:ext cx="1171800" cy="98712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20"/>
          <p:cNvSpPr/>
          <p:nvPr/>
        </p:nvSpPr>
        <p:spPr>
          <a:xfrm>
            <a:off x="3851280" y="2421000"/>
            <a:ext cx="576360" cy="5032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1"/>
          <p:cNvSpPr/>
          <p:nvPr/>
        </p:nvSpPr>
        <p:spPr>
          <a:xfrm>
            <a:off x="3430440" y="2627280"/>
            <a:ext cx="1008360" cy="86364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22"/>
          <p:cNvSpPr/>
          <p:nvPr/>
        </p:nvSpPr>
        <p:spPr>
          <a:xfrm>
            <a:off x="3132000" y="2924280"/>
            <a:ext cx="1295640" cy="10810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23"/>
          <p:cNvSpPr/>
          <p:nvPr/>
        </p:nvSpPr>
        <p:spPr>
          <a:xfrm>
            <a:off x="2741760" y="3665520"/>
            <a:ext cx="934920" cy="79236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24"/>
          <p:cNvSpPr/>
          <p:nvPr/>
        </p:nvSpPr>
        <p:spPr>
          <a:xfrm>
            <a:off x="2700360" y="4149720"/>
            <a:ext cx="576360" cy="5032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3024360" y="274464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руководящего документ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6"/>
          <p:cNvSpPr/>
          <p:nvPr/>
        </p:nvSpPr>
        <p:spPr>
          <a:xfrm>
            <a:off x="6315120" y="1268280"/>
            <a:ext cx="1928880" cy="613080"/>
          </a:xfrm>
          <a:prstGeom prst="roundRect">
            <a:avLst>
              <a:gd name="adj" fmla="val 16667"/>
            </a:avLst>
          </a:prstGeom>
          <a:solidFill>
            <a:srgbClr val="1a8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ференция Стор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61" descr="MC900432625.PNG"/>
          <p:cNvPicPr/>
          <p:nvPr/>
        </p:nvPicPr>
        <p:blipFill>
          <a:blip r:embed="rId9"/>
          <a:stretch/>
        </p:blipFill>
        <p:spPr>
          <a:xfrm>
            <a:off x="6875640" y="18813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2" descr="MC900433953.PNG"/>
          <p:cNvPicPr/>
          <p:nvPr/>
        </p:nvPicPr>
        <p:blipFill>
          <a:blip r:embed="rId10"/>
          <a:stretch/>
        </p:blipFill>
        <p:spPr>
          <a:xfrm>
            <a:off x="4067280" y="3635280"/>
            <a:ext cx="730080" cy="7304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1" descr="MC900432625.PNG"/>
          <p:cNvPicPr/>
          <p:nvPr/>
        </p:nvPicPr>
        <p:blipFill>
          <a:blip r:embed="rId11"/>
          <a:stretch/>
        </p:blipFill>
        <p:spPr>
          <a:xfrm>
            <a:off x="1511280" y="515772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1" descr="MC900432625.PNG"/>
          <p:cNvPicPr/>
          <p:nvPr/>
        </p:nvPicPr>
        <p:blipFill>
          <a:blip r:embed="rId12"/>
          <a:stretch/>
        </p:blipFill>
        <p:spPr>
          <a:xfrm>
            <a:off x="7416720" y="188136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61" descr="MC900432625.PNG"/>
          <p:cNvPicPr/>
          <p:nvPr/>
        </p:nvPicPr>
        <p:blipFill>
          <a:blip r:embed="rId13"/>
          <a:stretch/>
        </p:blipFill>
        <p:spPr>
          <a:xfrm>
            <a:off x="7920000" y="191628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1" descr="MC900432625.PNG"/>
          <p:cNvPicPr/>
          <p:nvPr/>
        </p:nvPicPr>
        <p:blipFill>
          <a:blip r:embed="rId14"/>
          <a:stretch/>
        </p:blipFill>
        <p:spPr>
          <a:xfrm>
            <a:off x="6408720" y="184464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289" name="Скругленный прямоугольник 33"/>
          <p:cNvSpPr/>
          <p:nvPr/>
        </p:nvSpPr>
        <p:spPr>
          <a:xfrm>
            <a:off x="179280" y="1233360"/>
            <a:ext cx="2017800" cy="1063800"/>
          </a:xfrm>
          <a:prstGeom prst="roundRect">
            <a:avLst>
              <a:gd name="adj" fmla="val 16667"/>
            </a:avLst>
          </a:prstGeom>
          <a:solidFill>
            <a:srgbClr val="1a8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итет по рассмотрению СО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61" descr="MC900432625.PNG"/>
          <p:cNvPicPr/>
          <p:nvPr/>
        </p:nvPicPr>
        <p:blipFill>
          <a:blip r:embed="rId15"/>
          <a:stretch/>
        </p:blipFill>
        <p:spPr>
          <a:xfrm>
            <a:off x="539640" y="23130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61" descr="MC900432625.PNG"/>
          <p:cNvPicPr/>
          <p:nvPr/>
        </p:nvPicPr>
        <p:blipFill>
          <a:blip r:embed="rId16"/>
          <a:stretch/>
        </p:blipFill>
        <p:spPr>
          <a:xfrm>
            <a:off x="1150920" y="2313000"/>
            <a:ext cx="601560" cy="603360"/>
          </a:xfrm>
          <a:prstGeom prst="rect">
            <a:avLst/>
          </a:prstGeom>
          <a:ln w="0">
            <a:noFill/>
          </a:ln>
        </p:spPr>
      </p:pic>
      <p:sp>
        <p:nvSpPr>
          <p:cNvPr id="292" name="Скругленный прямоугольник 36"/>
          <p:cNvSpPr/>
          <p:nvPr/>
        </p:nvSpPr>
        <p:spPr>
          <a:xfrm>
            <a:off x="250920" y="5769000"/>
            <a:ext cx="2214360" cy="571320"/>
          </a:xfrm>
          <a:prstGeom prst="roundRect">
            <a:avLst>
              <a:gd name="adj" fmla="val 16667"/>
            </a:avLst>
          </a:prstGeom>
          <a:solidFill>
            <a:srgbClr val="608c2e"/>
          </a:solidFill>
          <a:ln w="57240">
            <a:solidFill>
              <a:srgbClr val="405d1f"/>
            </a:solidFill>
            <a:miter/>
          </a:ln>
          <a:effectLst>
            <a:outerShdw dist="20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торо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трелка вверх 38"/>
          <p:cNvSpPr/>
          <p:nvPr/>
        </p:nvSpPr>
        <p:spPr>
          <a:xfrm>
            <a:off x="971640" y="3105000"/>
            <a:ext cx="484200" cy="234000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40"/>
          <p:cNvSpPr/>
          <p:nvPr/>
        </p:nvSpPr>
        <p:spPr>
          <a:xfrm>
            <a:off x="2303640" y="1233360"/>
            <a:ext cx="3816000" cy="324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42"/>
          <p:cNvCxnSpPr/>
          <p:nvPr/>
        </p:nvCxnSpPr>
        <p:spPr>
          <a:xfrm>
            <a:off x="2158560" y="2241360"/>
            <a:ext cx="3978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Прямая со стрелкой 44"/>
          <p:cNvCxnSpPr/>
          <p:nvPr/>
        </p:nvCxnSpPr>
        <p:spPr>
          <a:xfrm flipH="1">
            <a:off x="6156000" y="1844280"/>
            <a:ext cx="180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" name="Прямоугольник 47"/>
          <p:cNvSpPr/>
          <p:nvPr/>
        </p:nvSpPr>
        <p:spPr>
          <a:xfrm>
            <a:off x="934920" y="2253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  <a:ea typeface="Times New Roman"/>
              </a:rPr>
              <a:t>Разработка подхода к оценке химических веществ в соответствии с приложением Е к Стокгольмской конвенц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5:09:40Z</dcterms:created>
  <dc:creator>Мазур В.В.</dc:creator>
  <dc:description>дизайн Квитка Н.В. 
ФГУП ГНИВЦ ФНС России
т. 31-36</dc:description>
  <dc:language>en-US</dc:language>
  <cp:lastModifiedBy>pshirokov</cp:lastModifiedBy>
  <dcterms:modified xsi:type="dcterms:W3CDTF">2018-03-02T05:27:28Z</dcterms:modified>
  <cp:revision>798</cp:revision>
  <dc:subject>О функциях, практике работы, имеющихся результатах и проблемах, а также задачах, стоящих перед управлением</dc:subject>
  <dc:title>Отчет Мишустину М.В. 14 марта 2011г</dc:title>
</cp:coreProperties>
</file>