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A595-FE59-449D-8658-3D01C04C3EC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8A5B-CFA8-4165-9483-1DC031BB0CE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000C-5F2B-460F-B953-A796E33E126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985F-CDC1-42BC-8F48-630139FB087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B257-F528-47D6-9DF0-58A16C6B84C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5005-B3C9-430C-8F2D-4FDB043EE9C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EFA4-4F0C-413F-85D5-88E8F78B0E1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13AF-8CF5-4A8C-886B-7F03CF0A694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FE9F-E14B-4D4F-AE43-353DB7C011B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00D-39CD-46F1-AACB-D79400E4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696-B3D3-454A-B009-0E17193A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8D17CF-1F69-488D-AB89-6A36124D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C6D0C3-4756-471C-980B-098AC1B5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585186-CF93-43B1-B5FE-33D27870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D5E311-3D4E-4A59-B3C7-09D084AB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6827C0-2BD9-4CA0-925E-3192FF16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30695-D076-4258-9335-5F296E9B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9332FE-E1D1-4839-AFA7-1FDC7FAE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7CFFBD-958A-47B8-BDCA-44791C8C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B23A3E-BF62-49E2-B46B-5C87A7CF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F80-5897-492D-BBD7-9E8ABCC5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FE7-7E23-4376-98A1-6545276E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A835D-BD41-4D71-A5B0-7532B832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D6698-E60E-4A30-8408-25CC37AA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258A4-D334-4A30-974C-4258C9C9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5DB71-F360-4B7A-98CD-85C06D56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A17E6-E75B-4B2E-90FE-1617F57F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3A4FC-F1D2-423D-8DA7-8DB88594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F8AAE-23AB-4E16-A257-001703E2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E23-B8C4-462D-A710-8D85C338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69C11-E4F8-4494-8F73-EA9DCB50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7B9FD-F7DE-47F6-92F1-F950E664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49CDD-C77A-4B8C-AF0B-91D42F02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3694A-F8A7-4618-B257-B18722E0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5E0E5-A407-44FD-8C9D-7D6526C1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EA6F-41C6-485E-90AE-C51BD9AE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031CE-D0D5-45E0-A696-B20588DD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AA28-3CDF-4187-B459-417D766E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4C9C-F766-4552-B8D3-18900111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BB72-418D-46B5-A95B-27CBD74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420-2151-4178-9039-D19B93AD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7D43-4404-4B12-9E4B-07D34543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B463-300D-4611-8DC0-AD61FC5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26A5-2883-4700-96CF-2ABDEA0D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5DED-0822-4C32-BBBE-DBB66E56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D98B-34F4-4712-BDCD-7CCEC40F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610B1-4CD2-4374-9BE6-D7C71897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42183-EA37-432B-A074-135E1389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90C78-351A-4DCC-9EBC-AF1B4C4D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5713A-911C-47A4-B0EC-1763DF7E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82172-11FD-49CB-9B56-BB51DA82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CA5-2A21-4ED0-9D60-4AC92FDA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85606-FB50-4589-B434-FA939618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54C96-EC21-4EB9-AFFE-54249B03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21261-5A3E-418E-A32B-6176A61D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FC485-0485-4FBA-9A6B-9491F7B7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4BC11-7E70-4285-B480-241921B7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0055C-F25C-411A-BF01-EC1F2556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004D1-7977-4DD0-8B49-DED77728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0E35E-235A-48FE-9CD2-1CC20433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56D66-52DD-4427-9F21-6963FEF5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9787-2F03-4DB6-A9FF-D6492E72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967-1119-4D03-8A3D-F5FF2C0E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3220-5C6B-4283-B969-48CED768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37A5B-DCC9-48DE-AAE1-61989D8B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59F7E-EBAC-4B32-84F9-ABDAEC2E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C51B1-7F18-4460-A0EE-9D7BEF3C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697FD-63BA-4D8A-8933-1A695920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1323-8C51-4521-93A6-E2CD7A3E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17648-906F-45B6-8771-E9B18C00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B2F2E-6755-4D25-9170-C2C21585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65F39-4188-4CBE-9694-1B934F5E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EB163-3F6A-442D-BDF9-B36ED88D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A59-793C-41D2-9C68-FF595501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2E5D4-989B-45FD-99A1-839C4863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B3969-67D1-43DE-9320-F84B7CD3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0C8F6-5F7C-4B72-8B38-282B58E5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652F-4817-478C-9C2F-671D5581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2A6B-7D42-47CA-9D6E-022BB297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F7A4-6C48-4A34-915E-2D6AB2B7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CAFF4-F3DD-42E5-B851-D7966B01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3C4AE-9DD5-460B-8434-CC8A20FF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E9048-C384-4A88-ABBA-28704887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09FC3-1822-4362-96DB-9116BE4B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E18-DAF8-42A9-BE82-F1B90263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14155-F93F-4F62-B619-24D8B37F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97D50-61E6-4BDA-8B23-4AB615CD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3582A-8527-47DA-BA85-E0778B7A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0C5EF-998C-4845-BF3F-97A88821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17D0B-1611-4402-BDFE-CB822778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9EFA5-E735-4A78-9117-B51F22B5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0CEA2-4278-41CF-85E0-92E2A3E9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1B85C-BF2D-40C5-BF0D-BAF0FE6A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76FF5-EC33-436C-9D5D-CAA44BA5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6DD3-9CA3-44DD-8C7D-CDE3142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F13-439D-4068-97DE-C48D1DE8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0D856-D0EF-45E8-89D3-46CB2CE5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73917-EBA5-40C0-8B5A-4F5A337F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29867-AA67-463F-B319-286AD852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2ADF2-D293-4FE2-8DDA-2579285A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A0C7C-BB3A-4092-9F31-99FC4358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D99AC-D165-4048-A474-65C15464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0A79F1-D7CC-4B84-B8EF-436FDBDB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0A30A-EBF3-4185-A1CD-0AC72745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E42D67-8284-4DE8-BDC6-26A4EDE8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37395A-A602-4E05-8157-4A059A7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F9F-59E8-40E0-8D2D-86159119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ABD4C9-D850-49D4-86B0-B460E2DA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1C9211-B3D0-488C-9F03-8D3E20F2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A3BBF7-A05D-46BE-A2C7-0013E667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4A8A9-12A2-4309-8AE9-498E793A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582752-D379-4DD4-8EE7-54CB85A1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46ABA-C85C-4802-8837-1ACDFD8E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4D828-6989-489E-A241-9461BF7D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FAFDE9-249F-4D41-9FDF-B4059E64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ED179F-0991-477D-8934-EBBAC5B4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313E8F-F850-4B51-8BFA-F59828E7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C356-90F7-432A-91EA-FA4DA007A1DE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2191-BA26-457D-83F5-EE0763D47BC2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73A4-CFD9-4FAD-A469-70A6BC53DB29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E85C-DE27-4161-88D2-47D4DDD5FB37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E7E6-6D40-4571-8E4A-3B8F6FB02210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0713-9402-4656-9B8E-05BDA0E1584C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4DAD-EE14-465E-9AD2-3F92A415BF3B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0858-2418-43B1-8E6E-DC2781D7E5B6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0BC7-2E9E-4DC0-BB3B-6D4BCE57CEE1}" type="slidenum">
              <a:rPr b="0" lang="ru-RU" sz="16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9009000" cy="31035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840" y="3357360"/>
            <a:ext cx="86439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Ю.А. Барзыкин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Вице-президент Российского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Союза туриндустрии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Председатель Комитета ТПП РФ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по предпринимательству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mbria"/>
              </a:rPr>
              <a:t>в сфере туризма, к.э.н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ambria"/>
              </a:rPr>
              <a:t>Сочи, 2018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37880" cy="15303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142920" y="1714680"/>
            <a:ext cx="88581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зработать и утвердить 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тратегию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развития санаторно-курортного комплекса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ссмотреть вопрос о возможности создания 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территорий опережающего развития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на территориях курорт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зработать план мероприятий по 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тимулированию привлечения частных инвестици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в развитие санаторно-курортного комплекса Российской Федерации, предусмотрев возможность реализации инвестиционных проектов с применением механизмов государственно-частного партнёрства, в том числе на условиях концессионного соглашени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едставить предложения по введению 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истемы оценки (определения категорий) для санаториев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 зависимости от уровня оказываемых в них медицинских, сервисных и других услуг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нести в законодательство РФ изменения, предусматривающие наделение 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Ростуризма полномочиями по продвижению турпродукт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, в состав которого включены услуги санаторно-курортного комплекса РФ, на внутреннем и мировом туристических рынках;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39640" y="2968560"/>
            <a:ext cx="801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-6480" y="49320"/>
            <a:ext cx="8869320" cy="1455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42560" y="1356840"/>
            <a:ext cx="9001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рогноз на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2018 г.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ост внутреннего туризма на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10% и более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внутренний туризм – более 56 млн.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человек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Краснодарский край – около 16 млн. человек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Крым – около 6,5 млн. человек, + 30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Алтайский край – более 2 млн. человек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Ставропольский край – более 1 млн. человек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Абхазия – около 1 млн. человек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ост выездного туризма  более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9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Овал 3"/>
          <p:cNvSpPr/>
          <p:nvPr/>
        </p:nvSpPr>
        <p:spPr>
          <a:xfrm>
            <a:off x="8286840" y="6072120"/>
            <a:ext cx="571320" cy="500040"/>
          </a:xfrm>
          <a:prstGeom prst="ellipse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-6480" y="281160"/>
            <a:ext cx="8869320" cy="12236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42560" y="9997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Дома – 32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На даче – 26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Другой город – 10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Черноморское побережье – 6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Крым – 3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За рубежом – 6 %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Средний чек на 1 человека – 37 тысяч рублей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Довольны отдыхом за рубежом -77% туристов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lnSpc>
                <a:spcPct val="150000"/>
              </a:lnSpc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Среди отдохнувших в России - 85%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Овал 3"/>
          <p:cNvSpPr/>
          <p:nvPr/>
        </p:nvSpPr>
        <p:spPr>
          <a:xfrm>
            <a:off x="8286840" y="6072120"/>
            <a:ext cx="571320" cy="500040"/>
          </a:xfrm>
          <a:prstGeom prst="ellipse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9021960" cy="1092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42920" y="1285560"/>
            <a:ext cx="88581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77% россиян не были за границей последние 5 лет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72% россиян не имеют загранпаспорт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еньше 1% россиян выезжают за границу 4 раза в год , 1% выезжают 2-3 раза в год, 5% – 1 раз в год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9% – 1 раз в 2-3 год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4% – выезжают за рубеж 1раз в несколько лет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5% – раньше ездили, теперь нет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59% – никогда не были за пределами бывшего СССР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80% россиян никогда не были в Египт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76% россиян ни разу не были в Турци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667720" cy="89712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табилизация внутреннего,  восстановление выездного по основным направлениям и незначительный рост въездного туризм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сширение продаж пакетных туров на внутреннем рынке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Усиление регионального развития и появление новых программ  регионов России (Краснодарский край, Крым, Адыгея, Башкортостан, Мурманская, Свердловская области, Пермский край, Карелия и др.)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нижение агентских комиссий и вознаграждений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Формирование интегрированных турпродуктов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звитие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T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технологий, интернет-порталов и 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online-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родаж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вышение спроса на качественные лечебно-оздоровительные, семейный отдых с детьми  (52%), активные виды туризма (+ 25%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звитие социального туризма (детского, молодежного и др.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-398520">
              <a:lnSpc>
                <a:spcPct val="80000"/>
              </a:lnSpc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окращение продолжительности турпоездок и совмещение различных видов отдых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531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390600" y="281160"/>
            <a:ext cx="8528040" cy="11509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42920" y="1571400"/>
            <a:ext cx="885816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Повышение спроса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 качественные лечебно-оздоровительные, спа-услуги, семейный отдых с детьм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епрерывное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расширение спектра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редлагаемых услуг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озможность приобретения услуг, процедур и операций на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международном рынке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зличающихся по качеству и стоимост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Формирование трансграничных и интегрированных турпродуктов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Сокращение длительности пребывания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за счет дифференциации и интенсификации процедур (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eekend,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едельный тур и др.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Рост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оздоровительных поездок в среднем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10% в год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, почти в два раза опережает темпы роста туризма в целом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Расходы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 оздоровительные  услуги в среднем на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130%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больше, чем на средние пляжные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рименение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искусственных и доставленных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минеральных вод, грязей и др. ресурсов для курортного лечен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звитие </a:t>
            </a:r>
            <a:r>
              <a:rPr b="1" lang="en-US" sz="2000" spc="-1" strike="noStrike">
                <a:solidFill>
                  <a:srgbClr val="ffff00"/>
                </a:solidFill>
                <a:latin typeface="Rockwell"/>
              </a:rPr>
              <a:t>IT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-технологий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, интернет-порталов и 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online-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родаж, увеличение глубины бронирован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Введен курортный сбор в 4 субъектах РФ (Краснодарский, Ставропольский, Алтайский края, Республика Крым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21960" cy="13716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-360" y="1428840"/>
            <a:ext cx="878508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личие лечебно-диагностических услуг (ЛДУ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озможности ЛДУ для туристов – отдыхающих </a:t>
            </a: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(в стоимости путевки)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626760" indent="-22392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диагностика (расширенные исследования крови и др.,  УЗИ, (в некоторых санаториях рентген) и др.)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lvl="1" marL="626760" indent="-22392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посещение врачей – специалистов (диетолог, психолог (психотерапевт), невролог, уролог, гинеколог, пульмонолог, офтальмолог, стоматолог, дерматолог, проктолог и др.);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lvl="1" marL="626760" indent="-223920">
              <a:spcBef>
                <a:spcPts val="400"/>
              </a:spcBef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большой выбор физиопроцедур, в том числе с использованием широкого спектра электроприборов для лечения различных заболеваний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сположение санаториев на курортах </a:t>
            </a: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(Кавминводы, Сочи, Крым, др. регионы)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щее число врачей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30-40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, медицинских работников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60 – 70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человек, что составляет </a:t>
            </a:r>
            <a:r>
              <a:rPr b="1" lang="ru-RU" sz="2000" spc="-1" strike="noStrike">
                <a:solidFill>
                  <a:srgbClr val="ffff00"/>
                </a:solidFill>
                <a:latin typeface="Cambria"/>
              </a:rPr>
              <a:t>30 – 50 %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т общего числа персонал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тсутствие визы (60-80 евро с человека в европейские санатории), медицинской страховки (1 евро в день на 1 человека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убсидирование авиаперевозок для молодежи и пенсионеров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убсидирование туроператоров (2-5 тыс. рублей на человека, 320 млн. рублей в 2018 г.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Овал 3"/>
          <p:cNvSpPr/>
          <p:nvPr/>
        </p:nvSpPr>
        <p:spPr>
          <a:xfrm>
            <a:off x="8072280" y="6215040"/>
            <a:ext cx="642960" cy="428760"/>
          </a:xfrm>
          <a:prstGeom prst="ellipse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4"/>
          <p:cNvSpPr/>
          <p:nvPr/>
        </p:nvSpPr>
        <p:spPr>
          <a:xfrm>
            <a:off x="8039160" y="638172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8039160" y="638172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212840"/>
          </a:xfrm>
          <a:prstGeom prst="rect">
            <a:avLst/>
          </a:prstGeom>
          <a:ln w="0">
            <a:noFill/>
          </a:ln>
        </p:spPr>
      </p:pic>
      <p:sp>
        <p:nvSpPr>
          <p:cNvPr id="421" name="Скругленный прямоугольник 4"/>
          <p:cNvSpPr/>
          <p:nvPr/>
        </p:nvSpPr>
        <p:spPr>
          <a:xfrm>
            <a:off x="812880" y="1143000"/>
            <a:ext cx="7607160" cy="7858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Эффективная система государственного регулирова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Развитие социального туризм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Скругленный прямоугольник 4"/>
          <p:cNvSpPr/>
          <p:nvPr/>
        </p:nvSpPr>
        <p:spPr>
          <a:xfrm>
            <a:off x="812880" y="2938320"/>
            <a:ext cx="7607160" cy="503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личие средств размещения с высоким уровнем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Скругленный прямоугольник 4"/>
          <p:cNvSpPr/>
          <p:nvPr/>
        </p:nvSpPr>
        <p:spPr>
          <a:xfrm>
            <a:off x="812880" y="3730680"/>
            <a:ext cx="7607160" cy="523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Высокое качество предоставляемых услу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Скругленный прямоугольник 4"/>
          <p:cNvSpPr/>
          <p:nvPr/>
        </p:nvSpPr>
        <p:spPr>
          <a:xfrm>
            <a:off x="812880" y="2108160"/>
            <a:ext cx="7607160" cy="5335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Развитая транспортная инфраструктура и доступность объек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Скругленный прямоугольник 4"/>
          <p:cNvSpPr/>
          <p:nvPr/>
        </p:nvSpPr>
        <p:spPr>
          <a:xfrm>
            <a:off x="812880" y="4606920"/>
            <a:ext cx="7607160" cy="523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личие квалифицированных кадр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Скругленный прямоугольник 4"/>
          <p:cNvSpPr/>
          <p:nvPr/>
        </p:nvSpPr>
        <p:spPr>
          <a:xfrm>
            <a:off x="755640" y="5516640"/>
            <a:ext cx="7607160" cy="523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 Narrow"/>
              </a:rPr>
              <a:t>Эффективн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ое</a:t>
            </a:r>
            <a:r>
              <a:rPr b="1" lang="ru-RU" sz="2000" spc="-1" strike="noStrike">
                <a:solidFill>
                  <a:srgbClr val="ff0066"/>
                </a:solidFill>
                <a:latin typeface="Arial Narrow"/>
              </a:rPr>
              <a:t>  формирование и продвижение туристского продук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Овал 10"/>
          <p:cNvSpPr/>
          <p:nvPr/>
        </p:nvSpPr>
        <p:spPr>
          <a:xfrm>
            <a:off x="8072280" y="6286680"/>
            <a:ext cx="642960" cy="428400"/>
          </a:xfrm>
          <a:prstGeom prst="ellipse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-6480" y="244440"/>
            <a:ext cx="9101160" cy="154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buClr>
                <a:srgbClr val="0f6fc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завершить инвентаризацию государственных и муниципальных санаторно-курортных учреждений и о результатах доложить в Правительство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-371160">
              <a:buClr>
                <a:srgbClr val="0f6fc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поддержка туроператоров, обеспечивающих увеличение туристического потока на приоритетных туристических маршрутах по Российской Федерации, осуществляющих разработку новых маршрутов, а также формирующих на территории Российской Федерации чартерные туристские перевозки в период «низкого сезона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-371160">
              <a:buClr>
                <a:srgbClr val="0f6fc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распространение действия скидки в размере 50% на перевозку детей в возрасте от 10 до 17 лет железнодорожным транспортом круглогодично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-371160">
              <a:buClr>
                <a:srgbClr val="0f6fc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субсидирование внутренних перевозок различными видами транспорта в целях повышения транспортной доступности туристско-рекреационных комплексов и объектов туристического показа с учётом перечня приоритетных туристических маршрутов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3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19:58Z</dcterms:created>
  <dc:creator>Государственная Дума</dc:creator>
  <dc:description/>
  <dc:language>en-US</dc:language>
  <cp:lastModifiedBy>Татьяна</cp:lastModifiedBy>
  <dcterms:modified xsi:type="dcterms:W3CDTF">2018-11-11T19:19:36Z</dcterms:modified>
  <cp:revision>222</cp:revision>
  <dc:subject/>
  <dc:title>Слайд 1</dc:title>
</cp:coreProperties>
</file>