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3213-6CE4-43BD-A4B2-1A1F3B23F2D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D641-052F-4EC0-BFEB-09CE1F621BD2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68DE-C919-4627-ADC8-9A354F52CBF4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9411-07FB-4E39-9A0E-C1E308A08C99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0794-DA4F-4CD2-9272-A2EB7B0B3033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89F6-40CC-46F7-828A-78B88916C21D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C54B-C672-46B0-BB46-DB1AAC93558E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2D00-581F-40D8-B562-1BE5AEC028CE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5C0B-D204-48EF-BC87-D7191AA2FC9D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2D8-07D4-4295-B087-0F0D0AED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3A5-3C64-454A-B378-3C86F0BE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A7BD2C-01AC-46A5-98FD-4041A9A8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EE046D-95CB-43E9-B9DD-ADB94618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F190E8-0AE0-4A63-9A99-45C15E18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152FEC-E135-4C03-AB9A-CF68C465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7E8944-9A11-4EAA-A1CB-4EC0B9DC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29EC59-3889-4EBE-9503-589FBDFF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1BEE4C-CD39-4B91-8087-0D737B27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FC183C-9ADE-456C-8F22-71835346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573A34-4F3D-4309-A81C-027AE584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FE0-302D-44D5-9042-722AFA61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B6D4-8EED-4A00-BA99-EE2E101A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EEEB3-3545-4F37-9731-445BEAF5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19148-A6EA-4A84-A59B-36A101FA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E9102-6F76-4B7C-ADB9-5D24C1B2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B6FF2-BAA3-4749-8625-44D75A74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C2AA9-19C0-45B8-9BA0-2529A499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8C940-3FDA-4806-9A1E-5ECEA63D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8C92D-0C7A-4EE2-8292-C47B4A25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D30-8396-4095-831A-A7CBCBB2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04BE0-426D-4865-82BC-47DC10CA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652ED-2D2C-4729-9D2E-5F20303F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4BC47-D107-401F-8E32-DB22AE66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76C90-7EFE-49A5-B62E-BCD02E58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5617B-FFFE-461B-8D8F-FEE0C1F2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DFA4C-A685-4D0C-9484-C5D7E685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1AAC5-DD7D-439C-88F9-CA5537AA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7E713-AD86-4F1E-B932-15C25ED0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AB473-6A54-4B3C-A534-25570A04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831EC-F220-4F42-829F-3E0C20E3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8E17-0BE3-40A6-AC64-8D1EE8FD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76AA0-0B25-46D9-91ED-AC024C66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9290D-3B43-416C-8D17-0A8236F2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D2883-EF73-4143-A116-237EB8F1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6EB18-0EEE-4902-BFE7-3534F5CF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FEB21-9889-4E75-A6F2-53284233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6E8B1-51AE-4431-8F92-E2E3518D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808EF-4D15-45BD-A49A-222B91E9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E10200-918D-427D-9443-CED44874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74C06C-089F-47AA-9022-3BF3D4CE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01E592-0703-469B-B3F3-C1BFA870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9590-BADE-426B-8327-925F94C0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2B97C2-F6BB-464E-B8F2-5A9FE92C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0709C4-B893-4BD6-A7DA-B5014009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65C60E-8510-41B6-B467-B129B12F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7B5BB4-9BD6-4639-AB85-EDE95FD2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C0933B-8E82-4D31-8FC9-4AB26324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4F4874-EEC2-44A7-9036-FD749B94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F9A388-B1D1-4A6C-AB06-AB8A0ED4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7F02B7-A0C9-4440-A161-67809D65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4C461C-CDF8-4301-B42D-EF4DC51D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476C7-C521-416F-B39B-D2214E4C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640-336D-43CF-A8EE-CD5DCB7A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2D9D2-D460-4783-B384-B0003B6C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FA83B-2655-445D-9516-D46F8453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D4848-9770-4B30-84DE-B252D963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82380-6554-4C4A-B395-D3CF31F2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FA6C0-4A9D-4927-B5B7-5BF156F2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1A5E2-C28D-4EAB-A4F6-F968E839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E17D1-D794-44F1-A4C5-54EC3713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47C0C-709E-456D-A64A-14FAE5C9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C9125-9B5C-437F-9450-31F0C814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B856E-2514-4C2B-A644-73A2BB10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BFBA-1413-4658-A982-07A141E9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BB664-DFB4-4C36-A96C-42EA11F9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1373C-3C3B-4437-B898-CC46AB9D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205F0-0AAF-4900-9E00-8FC2ECDD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9A54D-539C-47B5-A145-88192768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92EED-28DA-4483-A1E3-1224774E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B7D64-FE31-4CAD-9CDD-4606CC3A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E05C2-C12D-4B64-B6E2-A0291F55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771A2-7113-4D86-BA35-43B38B49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C1A8B-078F-44F8-8261-B2B3FE84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4C0A1-4900-4650-A2A7-98E323C4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EA16-12DA-4826-B7E5-69281270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C827E-E4A8-4E98-BE29-AE3CE3FC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258CC-0C03-4B9D-B6F0-D1C98EC0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0837D-B8A5-454D-92A2-7E703C36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E55AF-5B27-4158-9D32-443064A5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105D9-BAC5-4B61-8A39-9FBBA1A4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1BD54-DC74-433E-AA10-527EE450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F0EB2-AAE5-4236-B37E-08472688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0E961-A85B-49EC-8CC0-3A9F9AF7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6623F-875E-4EC5-A257-82E7983D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C7BB4-0280-4BFA-A7C6-0C2E02DF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3D7-EAF3-40A8-A988-B1893D9E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55359-37DB-4B04-A93C-551EADBF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43843-2442-4EBA-A829-101224AC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894CE-0B7B-4582-B26F-A81A19A4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4B15B-CB6A-4DA9-AC08-A150C030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67CD3-5618-48B6-A785-5D249573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025B98-790B-4017-9A87-1FE436FE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1373B6-2769-45AD-B007-BBC85ED2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E82E24-5DD3-4DE2-BB3A-33196862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D5B06E-57B9-44E0-AA68-04FD8233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5DA7FE-B66B-4707-AABE-C40104B6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B13E-6161-4D44-8F08-1D49851D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3E5520-97E9-48E5-A87E-9F76D319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33C04A-C17B-4FF5-A9BE-CCD482A2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FC62A6-89E7-45DD-9D7A-EB935F99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205C9D-65C9-4F85-986C-78A3A8DC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40BAC7-A520-47DA-A3B9-1AF927EF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CA5905-8F69-41B7-A56A-79E1B3C1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80F935-135E-4057-BF7F-924E33C6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2DCF3F-1C83-422B-A332-4456F4E2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32BDDD-0600-4FCF-8F6E-7BED106B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E088A1-7487-478A-AE20-33EAF226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01D2-4FDE-4C3D-A62E-50ABF29D5329}" type="slidenum">
              <a:rPr b="0" lang="ru-RU" sz="16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076B-7BEE-4976-A3D4-86B78170C4F3}" type="slidenum">
              <a:rPr b="0" lang="ru-RU" sz="16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0925-B1C3-4354-969A-A2D2A22831A7}" type="slidenum">
              <a:rPr b="0" lang="ru-RU" sz="16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27C5-2A8E-4C39-B44F-16C808619B4B}" type="slidenum">
              <a:rPr b="0" lang="ru-RU" sz="16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8D10-6AA1-4669-A99F-62F17B1BF7C9}" type="slidenum">
              <a:rPr b="0" lang="ru-RU" sz="16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425B-C35F-45FB-B249-E3CEF3060748}" type="slidenum">
              <a:rPr b="0" lang="ru-RU" sz="16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23A6-3A81-4F38-8C7D-4EE1850D3E55}" type="slidenum">
              <a:rPr b="0" lang="ru-RU" sz="16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A639-ABD1-4F6B-85EE-CFF3ACB8225B}" type="slidenum">
              <a:rPr b="0" lang="ru-RU" sz="16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1DFA-3B5E-4644-867C-EBABC1710C78}" type="slidenum">
              <a:rPr b="0" lang="ru-RU" sz="16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9009000" cy="31035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3840" y="3357360"/>
            <a:ext cx="86439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Ю.А. Барзыкин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Вице-президент Российского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Союза туриндустрии,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Председатель Комитета ТПП РФ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по предпринимательству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в сфере туризма, к.э.н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ambria"/>
              </a:rPr>
              <a:t>Сочи, 2018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-6480" y="49320"/>
            <a:ext cx="9137880" cy="15303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142920" y="1714680"/>
            <a:ext cx="88581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8720" indent="-28872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азработать и утвердить </a:t>
            </a: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стратегию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развития санаторно-курортного комплекса 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ассмотреть вопрос о возможности создания </a:t>
            </a: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территорий опережающего развития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на территориях курортов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азработать план мероприятий по </a:t>
            </a: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стимулированию привлечения частных инвестици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в развитие санаторно-курортного комплекса Российской Федерации, предусмотрев возможность реализации инвестиционных проектов с применением механизмов государственно-частного партнёрства, в том числе на условиях концессионного соглашени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едставить предложения по введению </a:t>
            </a: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системы оценки (определения категорий) для санаториев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 зависимости от уровня оказываемых в них медицинских, сервисных и других услуг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нести в законодательство РФ изменения, предусматривающие наделение </a:t>
            </a: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Ростуризма полномочиями по продвижению турпродукт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, в состав которого включены услуги санаторно-курортного комплекса РФ, на внутреннем и мировом туристических рынках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39640" y="2968560"/>
            <a:ext cx="801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Спасибо за внимани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-6480" y="49320"/>
            <a:ext cx="8869320" cy="14554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142560" y="1356840"/>
            <a:ext cx="9001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рогноз на 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2018 г.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Рост внутреннего туризма на 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10% и более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внутренний туризм – более 56 млн.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человек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Краснодарский край – около 16 млн. человек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Крым – около 6,5 млн. человек, + 30%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Алтайский край – более 2 млн. человек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Ставропольский край – более 1 млн. человек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Абхазия – около 1 млн. человек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Рост выездного туризма  более 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9%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Овал 3"/>
          <p:cNvSpPr/>
          <p:nvPr/>
        </p:nvSpPr>
        <p:spPr>
          <a:xfrm>
            <a:off x="8286840" y="6072120"/>
            <a:ext cx="571320" cy="500040"/>
          </a:xfrm>
          <a:prstGeom prst="ellipse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-6480" y="281160"/>
            <a:ext cx="8869320" cy="12236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142560" y="999720"/>
            <a:ext cx="9001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lnSpc>
                <a:spcPct val="150000"/>
              </a:lnSpc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Дома – 32 %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lnSpc>
                <a:spcPct val="150000"/>
              </a:lnSpc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На даче – 26 %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lnSpc>
                <a:spcPct val="150000"/>
              </a:lnSpc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Другой город – 10 %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lnSpc>
                <a:spcPct val="150000"/>
              </a:lnSpc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Черноморское побережье – 6 %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lnSpc>
                <a:spcPct val="150000"/>
              </a:lnSpc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Крым – 3 %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lnSpc>
                <a:spcPct val="150000"/>
              </a:lnSpc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За рубежом – 6 %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lnSpc>
                <a:spcPct val="150000"/>
              </a:lnSpc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Средний чек на 1 человека – 37 тысяч рублей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lnSpc>
                <a:spcPct val="150000"/>
              </a:lnSpc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Довольны отдыхом за рубежом -77% туристов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lnSpc>
                <a:spcPct val="150000"/>
              </a:lnSpc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Среди отдохнувших в России - 85%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Овал 3"/>
          <p:cNvSpPr/>
          <p:nvPr/>
        </p:nvSpPr>
        <p:spPr>
          <a:xfrm>
            <a:off x="8286840" y="6072120"/>
            <a:ext cx="571320" cy="500040"/>
          </a:xfrm>
          <a:prstGeom prst="ellipse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-6480" y="133200"/>
            <a:ext cx="9021960" cy="10922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142920" y="1285560"/>
            <a:ext cx="88581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77% россиян не были за границей последние 5 лет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72% россиян не имеют загранпаспорта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Меньше 1% россиян выезжают за границу 4 раза в год , 1% выезжают 2-3 раза в год, 5% – 1 раз в год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9% – 1 раз в 2-3 года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4% – выезжают за рубеж 1раз в несколько лет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5% – раньше ездили, теперь нет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59% – никогда не были за пределами бывшего СССР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80% россиян никогда не были в Египте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76% россиян ни разу не были в Турци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667720" cy="89712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80000"/>
              </a:lnSpc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табилизация внутреннего,  восстановление выездного по основным направлениям и незначительный рост въездного туризм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-398520">
              <a:lnSpc>
                <a:spcPct val="80000"/>
              </a:lnSpc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Расширение продаж пакетных туров на внутреннем рынке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-398520">
              <a:lnSpc>
                <a:spcPct val="80000"/>
              </a:lnSpc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Усиление регионального развития и появление новых программ  регионов России (Краснодарский край, Крым, Адыгея, Башкортостан, Мурманская, Свердловская области, Пермский край, Карелия и др.)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-398520">
              <a:lnSpc>
                <a:spcPct val="80000"/>
              </a:lnSpc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нижение агентских комиссий и вознаграждений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-398520">
              <a:lnSpc>
                <a:spcPct val="80000"/>
              </a:lnSpc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Формирование интегрированных турпродуктов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-398520">
              <a:lnSpc>
                <a:spcPct val="80000"/>
              </a:lnSpc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Развитие 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IT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-технологий, интернет-порталов и  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online-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родаж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-398520">
              <a:lnSpc>
                <a:spcPct val="80000"/>
              </a:lnSpc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вышение спроса на качественные лечебно-оздоровительные, семейный отдых с детьми  (52%), активные виды туризма (+ 25%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-398520">
              <a:lnSpc>
                <a:spcPct val="80000"/>
              </a:lnSpc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Развитие социального туризма (детского, молодежного и др.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-398520">
              <a:lnSpc>
                <a:spcPct val="80000"/>
              </a:lnSpc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окращение продолжительности турпоездок и совмещение различных видов отдых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390600" y="281160"/>
            <a:ext cx="8528040" cy="11509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42920" y="1571400"/>
            <a:ext cx="885816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8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Повышение спроса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а качественные лечебно-оздоровительные, спа-услуги, семейный отдых с детьми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епрерывное </a:t>
            </a: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расширение спектра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редлагаемых услуг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озможность приобретения услуг, процедур и операций на </a:t>
            </a: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международном рынке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различающихся по качеству и стоимости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Формирование трансграничных и интегрированных турпродуктов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Сокращение длительности пребывания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за счет дифференциации и интенсификации процедур (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eekend,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едельный тур и др.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Рост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оздоровительных поездок в среднем </a:t>
            </a: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10% в год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, почти в два раза опережает темпы роста туризма в целом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Расходы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а оздоровительные  услуги в среднем на </a:t>
            </a: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130%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больше, чем на средние пляжные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рименение </a:t>
            </a: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искусственных и доставленных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минеральных вод, грязей и др. ресурсов для курортного лечения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Развитие </a:t>
            </a:r>
            <a:r>
              <a:rPr b="1" lang="en-US" sz="2000" spc="-1" strike="noStrike">
                <a:solidFill>
                  <a:srgbClr val="ffff00"/>
                </a:solidFill>
                <a:latin typeface="Rockwell"/>
              </a:rPr>
              <a:t>IT</a:t>
            </a: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-технологий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, интернет-порталов и  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online-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родаж, увеличение глубины бронирования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Введен курортный сбор в 4 субъектах РФ (Краснодарский, Ставропольский, Алтайский края, Республика Крым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021960" cy="13716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-360" y="1428840"/>
            <a:ext cx="878508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аличие лечебно-диагностических услуг (ЛДУ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озможности ЛДУ для туристов – отдыхающих </a:t>
            </a: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(в стоимости путевки)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626760" indent="-223920"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диагностика (расширенные исследования крови и др.,  УЗИ, (в некоторых санаториях рентген) и др.);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lvl="1" marL="626760" indent="-223920"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посещение врачей – специалистов (диетолог, психолог (психотерапевт), невролог, уролог, гинеколог, пульмонолог, офтальмолог, стоматолог, дерматолог, проктолог и др.);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lvl="1" marL="626760" indent="-223920"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большой выбор физиопроцедур, в том числе с использованием широкого спектра электроприборов для лечения различных заболеваний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Расположение санаториев на курортах </a:t>
            </a: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(Кавминводы, Сочи, Крым, др. регионы)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бщее число врачей </a:t>
            </a: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30-40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, медицинских работников </a:t>
            </a: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60 – 70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человек, что составляет </a:t>
            </a: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30 – 50 %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т общего числа персонал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тсутствие визы (60-80 евро с человека в европейские санатории), медицинской страховки (1 евро в день на 1 человека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убсидирование авиаперевозок для молодежи и пенсионеров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убсидирование туроператоров (2-5 тыс. рублей на человека, 320 млн. рублей в 2018 г.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7" name="Овал 3"/>
          <p:cNvSpPr/>
          <p:nvPr/>
        </p:nvSpPr>
        <p:spPr>
          <a:xfrm>
            <a:off x="8072280" y="6215040"/>
            <a:ext cx="642960" cy="428760"/>
          </a:xfrm>
          <a:prstGeom prst="ellipse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4"/>
          <p:cNvSpPr/>
          <p:nvPr/>
        </p:nvSpPr>
        <p:spPr>
          <a:xfrm>
            <a:off x="8039160" y="638172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14"/>
          <p:cNvSpPr/>
          <p:nvPr/>
        </p:nvSpPr>
        <p:spPr>
          <a:xfrm>
            <a:off x="8039160" y="638172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212840"/>
          </a:xfrm>
          <a:prstGeom prst="rect">
            <a:avLst/>
          </a:prstGeom>
          <a:ln w="0">
            <a:noFill/>
          </a:ln>
        </p:spPr>
      </p:pic>
      <p:sp>
        <p:nvSpPr>
          <p:cNvPr id="421" name="Скругленный прямоугольник 4"/>
          <p:cNvSpPr/>
          <p:nvPr/>
        </p:nvSpPr>
        <p:spPr>
          <a:xfrm>
            <a:off x="812880" y="1143000"/>
            <a:ext cx="7607160" cy="7858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9dd9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Эффективная система государственного регулирова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Развитие социального туризм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Скругленный прямоугольник 4"/>
          <p:cNvSpPr/>
          <p:nvPr/>
        </p:nvSpPr>
        <p:spPr>
          <a:xfrm>
            <a:off x="812880" y="2938320"/>
            <a:ext cx="7607160" cy="5032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9dd9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Наличие средств размещения с высоким уровнем обслужива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Скругленный прямоугольник 4"/>
          <p:cNvSpPr/>
          <p:nvPr/>
        </p:nvSpPr>
        <p:spPr>
          <a:xfrm>
            <a:off x="812880" y="3730680"/>
            <a:ext cx="7607160" cy="5238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9dd9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Высокое качество предоставляемых услу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Скругленный прямоугольник 4"/>
          <p:cNvSpPr/>
          <p:nvPr/>
        </p:nvSpPr>
        <p:spPr>
          <a:xfrm>
            <a:off x="812880" y="2108160"/>
            <a:ext cx="7607160" cy="533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9dd9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Развитая транспортная инфраструктура и доступность объект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Скругленный прямоугольник 4"/>
          <p:cNvSpPr/>
          <p:nvPr/>
        </p:nvSpPr>
        <p:spPr>
          <a:xfrm>
            <a:off x="812880" y="4606920"/>
            <a:ext cx="7607160" cy="5238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9dd9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Наличие квалифицированных кадр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Скругленный прямоугольник 4"/>
          <p:cNvSpPr/>
          <p:nvPr/>
        </p:nvSpPr>
        <p:spPr>
          <a:xfrm>
            <a:off x="755640" y="5516640"/>
            <a:ext cx="7607160" cy="5238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9dd9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 Narrow"/>
              </a:rPr>
              <a:t>Эффективн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ое</a:t>
            </a:r>
            <a:r>
              <a:rPr b="1" lang="ru-RU" sz="2000" spc="-1" strike="noStrike">
                <a:solidFill>
                  <a:srgbClr val="ff0066"/>
                </a:solidFill>
                <a:latin typeface="Arial Narrow"/>
              </a:rPr>
              <a:t>  формирование и продвижение туристского продукт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Овал 10"/>
          <p:cNvSpPr/>
          <p:nvPr/>
        </p:nvSpPr>
        <p:spPr>
          <a:xfrm>
            <a:off x="8072280" y="6286680"/>
            <a:ext cx="642960" cy="428400"/>
          </a:xfrm>
          <a:prstGeom prst="ellipse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-6480" y="244440"/>
            <a:ext cx="9101160" cy="15480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0" y="17856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buClr>
                <a:srgbClr val="0f6fc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- завершить инвентаризацию государственных и муниципальных санаторно-курортных учреждений и о результатах доложить в Правительство Российской Федерации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434160" indent="-371160">
              <a:buClr>
                <a:srgbClr val="0f6fc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- поддержка туроператоров, обеспечивающих увеличение туристического потока на приоритетных туристических маршрутах по Российской Федерации, осуществляющих разработку новых маршрутов, а также формирующих на территории Российской Федерации чартерные туристские перевозки в период «низкого сезона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434160" indent="-371160">
              <a:buClr>
                <a:srgbClr val="0f6fc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- распространение действия скидки в размере 50% на перевозку детей в возрасте от 10 до 17 лет железнодорожным транспортом круглогодично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434160" indent="-371160">
              <a:buClr>
                <a:srgbClr val="0f6fc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- субсидирование внутренних перевозок различными видами транспорта в целях повышения транспортной доступности туристско-рекреационных комплексов и объектов туристического показа с учётом перечня приоритетных туристических маршрутов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434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434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434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434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7:19:58Z</dcterms:created>
  <dc:creator>Государственная Дума</dc:creator>
  <dc:description/>
  <dc:language>en-US</dc:language>
  <cp:lastModifiedBy>Татьяна</cp:lastModifiedBy>
  <dcterms:modified xsi:type="dcterms:W3CDTF">2018-11-11T19:19:36Z</dcterms:modified>
  <cp:revision>222</cp:revision>
  <dc:subject/>
  <dc:title>Слайд 1</dc:title>
</cp:coreProperties>
</file>