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4868360" y="-12827160"/>
            <a:ext cx="18097200" cy="135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398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1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30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34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38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4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1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5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2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5320" y="75564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-14870160" y="-12827160"/>
            <a:ext cx="18108720" cy="13582800"/>
          </a:xfrm>
          <a:prstGeom prst="rect">
            <a:avLst/>
          </a:prstGeom>
          <a:ln w="0">
            <a:noFill/>
          </a:ln>
        </p:spPr>
      </p:sp>
      <p:sp>
        <p:nvSpPr>
          <p:cNvPr id="128" name="Text Box 2"/>
          <p:cNvSpPr/>
          <p:nvPr/>
        </p:nvSpPr>
        <p:spPr>
          <a:xfrm>
            <a:off x="676440" y="4722840"/>
            <a:ext cx="540684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84F-9E68-48D0-98C9-5E9D4424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5AB-6CAA-42EC-BAC3-62A6D974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55F-2F4B-441D-B68F-9ABBF2C7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C60-717F-4CD2-869E-054FF6C9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B56-3C5F-41DE-B628-569A34D3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FE6-9B6C-43B8-854A-1DC4FB48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917-7506-4529-B8F1-4021FB1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619-04F7-4D89-BB05-43C360EC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CDA-C46C-487B-95F0-6CEFE14A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D99-B4D9-4DA0-B245-BB4B303A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38D-84DE-42F9-9417-C9DC38DC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388-4AB0-4137-83F3-B20CF3B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D952A-DB79-4184-BDCD-E4E272E6378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o.int/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iarating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ПП РФ «Новое качество жизни, устойчивое развитие регионов» 06.12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мер — г. Таганрог [исследование ИСЭПН РАН 2014-2015 гг. (грант РФФИ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9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ганрожцев считают свое здоровь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итель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«плохим» и «очень плохим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ти половина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3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респондентов оценили свое здоровье и здоровье детей ка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ее и отли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8%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ошенных считают свое здоровь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йкая тенденция 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ю популяционного здоровь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последние 30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2000" y="334800"/>
            <a:ext cx="789336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ронические заболева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нвалидизац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гендерные различ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зрастной дисбалан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оступность здравоохранения (финансы, качество, институциональные характерис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518920"/>
            <a:ext cx="822816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41440" y="3241800"/>
            <a:ext cx="781056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функционирование системы медицинских услу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государственных и частных учреждений в оказании разных типов помощи различна 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ая, диспансерная и скорая помощ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государствен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чрежде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осударствен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ские учреждения г. Таганрога оказывают многопрофильную и  специализированну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ую помощ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гинекологии, косметологии, офтальмологии, стоматологии, народной и нетрадиционной медици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е апте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агазины по продаже оптики и товаров для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ондент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мооценке лучше, че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самом деле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фициальной городской статистике общая заболеваемость взрослых на 2,7% превысила среднеобластной уровен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тракту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ондентами скоре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ндивидуаль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е общефизиологическ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даптивная система общественного здравоохранения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щая каждому человеку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б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иболее адекватный способ сохранения здоровь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компонент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честв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268280"/>
          <a:ext cx="7416720" cy="6737400"/>
        </p:xfrm>
        <a:graphic>
          <a:graphicData uri="http://schemas.openxmlformats.org/drawingml/2006/table">
            <a:tbl>
              <a:tblPr/>
              <a:tblGrid>
                <a:gridCol w="1893960"/>
                <a:gridCol w="1204920"/>
                <a:gridCol w="1014480"/>
                <a:gridCol w="1263600"/>
                <a:gridCol w="950760"/>
                <a:gridCol w="1089000"/>
              </a:tblGrid>
              <a:tr h="131328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626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г. Моск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26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Санкт-Петербур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Моск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Татарс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одар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374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горо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Ханты-Мансийский автономный округ - Юг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Воронеж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Липец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вердл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58920" y="836640"/>
          <a:ext cx="6553080" cy="6539040"/>
        </p:xfrm>
        <a:graphic>
          <a:graphicData uri="http://schemas.openxmlformats.org/drawingml/2006/table">
            <a:tbl>
              <a:tblPr/>
              <a:tblGrid>
                <a:gridCol w="1620720"/>
                <a:gridCol w="1076400"/>
                <a:gridCol w="905040"/>
                <a:gridCol w="1128600"/>
                <a:gridCol w="850680"/>
                <a:gridCol w="971640"/>
              </a:tblGrid>
              <a:tr h="106848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Тюме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1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егоро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14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ама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414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Ленингра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10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яби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41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нингра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96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у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414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ост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14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таврополь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4144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алуж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55640" y="836640"/>
          <a:ext cx="7705800" cy="6683400"/>
        </p:xfrm>
        <a:graphic>
          <a:graphicData uri="http://schemas.openxmlformats.org/drawingml/2006/table">
            <a:tbl>
              <a:tblPr/>
              <a:tblGrid>
                <a:gridCol w="1968480"/>
                <a:gridCol w="1251000"/>
                <a:gridCol w="1052640"/>
                <a:gridCol w="1312560"/>
                <a:gridCol w="989280"/>
                <a:gridCol w="1131840"/>
              </a:tblGrid>
              <a:tr h="112068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25596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577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Башкортос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сиби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116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Пензе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Ямало-Ненецкий автономный окру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ль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осла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0" rIns="0" tIns="2880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яза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2880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5116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Тамб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0" rIns="0" tIns="2880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Ульян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288000" bIns="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арат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5280" y="5975280"/>
            <a:ext cx="7777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55640" y="836640"/>
          <a:ext cx="7705800" cy="6777000"/>
        </p:xfrm>
        <a:graphic>
          <a:graphicData uri="http://schemas.openxmlformats.org/drawingml/2006/table">
            <a:tbl>
              <a:tblPr/>
              <a:tblGrid>
                <a:gridCol w="1968480"/>
                <a:gridCol w="1251000"/>
                <a:gridCol w="1052640"/>
                <a:gridCol w="1312560"/>
                <a:gridCol w="989280"/>
                <a:gridCol w="1131840"/>
              </a:tblGrid>
              <a:tr h="121428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816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Волгогра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чат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Адыге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моле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енбург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муртская республ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116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м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Хабаров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Владими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Чувашская республ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280" y="5904000"/>
            <a:ext cx="77770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36720" y="838080"/>
          <a:ext cx="7527960" cy="6777000"/>
        </p:xfrm>
        <a:graphic>
          <a:graphicData uri="http://schemas.openxmlformats.org/drawingml/2006/table">
            <a:tbl>
              <a:tblPr/>
              <a:tblGrid>
                <a:gridCol w="1922400"/>
                <a:gridCol w="1222200"/>
                <a:gridCol w="1028880"/>
                <a:gridCol w="1282680"/>
                <a:gridCol w="965160"/>
                <a:gridCol w="1106640"/>
              </a:tblGrid>
              <a:tr h="121464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7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раснояр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рловская 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1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м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ада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Астраха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Мордо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Мурма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ахали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ОН 2015 - 17 целей и 169 задач устойчивого  развития</a:t>
            </a:r>
            <a:br>
              <a:rPr sz="2400"/>
            </a:b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ь 3. Обеспечение здорового образа жизни и содействие благополучи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ждой страны особые трудности на пути достижения устойчивого развития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я - к 2030 г.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200" spc="-1" strike="noStrike">
                <a:solidFill>
                  <a:srgbClr val="000000"/>
                </a:solidFill>
                <a:latin typeface="Noto Sans"/>
                <a:ea typeface="Noto Sans"/>
              </a:rPr>
              <a:t>↓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мертность — материнскую до </a:t>
            </a:r>
            <a:r>
              <a:rPr b="0" i="1" lang="ru-RU" sz="22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70 случаев на 100000 живорождений, неонатальную до </a:t>
            </a:r>
            <a:r>
              <a:rPr b="0" i="1" lang="ru-RU" sz="22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2200" spc="-1" strike="noStrike">
                <a:solidFill>
                  <a:srgbClr val="000000"/>
                </a:solidFill>
                <a:latin typeface="Noto Sans"/>
                <a:ea typeface="Noto Sans"/>
              </a:rPr>
              <a:t>‰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в возрасте до 5 лет до </a:t>
            </a:r>
            <a:r>
              <a:rPr b="0" i="1" lang="ru-RU" sz="22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i="1" lang="ru-RU" sz="2200" spc="-1" strike="noStrike">
                <a:solidFill>
                  <a:srgbClr val="000000"/>
                </a:solidFill>
                <a:latin typeface="Noto Sans"/>
                <a:ea typeface="Noto Sans"/>
              </a:rPr>
              <a:t>‰, от НИЗ </a:t>
            </a:r>
            <a:r>
              <a:rPr b="0" i="1" lang="ru-RU" sz="2000" spc="-1" strike="noStrike">
                <a:solidFill>
                  <a:srgbClr val="000000"/>
                </a:solidFill>
                <a:latin typeface="Noto Sans"/>
                <a:ea typeface="Noto Sans"/>
              </a:rPr>
              <a:t>на 1/3, вдвое от ДТП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Noto Sans"/>
                <a:ea typeface="Noto Sans"/>
              </a:rPr>
              <a:t> - </a:t>
            </a:r>
            <a:r>
              <a:rPr b="0" i="1" lang="ru-RU" sz="2200" spc="-1" strike="noStrike">
                <a:solidFill>
                  <a:srgbClr val="000000"/>
                </a:solidFill>
                <a:latin typeface="Noto Sans"/>
                <a:ea typeface="Noto Sans"/>
              </a:rPr>
              <a:t>всеобщий охват услугами здравоохранения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Noto Sans"/>
                <a:ea typeface="Noto Sans"/>
              </a:rPr>
              <a:t> </a:t>
            </a:r>
            <a:br>
              <a:rPr sz="2200"/>
            </a:br>
            <a:br>
              <a:rPr sz="22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 —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Цели устойчивого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280" y="5975280"/>
            <a:ext cx="7777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36720" y="838080"/>
          <a:ext cx="7527960" cy="6777000"/>
        </p:xfrm>
        <a:graphic>
          <a:graphicData uri="http://schemas.openxmlformats.org/drawingml/2006/table">
            <a:tbl>
              <a:tblPr/>
              <a:tblGrid>
                <a:gridCol w="1922400"/>
                <a:gridCol w="1222200"/>
                <a:gridCol w="1028880"/>
                <a:gridCol w="1282680"/>
                <a:gridCol w="965160"/>
                <a:gridCol w="1106640"/>
              </a:tblGrid>
              <a:tr h="121464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7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емер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я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остром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Новгоро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1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ор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Марий Э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Тве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Северная Осетия-Ал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Ко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55280" y="5924160"/>
            <a:ext cx="7777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6720" y="838080"/>
          <a:ext cx="7529400" cy="6777000"/>
        </p:xfrm>
        <a:graphic>
          <a:graphicData uri="http://schemas.openxmlformats.org/drawingml/2006/table">
            <a:tbl>
              <a:tblPr/>
              <a:tblGrid>
                <a:gridCol w="1922400"/>
                <a:gridCol w="1222200"/>
                <a:gridCol w="1028880"/>
                <a:gridCol w="1282680"/>
                <a:gridCol w="965160"/>
                <a:gridCol w="1108080"/>
              </a:tblGrid>
              <a:tr h="1214640"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703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0276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7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Алтай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ков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Амур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Вологод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1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Хака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рдино-Балкарская Республ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Иркут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Дагес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Ненецкий автономный окру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Каре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6214680"/>
            <a:ext cx="77770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3280" y="836640"/>
          <a:ext cx="7561080" cy="7115040"/>
        </p:xfrm>
        <a:graphic>
          <a:graphicData uri="http://schemas.openxmlformats.org/drawingml/2006/table">
            <a:tbl>
              <a:tblPr/>
              <a:tblGrid>
                <a:gridCol w="1930320"/>
                <a:gridCol w="1228680"/>
                <a:gridCol w="1032120"/>
                <a:gridCol w="1288800"/>
                <a:gridCol w="970200"/>
                <a:gridCol w="1110960"/>
              </a:tblGrid>
              <a:tr h="1552680"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н-ному прирос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7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г. Севастоп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7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Саха (Якут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Чеченская Республ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Архангель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Бур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1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Кры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урга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Еврейская автономн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Чукотский автономный окру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5080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Алт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55280" y="5924160"/>
            <a:ext cx="77770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усанова Н.Е.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Здоровье, качество жизни, устойчивое развитие регионов России</a:t>
            </a:r>
            <a:r>
              <a:rPr b="1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—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йтинг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36720" y="838080"/>
          <a:ext cx="7529400" cy="7115400"/>
        </p:xfrm>
        <a:graphic>
          <a:graphicData uri="http://schemas.openxmlformats.org/drawingml/2006/table">
            <a:tbl>
              <a:tblPr/>
              <a:tblGrid>
                <a:gridCol w="1922400"/>
                <a:gridCol w="1222200"/>
                <a:gridCol w="1028880"/>
                <a:gridCol w="1282680"/>
                <a:gridCol w="965160"/>
                <a:gridCol w="1108080"/>
              </a:tblGrid>
              <a:tr h="1466280"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Субъект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ейтинго-вый балл (0-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Общий ран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естестве-нному прирос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г по ОПЖ (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анг по малому бизнесу (оборот на 1 жит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626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Забайкальский кр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26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Калмык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4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Карачаево-Черкесская Республ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37480">
                <a:tc>
                  <a:txBody>
                    <a:bodyPr lIns="90000" rIns="90000" tIns="2390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a"/>
                          </a:solidFill>
                          <a:latin typeface="Times New Roman"/>
                          <a:ea typeface="FreeSans"/>
                        </a:rPr>
                        <a:t>Республика Ингуше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74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Ты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920"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9844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чество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приятие индивидуумами своего положения в жизни в контексте культуры и системы ценностей той среды, в которой они живут, в неразрывной связи с их целями, ожиданиями, стандартами и забот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1996)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ho.int/ru/</a:t>
            </a:r>
            <a:r>
              <a:rPr b="0" lang="ru-RU" sz="2000" spc="-1" strike="noStrike" u="sng">
                <a:solidFill>
                  <a:srgbClr val="000080"/>
                </a:solidFill>
                <a:uFillTx/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альный показатель физического, психологического, эмоционального и социального функционирования человека (субъективное восприятие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ная характеристика (совокупность объективных показателей уровня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280" y="6190920"/>
            <a:ext cx="7777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Качество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дор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03320" y="360360"/>
            <a:ext cx="893916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йтинг регионов России по качеству жизни 201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Источник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йтинговое агентство «РИА Рейтинг, входящее в медиахолдинг «Россия сегодня»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riarating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224000" y="1368360"/>
            <a:ext cx="623232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Здоровье как компонент качества жизни — популяционное (общественное) здоровье. Регулируется на макроуровне (общенациональном). Часть национальной социально-демографической политик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стратегия и инструменты)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бщественное здоровье=сумма индивидуального здоровья. Регулируется на микроуровне (индивидуальном+региональном?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(институциональная специфика+финансирование)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Социальная инфраструктур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государство+ бизнес=партнерств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5280" y="5734080"/>
            <a:ext cx="7777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ыводы 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здоровья населения РФ: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* объек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фициальная отчетность ФСГС и МЗ РФ (2014-2015 гг.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55280" y="5975280"/>
            <a:ext cx="777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дор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2387520"/>
          <a:ext cx="7567560" cy="4210200"/>
        </p:xfrm>
        <a:graphic>
          <a:graphicData uri="http://schemas.openxmlformats.org/drawingml/2006/table">
            <a:tbl>
              <a:tblPr/>
              <a:tblGrid>
                <a:gridCol w="5619600"/>
                <a:gridCol w="1947960"/>
              </a:tblGrid>
              <a:tr h="52560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ый прирост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Noto Sans"/>
                          <a:ea typeface="Noto Sans"/>
                        </a:rPr>
                        <a:t>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7340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ность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2524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коэффициент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Noto Sans"/>
                          <a:ea typeface="Noto Sans"/>
                        </a:rPr>
                        <a:t>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344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енческая (на 1000 родившихся живым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3488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натальная (на 1000 родившихс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344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нская (на 100000 родившихся живым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r>
                        <a:rPr b="0" lang="ru-RU" sz="1800" spc="-1" strike="noStrike">
                          <a:solidFill>
                            <a:srgbClr val="ff3333"/>
                          </a:solidFill>
                          <a:latin typeface="Arial"/>
                        </a:rPr>
                        <a:t> (&lt;7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3344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Ж при рождении (лет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9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488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емость общая (на 100000 челове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86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588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алидизаци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Noto Sans"/>
                          <a:ea typeface="Noto Sans"/>
                        </a:rPr>
                        <a:t>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34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здоровья населения РФ: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* субъек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самооценка (социологические опросы — Комплексное наблюдение условий жизни населения ФСГС 2014, %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92000" y="5543280"/>
            <a:ext cx="774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дор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36720" y="3168720"/>
          <a:ext cx="7151760" cy="2282760"/>
        </p:xfrm>
        <a:graphic>
          <a:graphicData uri="http://schemas.openxmlformats.org/drawingml/2006/table">
            <a:tbl>
              <a:tblPr/>
              <a:tblGrid>
                <a:gridCol w="5906880"/>
                <a:gridCol w="1244880"/>
              </a:tblGrid>
              <a:tr h="47124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Noto Sans"/>
                        </a:rPr>
                        <a:t>Очень хорош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7160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1600">
                <a:tc>
                  <a:txBody>
                    <a:bodyPr lIns="90000" rIns="90000" tIns="18396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488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х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3344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плох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здравоохранени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фициальная отчетность ФСГС и МЗ РФ (сеть и материально-техническое обеспечение ЛПУ, обеспеченность медицинскими работниками, форма собственности — 2014 г.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55280" y="5975280"/>
            <a:ext cx="777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дор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63640" y="2735280"/>
          <a:ext cx="7278480" cy="3036960"/>
        </p:xfrm>
        <a:graphic>
          <a:graphicData uri="http://schemas.openxmlformats.org/drawingml/2006/table">
            <a:tbl>
              <a:tblPr/>
              <a:tblGrid>
                <a:gridCol w="6367320"/>
                <a:gridCol w="911160"/>
              </a:tblGrid>
              <a:tr h="41940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ничных коек (на 10000 челове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2136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амбулаторно-поликлинических организаций (на 1000 челове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136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врачей всех специальностей (на 10000 челове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136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ельный вес больничных организаций негосударственных форм собственности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23320"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ельный вес амбулаторно-поликлинических организаций негосударственных форм собственности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70280" bIns="46800" anchor="t">
                      <a:noAutofit/>
                    </a:bodyPr>
                    <a:p>
                      <a:pPr>
                        <a:lnSpc>
                          <a:spcPct val="7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-66600"/>
            <a:ext cx="8228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1 г., Римашевская Н.М. - универсальный индекс измерения уровня здоровья группы людей в определенный момент времени, чтобы наблюдать динамику (по принципу «от частного к общему», в основе - субъективная оценка здоровья, данная респондентом + сведения о его хронических заболеваниях, инвалидности, обращением за медицинской помощью разного уровня, затратой на лекарства и проч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90-х гг. - тенденция снижения уровня популяционного здоровья (рост показателей смертности, заболеваемости и сокращении ОПЖ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09600" y="5832360"/>
            <a:ext cx="852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санова Н.Е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доровье, качество жизни, устойчивое развитие регионов Росс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змерение здоров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0T19:16:55Z</dcterms:created>
  <dc:creator>Nina</dc:creator>
  <dc:description/>
  <cp:keywords/>
  <dc:language>en-US</dc:language>
  <cp:lastModifiedBy>Alex Alex</cp:lastModifiedBy>
  <cp:lastPrinted>2016-12-06T05:49:31Z</cp:lastPrinted>
  <dcterms:modified xsi:type="dcterms:W3CDTF">2016-12-06T05:59:35Z</dcterms:modified>
  <cp:revision>23</cp:revision>
  <dc:subject/>
  <dc:title>Здоровье как компонент человеческого капитала инновационного общества </dc:title>
</cp:coreProperties>
</file>