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-14868360" y="-12827160"/>
            <a:ext cx="18097200" cy="135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6080" y="4722840"/>
            <a:ext cx="5398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12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-14870160" y="-12827160"/>
            <a:ext cx="18108720" cy="13582800"/>
          </a:xfrm>
          <a:prstGeom prst="rect">
            <a:avLst/>
          </a:prstGeom>
          <a:ln w="0">
            <a:noFill/>
          </a:ln>
        </p:spPr>
      </p:sp>
      <p:sp>
        <p:nvSpPr>
          <p:cNvPr id="130" name="Text Box 2"/>
          <p:cNvSpPr/>
          <p:nvPr/>
        </p:nvSpPr>
        <p:spPr>
          <a:xfrm>
            <a:off x="676440" y="4722840"/>
            <a:ext cx="540684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-14870160" y="-12827160"/>
            <a:ext cx="18108720" cy="1358280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76440" y="4722840"/>
            <a:ext cx="540684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-14870160" y="-12827160"/>
            <a:ext cx="18108720" cy="13582800"/>
          </a:xfrm>
          <a:prstGeom prst="rect">
            <a:avLst/>
          </a:prstGeom>
          <a:ln w="0">
            <a:noFill/>
          </a:ln>
        </p:spPr>
      </p:sp>
      <p:sp>
        <p:nvSpPr>
          <p:cNvPr id="134" name="Text Box 2"/>
          <p:cNvSpPr/>
          <p:nvPr/>
        </p:nvSpPr>
        <p:spPr>
          <a:xfrm>
            <a:off x="676440" y="4722840"/>
            <a:ext cx="540684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-14870160" y="-12827160"/>
            <a:ext cx="18108720" cy="1358280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76440" y="4722840"/>
            <a:ext cx="540684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-14870160" y="-12827160"/>
            <a:ext cx="18108720" cy="13582800"/>
          </a:xfrm>
          <a:prstGeom prst="rect">
            <a:avLst/>
          </a:prstGeom>
          <a:ln w="0">
            <a:noFill/>
          </a:ln>
        </p:spPr>
      </p:sp>
      <p:sp>
        <p:nvSpPr>
          <p:cNvPr id="138" name="Text Box 2"/>
          <p:cNvSpPr/>
          <p:nvPr/>
        </p:nvSpPr>
        <p:spPr>
          <a:xfrm>
            <a:off x="676440" y="4722840"/>
            <a:ext cx="540684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42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46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14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50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52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54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56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16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18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22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24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-14870160" y="-12827160"/>
            <a:ext cx="18108720" cy="13582800"/>
          </a:xfrm>
          <a:prstGeom prst="rect">
            <a:avLst/>
          </a:prstGeom>
          <a:ln w="0">
            <a:noFill/>
          </a:ln>
        </p:spPr>
      </p:sp>
      <p:sp>
        <p:nvSpPr>
          <p:cNvPr id="128" name="Text Box 2"/>
          <p:cNvSpPr/>
          <p:nvPr/>
        </p:nvSpPr>
        <p:spPr>
          <a:xfrm>
            <a:off x="676440" y="4722840"/>
            <a:ext cx="540684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120-10E1-46FE-909A-A0281EA8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2C36-F777-4AAD-98B3-59945BB2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28A-27CF-437D-8981-D1D525DF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DBE-82EB-4AA2-8A36-54E6CFF9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040-B530-4EA5-9526-9646C991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E40-26A6-4FFD-A11A-614F5F1E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C75C-784C-4BAA-9393-56B90249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9813-A229-415E-A500-7B037C4C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5F9-AECB-486B-8D98-D6B2CA79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8E3-F631-493D-AE36-E513E02B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D274-6808-46C2-BE92-AC1E0CC6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8D82-DC09-4EB9-A937-A7479C5E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E1E00-AA92-4FD0-AB3C-C90E7F16E23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ho.int/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iarating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доровье, качество жизни, устойчивое развитие регионов Росс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анова Н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ПП РФ «Новое качество жизни, устойчивое развитие регионов» 06.12.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мер — г. Таганрог [исследование ИСЭПН РАН 2014-2015 гг. (грант РФФИ)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9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ганрожцев считают свое здоровь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довлетворительны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«плохим» и «очень плохим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чти половина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,3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респондентов оценили свое здоровье и здоровье детей ка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ее и отлич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,8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ошенных считают свое здоровь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ите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йкая тенденция к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ю популяционного здоровь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последние 30 л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2000" y="334800"/>
            <a:ext cx="7893360" cy="21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хронические заболева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нвалидизац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гендерные различ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озрастной дисбалан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оступность здравоохранения (финансы, качество, институциональные характеристи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518920"/>
            <a:ext cx="8228160" cy="36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541440" y="3241800"/>
            <a:ext cx="7810560" cy="23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функционирование системы медицинских услу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государственных и частных учреждений в оказании разных типов помощи различна -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ая, диспансерная и скорая помощ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государственны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учреждени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осударствен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цинские учреждения г. Таганрога оказывают многопрофильную и  специализированну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ую помощ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гинекологии, косметологии, офтальмологии, стоматологии, народной и нетрадиционной медици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е апте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магазины по продаже оптики и товаров для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доровь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пондент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амооценке лучше, че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самом деле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фициальной городской статистике общая заболеваемость взрослых на 2,7% превысила среднеобластной уровен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трактуе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пондентами скоре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индивидуальны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не общефизиологически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адаптивная система общественного здравоохранения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щая каждому человеку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еб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иболее адекватный способ сохранения здоровь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компонент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честв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516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55280" y="5734080"/>
            <a:ext cx="7777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усанова Н.Е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доровье, качество жизни, устойчивое развитие регионов России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йтинг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268280"/>
          <a:ext cx="7416720" cy="6737400"/>
        </p:xfrm>
        <a:graphic>
          <a:graphicData uri="http://schemas.openxmlformats.org/drawingml/2006/table">
            <a:tbl>
              <a:tblPr/>
              <a:tblGrid>
                <a:gridCol w="1893960"/>
                <a:gridCol w="1204920"/>
                <a:gridCol w="1014480"/>
                <a:gridCol w="1263600"/>
                <a:gridCol w="950760"/>
                <a:gridCol w="1089000"/>
              </a:tblGrid>
              <a:tr h="1313280"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убъект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ейтинго-вый балл (0-1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ан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703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естествен-ному прирос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703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ОПЖ (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анг по малому бизнесу (оборот на 1 жител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6268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г. Моск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6268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Санкт-Петербур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748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Москов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3748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еспублика Татарст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748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одарский кр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3748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город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748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Ханты-Мансийский автономный округ - Юг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3748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Воронеж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748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Липец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3748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вердлов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280" y="5734080"/>
            <a:ext cx="7777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усанова Н.Е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доровье, качество жизни, устойчивое развитие регионов России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йтинг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58920" y="836640"/>
          <a:ext cx="6553080" cy="6539040"/>
        </p:xfrm>
        <a:graphic>
          <a:graphicData uri="http://schemas.openxmlformats.org/drawingml/2006/table">
            <a:tbl>
              <a:tblPr/>
              <a:tblGrid>
                <a:gridCol w="1620720"/>
                <a:gridCol w="1076400"/>
                <a:gridCol w="905040"/>
                <a:gridCol w="1128600"/>
                <a:gridCol w="850680"/>
                <a:gridCol w="971640"/>
              </a:tblGrid>
              <a:tr h="1068480"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убъект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ейтинго-вый балл (0-1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ан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0" rIns="0" tIns="25596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Ранг по естествен-ному прирос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25596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Ранг по ОПЖ (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25596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анг по малому бизнесу (оборот на 1 жител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Тюме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132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егород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4144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амар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4144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Ленинград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4108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яби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4144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ининград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964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Кур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4144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остов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4144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тавропольский кр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4144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Калуж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280" y="5734080"/>
            <a:ext cx="7777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усанова Н.Е.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Здоровье, качество жизни, устойчивое развитие регионов России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—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йтинг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55640" y="836640"/>
          <a:ext cx="7705800" cy="6683400"/>
        </p:xfrm>
        <a:graphic>
          <a:graphicData uri="http://schemas.openxmlformats.org/drawingml/2006/table">
            <a:tbl>
              <a:tblPr/>
              <a:tblGrid>
                <a:gridCol w="1968480"/>
                <a:gridCol w="1251000"/>
                <a:gridCol w="1052640"/>
                <a:gridCol w="1312560"/>
                <a:gridCol w="989280"/>
                <a:gridCol w="1131840"/>
              </a:tblGrid>
              <a:tr h="1120680"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убъект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ейтинго-вый балл (0-1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ан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0" rIns="0" tIns="25596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Ранг по естествен-ному прирос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25596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Ранг по ОПЖ (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25596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анг по малому бизнесу (оборот на 1 жител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577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еспублика Башкортост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7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осибир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116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Пензе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Ямало-Ненецкий автономный окру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ль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рослав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0" rIns="0" tIns="2880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яза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2880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5116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Тамбов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0" rIns="0" tIns="2880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Ульянов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2880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аратов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55280" y="5975280"/>
            <a:ext cx="7777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усанова Н.Е.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Здоровье, качество жизни, устойчивое развитие регионов России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—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йтинг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55640" y="836640"/>
          <a:ext cx="7705800" cy="6777000"/>
        </p:xfrm>
        <a:graphic>
          <a:graphicData uri="http://schemas.openxmlformats.org/drawingml/2006/table">
            <a:tbl>
              <a:tblPr/>
              <a:tblGrid>
                <a:gridCol w="1968480"/>
                <a:gridCol w="1251000"/>
                <a:gridCol w="1052640"/>
                <a:gridCol w="1312560"/>
                <a:gridCol w="989280"/>
                <a:gridCol w="1131840"/>
              </a:tblGrid>
              <a:tr h="1214280"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убъект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ейтинго-вый балл (0-1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ан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703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естествен-ному прирос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703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ОПЖ (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анг по малому бизнесу (оборот на 1 жител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7816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Волгоград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9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7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мчатский кр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еспублика Адыге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моле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енбург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муртская республ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116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м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Хабаровский кр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Владимир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Чувашская республ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55280" y="5904000"/>
            <a:ext cx="77770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усанова Н.Е.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Здоровье, качество жизни, устойчивое развитие регионов России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—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йтинг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36720" y="838080"/>
          <a:ext cx="7527960" cy="6777000"/>
        </p:xfrm>
        <a:graphic>
          <a:graphicData uri="http://schemas.openxmlformats.org/drawingml/2006/table">
            <a:tbl>
              <a:tblPr/>
              <a:tblGrid>
                <a:gridCol w="1922400"/>
                <a:gridCol w="1222200"/>
                <a:gridCol w="1028880"/>
                <a:gridCol w="1282680"/>
                <a:gridCol w="965160"/>
                <a:gridCol w="1106640"/>
              </a:tblGrid>
              <a:tr h="1214640"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убъект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ейтинго-вый балл (0-1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ан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703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естествен-ному прирос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703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ОПЖ (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анг по малому бизнесу (оборот на 1 жител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77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Пермский кр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7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Красноярский кр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рловская 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116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м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ада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Астраха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еспублика Мордов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Мурма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ахали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ОН 2015 - 17 целей и 169 задач устойчивого  развития</a:t>
            </a:r>
            <a:br>
              <a:rPr sz="2400"/>
            </a:br>
            <a:br>
              <a:rPr sz="24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ль 3. Обеспечение здорового образа жизни и содействие благополучию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ждой страны особые трудности на пути достижения устойчивого развития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я - к 2030 г.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200" spc="-1" strike="noStrike">
                <a:solidFill>
                  <a:srgbClr val="000000"/>
                </a:solidFill>
                <a:latin typeface="Noto Sans"/>
                <a:ea typeface="Noto Sans"/>
              </a:rPr>
              <a:t>↓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мертность — материнскую до </a:t>
            </a:r>
            <a:r>
              <a:rPr b="0" i="1" lang="ru-RU" sz="22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70 случаев на 100000 живорождений, неонатальную до </a:t>
            </a:r>
            <a:r>
              <a:rPr b="0" i="1" lang="ru-RU" sz="22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2200" spc="-1" strike="noStrike">
                <a:solidFill>
                  <a:srgbClr val="000000"/>
                </a:solidFill>
                <a:latin typeface="Noto Sans"/>
                <a:ea typeface="Noto Sans"/>
              </a:rPr>
              <a:t>‰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, в возрасте до 5 лет до </a:t>
            </a:r>
            <a:r>
              <a:rPr b="0" i="1" lang="ru-RU" sz="22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i="1" lang="ru-RU" sz="2200" spc="-1" strike="noStrike">
                <a:solidFill>
                  <a:srgbClr val="000000"/>
                </a:solidFill>
                <a:latin typeface="Noto Sans"/>
                <a:ea typeface="Noto Sans"/>
              </a:rPr>
              <a:t>‰, от НИЗ </a:t>
            </a:r>
            <a:r>
              <a:rPr b="0" i="1" lang="ru-RU" sz="2000" spc="-1" strike="noStrike">
                <a:solidFill>
                  <a:srgbClr val="000000"/>
                </a:solidFill>
                <a:latin typeface="Noto Sans"/>
                <a:ea typeface="Noto Sans"/>
              </a:rPr>
              <a:t>на 1/3, вдвое от ДТП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Noto Sans"/>
                <a:ea typeface="Noto Sans"/>
              </a:rPr>
              <a:t> - </a:t>
            </a:r>
            <a:r>
              <a:rPr b="0" i="1" lang="ru-RU" sz="2200" spc="-1" strike="noStrike">
                <a:solidFill>
                  <a:srgbClr val="000000"/>
                </a:solidFill>
                <a:latin typeface="Noto Sans"/>
                <a:ea typeface="Noto Sans"/>
              </a:rPr>
              <a:t>всеобщий охват услугами здравоохранения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Noto Sans"/>
                <a:ea typeface="Noto Sans"/>
              </a:rPr>
              <a:t> </a:t>
            </a:r>
            <a:br>
              <a:rPr sz="2200"/>
            </a:br>
            <a:br>
              <a:rPr sz="22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280" y="5734080"/>
            <a:ext cx="7777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санова Н.Е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доровье, качество жизни, устойчивое развитие регионов России —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Цели устойчивого разви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55280" y="5975280"/>
            <a:ext cx="7777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усанова Н.Е.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Здоровье, качество жизни, устойчивое развитие регионов России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—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йтинг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36720" y="838080"/>
          <a:ext cx="7527960" cy="6777000"/>
        </p:xfrm>
        <a:graphic>
          <a:graphicData uri="http://schemas.openxmlformats.org/drawingml/2006/table">
            <a:tbl>
              <a:tblPr/>
              <a:tblGrid>
                <a:gridCol w="1922400"/>
                <a:gridCol w="1222200"/>
                <a:gridCol w="1028880"/>
                <a:gridCol w="1282680"/>
                <a:gridCol w="965160"/>
                <a:gridCol w="1106640"/>
              </a:tblGrid>
              <a:tr h="1214640"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убъект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ейтинго-вый балл (0-1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ан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703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естествен-ному прирос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703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ОПЖ (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анг по малому бизнесу (оборот на 1 жител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77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Кемеров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7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я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Костром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Новгород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116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орский кр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ов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еспублика Марий Э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Твер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еспублика Северная Осетия-Ал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еспублика Ко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55280" y="5924160"/>
            <a:ext cx="77770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усанова Н.Е.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Здоровье, качество жизни, устойчивое развитие регионов России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—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йтинг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36720" y="838080"/>
          <a:ext cx="7529400" cy="6777000"/>
        </p:xfrm>
        <a:graphic>
          <a:graphicData uri="http://schemas.openxmlformats.org/drawingml/2006/table">
            <a:tbl>
              <a:tblPr/>
              <a:tblGrid>
                <a:gridCol w="1922400"/>
                <a:gridCol w="1222200"/>
                <a:gridCol w="1028880"/>
                <a:gridCol w="1282680"/>
                <a:gridCol w="965160"/>
                <a:gridCol w="1108080"/>
              </a:tblGrid>
              <a:tr h="1214640"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убъект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ейтинго-вый балл (0-1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ан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703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естествен-ному прирос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703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ОПЖ (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анг по малому бизнесу (оборот на 1 жител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77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Алтайский кр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7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ков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Амур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Вологод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116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 Хакас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бардино-Балкарская Республ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Иркут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еспублика Дагест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Ненецкий автономный окру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еспублика Карел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5280" y="6214680"/>
            <a:ext cx="77770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усанова Н.Е.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Здоровье, качество жизни, устойчивое развитие регионов России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—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йтинг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03280" y="836640"/>
          <a:ext cx="7561080" cy="7115040"/>
        </p:xfrm>
        <a:graphic>
          <a:graphicData uri="http://schemas.openxmlformats.org/drawingml/2006/table">
            <a:tbl>
              <a:tblPr/>
              <a:tblGrid>
                <a:gridCol w="1930320"/>
                <a:gridCol w="1228680"/>
                <a:gridCol w="1032120"/>
                <a:gridCol w="1288800"/>
                <a:gridCol w="970200"/>
                <a:gridCol w="1110960"/>
              </a:tblGrid>
              <a:tr h="1552680"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убъект Р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ейтинго-вый балл (0-1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ан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естествен-ному прирос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ОПЖ (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анг по малому бизнесу (оборот на 1 жител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77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г. Севастопо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7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 Саха (Якут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Чеченская Республ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Архангель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 Бур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116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 Кры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Курга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Еврейская автономн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Чукотский автономный окру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еспубликаАлт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55280" y="5924160"/>
            <a:ext cx="77770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усанова Н.Е.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Здоровье, качество жизни, устойчивое развитие регионов России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—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йтинг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36720" y="838080"/>
          <a:ext cx="7529400" cy="7115400"/>
        </p:xfrm>
        <a:graphic>
          <a:graphicData uri="http://schemas.openxmlformats.org/drawingml/2006/table">
            <a:tbl>
              <a:tblPr/>
              <a:tblGrid>
                <a:gridCol w="1922400"/>
                <a:gridCol w="1222200"/>
                <a:gridCol w="1028880"/>
                <a:gridCol w="1282680"/>
                <a:gridCol w="965160"/>
                <a:gridCol w="1108080"/>
              </a:tblGrid>
              <a:tr h="1466280"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убъект Р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ейтинго-вый балл (0-1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ан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естестве-нному прирос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ОПЖ (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анг по малому бизнесу (оборот на 1 жител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6268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Забайкальский кр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6268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 Калмык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748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Карачаево-Черкесская Республ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3748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еспублика Ингуше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748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 Ты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920"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чество жи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сприятие индивидуумами своего положения в жизни в контексте культуры и системы ценностей той среды, в которой они живут, в неразрывной связи с их целями, ожиданиями, стандартами и забот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1996)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who.int/ru/</a:t>
            </a:r>
            <a:r>
              <a:rPr b="0" lang="ru-RU" sz="2000" spc="-1" strike="noStrike" u="sng">
                <a:solidFill>
                  <a:srgbClr val="000080"/>
                </a:solidFill>
                <a:uFillTx/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гральный показатель физического, психологического, эмоционального и социального функционирования человека (субъективное восприятие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ная характеристика (совокупность объективных показателей уровня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280" y="6190920"/>
            <a:ext cx="7777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санова Н.Е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доровье, качество жизни, устойчивое развитие регионов Росс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Качество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5160"/>
                <a:tab algn="l" pos="10779120"/>
                <a:tab algn="l" pos="1078056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55280" y="5734080"/>
            <a:ext cx="7777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санова Н.Е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доровье, качество жизни, устойчивое развитие регионов Росс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Здоров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03320" y="360360"/>
            <a:ext cx="893916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йтинг регионов России по качеству жизни 201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Источник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ейтинговое агентство «РИА Рейтинг, входящее в медиахолдинг «Россия сегодня» 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riarating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224000" y="1368360"/>
            <a:ext cx="6232320" cy="36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5160"/>
                <a:tab algn="l" pos="10779120"/>
                <a:tab algn="l" pos="10780560"/>
                <a:tab algn="l" pos="1078236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Здоровье как компонент качества жизни — популяционное (общественное) здоровье. Регулируется на макроуровне (общенациональном). Часть национальной социально-демографической политик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(стратегия и инструменты)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Общественное здоровье=сумма индивидуального здоровья. Регулируется на микроуровне (индивидуальном+региональном?)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(институциональная специфика+финансирование)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Социальная инфраструктур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государство+ бизнес=партнерств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55280" y="5734080"/>
            <a:ext cx="7777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санова Н.Е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доровье, качество жизни, устойчивое развитие регионов Росс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ыводы 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затели здоровья населения РФ: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* объектив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фициальная отчетность ФСГС и МЗ РФ (2014-2015 гг.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55280" y="5975280"/>
            <a:ext cx="7777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санова Н.Е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доровье, качество жизни, устойчивое развитие регионов Росси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Здоров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2387520"/>
          <a:ext cx="7567560" cy="4210200"/>
        </p:xfrm>
        <a:graphic>
          <a:graphicData uri="http://schemas.openxmlformats.org/drawingml/2006/table">
            <a:tbl>
              <a:tblPr/>
              <a:tblGrid>
                <a:gridCol w="5619600"/>
                <a:gridCol w="1947960"/>
              </a:tblGrid>
              <a:tr h="525600">
                <a:tc>
                  <a:txBody>
                    <a:bodyPr lIns="90000" rIns="90000" tIns="18396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ественный прирост (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Noto Sans"/>
                          <a:ea typeface="Noto Sans"/>
                        </a:rPr>
                        <a:t>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73400">
                <a:tc>
                  <a:txBody>
                    <a:bodyPr lIns="90000" rIns="90000" tIns="18396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ность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25240">
                <a:tc>
                  <a:txBody>
                    <a:bodyPr lIns="90000" rIns="90000" tIns="18396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й коэффициент (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Noto Sans"/>
                          <a:ea typeface="Noto Sans"/>
                        </a:rPr>
                        <a:t>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344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енческая (на 1000 родившихся живым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3488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натальная (на 1000 родившихс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344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нская (на 100000 родившихся живым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r>
                        <a:rPr b="0" lang="ru-RU" sz="1800" spc="-1" strike="noStrike">
                          <a:solidFill>
                            <a:srgbClr val="ff3333"/>
                          </a:solidFill>
                          <a:latin typeface="Arial"/>
                        </a:rPr>
                        <a:t> (&lt;7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3344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Ж при рождении (лет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9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488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олеваемость общая (на 100000 человек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86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588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валидизаци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Noto Sans"/>
                          <a:ea typeface="Noto Sans"/>
                        </a:rPr>
                        <a:t>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734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затели здоровья населения РФ: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* субъектив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самооценка (социологические опросы — Комплексное наблюдение условий жизни населения ФСГС 2014, %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92000" y="5543280"/>
            <a:ext cx="7740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санова Н.Е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доровье, качество жизни, устойчивое развитие регионов Росси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Здоров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36720" y="3168720"/>
          <a:ext cx="7151760" cy="2282760"/>
        </p:xfrm>
        <a:graphic>
          <a:graphicData uri="http://schemas.openxmlformats.org/drawingml/2006/table">
            <a:tbl>
              <a:tblPr/>
              <a:tblGrid>
                <a:gridCol w="5906880"/>
                <a:gridCol w="1244880"/>
              </a:tblGrid>
              <a:tr h="471240">
                <a:tc>
                  <a:txBody>
                    <a:bodyPr lIns="90000" rIns="90000" tIns="18396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"/>
                        </a:rPr>
                        <a:t>Очень хорош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71600">
                <a:tc>
                  <a:txBody>
                    <a:bodyPr lIns="90000" rIns="90000" tIns="18396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1600">
                <a:tc>
                  <a:txBody>
                    <a:bodyPr lIns="90000" rIns="90000" tIns="18396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488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х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3344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плох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затели здравоохранени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фициальная отчетность ФСГС и МЗ РФ (сеть и материально-техническое обеспечение ЛПУ, обеспеченность медицинскими работниками, форма собственности — 2014 г.)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755280" y="5975280"/>
            <a:ext cx="7777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санова Н.Е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доровье, качество жизни, устойчивое развитие регионов Росси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Здоров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63640" y="2735280"/>
          <a:ext cx="7278480" cy="3036960"/>
        </p:xfrm>
        <a:graphic>
          <a:graphicData uri="http://schemas.openxmlformats.org/drawingml/2006/table">
            <a:tbl>
              <a:tblPr/>
              <a:tblGrid>
                <a:gridCol w="6367320"/>
                <a:gridCol w="911160"/>
              </a:tblGrid>
              <a:tr h="41940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больничных коек (на 10000 человек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2136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амбулаторно-поликлинических организаций (на 1000 человек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2136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врачей всех специальностей (на 10000 человек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2136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ельный вес больничных организаций негосударственных форм собственности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2332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ельный вес амбулаторно-поликлинических организаций негосударственных форм собственности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1640" y="-66600"/>
            <a:ext cx="8228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1 г., Римашевская Н.М. - универсальный индекс измерения уровня здоровья группы людей в определенный момент времени, чтобы наблюдать динамику (по принципу «от частного к общему», в основе - субъективная оценка здоровья, данная респондентом + сведения о его хронических заболеваниях, инвалидности, обращением за медицинской помощью разного уровня, затратой на лекарства и проч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990-х гг. - тенденция снижения уровня популяционного здоровья (рост показателей смертности, заболеваемости и сокращении ОПЖ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09600" y="5832360"/>
            <a:ext cx="8524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санова Н.Е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доровье, качество жизни, устойчивое развитие регионов Росс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змерение здоровь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0T19:16:55Z</dcterms:created>
  <dc:creator>Nina</dc:creator>
  <dc:description/>
  <cp:keywords/>
  <dc:language>en-US</dc:language>
  <cp:lastModifiedBy>Alex Alex</cp:lastModifiedBy>
  <cp:lastPrinted>2016-12-06T05:49:31Z</cp:lastPrinted>
  <dcterms:modified xsi:type="dcterms:W3CDTF">2016-12-06T05:59:35Z</dcterms:modified>
  <cp:revision>23</cp:revision>
  <dc:subject/>
  <dc:title>Здоровье как компонент человеческого капитала инновационного общества </dc:title>
</cp:coreProperties>
</file>